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BF2B-58E0-44C8-8BA1-B5A476098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74A4-B4DC-433E-B230-E738F2D6C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A723-D70E-4E47-BBC3-B190CACC4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B241-990F-4671-8576-8A4994EF3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720FE-DCA6-4208-AB99-AC9979751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FF9BD-EC74-4D18-8498-DFC0F9AE5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EE97B-027E-4402-A569-37474F6D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62A19-72EF-444C-A1D1-D8C46D413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A9562-DB0F-4FD7-82CF-45B9D4468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E27E7-EF63-4F58-B181-9A03A427F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56C3F-FA1F-4C00-AEAB-D13721C2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CE32-22B5-45B2-83BD-0048F822E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195BE-22A7-492A-9F27-1ADB03F9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F5A5A-9F2A-44E2-9261-E9CC988D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4D15D-BA00-4538-BB8E-0BAD382D4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FFAFD-6C5D-450F-86C8-573C0FB32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33F34-BDD0-4100-B101-589C4D9D3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B9236-EE03-4011-BA92-2E5536FD2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346C5-E428-48B9-A733-4B319F4D0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D2A19-40DE-4133-A466-F79CA76D3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93241-6634-4007-A193-A13FB71C9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7AB2F-24BC-4127-9796-34077DAA8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5B3B-3DAB-47F2-9381-C32CAB558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FEF92-7C4B-43E0-BAED-377D3FD3B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5F892-5C90-47EA-A6E4-FA1083A4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765E4-937B-4B5B-8A0B-CDEA4F37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79A53-140D-454B-94B7-BB3DC439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86790-289F-45A1-9F77-44863B565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6FC4C-3AE3-4854-9B98-BCFAEE3EC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38408-70D5-4079-9FFF-198729FF0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41C71-2A83-4F3B-9BBD-283ECFC2A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4BA33-9A85-4CEC-8D5F-9C245062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21ABB-8E07-4A94-A312-B2DF01186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81FD-BBE8-4331-83DC-231A0CA0E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7BE11-AB39-4B8F-AE50-E65BEC62F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A379D-92A6-4C68-A5A8-32FB1DC62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04769-4FE6-4C35-882D-193BA03A3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766E3-7950-4107-B8DD-EA067760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D3AA1-883C-439A-AB68-41EDF573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27F25-3117-46CD-BF8E-6D23302A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98717-1E19-4486-B8A3-EDE098ECD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60947-C0C5-4AA5-80E1-C72240004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51025-E9DB-4F0F-B12A-FD3DBA331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0B099-2C83-4C15-836F-403856F82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B964-E4E5-427E-A73E-84DF932C8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8F3CA-972D-4921-80D5-A6A6A25A5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2D749-30E7-40B3-AD46-85039E5E5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8DC3A-59F1-4445-9E47-17167209A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222F5-4E65-4976-8481-611C69BFD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F66C1-10A6-4FA0-822B-49B265F17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A7F4D-0D0E-46B0-BF17-F643707E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F64F8-631A-4C8C-B944-B396F012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CDB21-8863-4A4D-AB95-35897B74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F46E3-CD18-4AB7-B3BA-E9472DC3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0373A-0A29-4304-977B-51DB7260A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295E-E3BF-49F4-A96B-E9D3B3D9B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7E5A3-8CFA-40E6-A784-3D6FBE856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FBEEB6-9651-41E1-9A06-7E5B62FF5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2EFF2-692E-4873-9A10-3D53087D9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73521-21D2-45E8-997C-33F1EC49C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E427F-3030-4D26-A22C-34FD0CD7D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658A0-6FF1-4836-9668-1D3C8DED6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B6ECE-BAE5-4E8D-B04A-E86884B1E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46EBF-9D4C-4542-A314-E0B64413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72C05-C1A4-47B6-88AE-CA9A98EA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D6A3C-9E03-473D-8B22-31957529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CC92-714C-4FED-91AB-8877200F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2C84D-84A7-4A49-88E7-FDB49E2BF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408F7-B275-4E57-B6FB-995CC8B61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7368DE-8341-4BBB-8FB4-205E80679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C859E-084E-414E-BCD8-45A13F11F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CEFE4-2552-46BA-BE91-A76C04FB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A414F-CCC1-4499-8EEF-EB3E4C017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AA073-F1E1-49B8-9704-4D317DE5F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F5524-1798-4438-87CA-CF4D147E8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E329D-9FCF-46B5-87FC-28549CC94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A7DE4B-D5DA-42A0-B4C0-B5B0A083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695C-585F-4A4D-B4E0-96BAB15C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53DE01-DE85-4B03-8C69-4543A5A4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04D0C-69ED-416B-AAC6-B699AA0F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0DD2D8-15D3-42E3-B68A-674D7C2C3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7688DA-F07C-4232-B322-BB6A8EE84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C43BC3-EB4A-407B-85F2-BBE150823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3FE3-B997-43A1-B7D0-C6D3F3D3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8C6AF-A05F-46B5-A5BB-A5515DF9F7A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B8D74-D105-4EA9-9902-D2EC3D58113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A93B5-4014-4AE9-9F45-7C79C895642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9AB86-2C3A-41BF-BD60-DB3FD981FA6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3161B-2B16-4930-AADA-88BFE0158FC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4CE4F-6773-453F-AC63-6786B27F366A}" type="slidenum">
              <a:rPr b="0" lang="hr-H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2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DBA3D-9BB8-4038-9D7A-47B7F9BC00EE}" type="slidenum">
              <a:rPr b="0" lang="hr-H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696464"/>
                </a:solidFill>
                <a:latin typeface="Cambria"/>
              </a:rPr>
              <a:t>Фебруар 2015.год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Calibri"/>
              </a:rPr>
              <a:t>Родитељски састанак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696464"/>
                </a:solidFill>
                <a:latin typeface="Calibri"/>
              </a:rPr>
              <a:t>Савјети за родитеље;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99"/>
                </a:solidFill>
                <a:latin typeface="Cambria"/>
              </a:rPr>
              <a:t>Будите</a:t>
            </a:r>
            <a:r>
              <a:rPr b="1" lang="hr-HR" sz="2800" spc="-1" strike="noStrike">
                <a:solidFill>
                  <a:srgbClr val="000099"/>
                </a:solidFill>
                <a:latin typeface="Perpetua"/>
              </a:rPr>
              <a:t> </a:t>
            </a:r>
            <a:r>
              <a:rPr b="1" lang="sr-CS" sz="2800" spc="-1" strike="noStrike">
                <a:solidFill>
                  <a:srgbClr val="000099"/>
                </a:solidFill>
                <a:latin typeface="Cambria"/>
              </a:rPr>
              <a:t>примјер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читајте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код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куће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лажи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ок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чекате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аутобусу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99"/>
                </a:solidFill>
                <a:latin typeface="Cambria"/>
              </a:rPr>
              <a:t>Читајте</a:t>
            </a:r>
            <a:r>
              <a:rPr b="1" lang="hr-HR" sz="2800" spc="-1" strike="noStrike">
                <a:solidFill>
                  <a:srgbClr val="000099"/>
                </a:solidFill>
                <a:latin typeface="Perpetua"/>
              </a:rPr>
              <a:t> </a:t>
            </a:r>
            <a:r>
              <a:rPr b="1" lang="sr-CS" sz="2800" spc="-1" strike="noStrike">
                <a:solidFill>
                  <a:srgbClr val="000099"/>
                </a:solidFill>
                <a:latin typeface="Cambria"/>
              </a:rPr>
              <a:t>заједно</a:t>
            </a:r>
            <a:r>
              <a:rPr b="1" lang="hr-HR" sz="2800" spc="-1" strike="noStrike">
                <a:solidFill>
                  <a:srgbClr val="000099"/>
                </a:solidFill>
                <a:latin typeface="Perpetua"/>
              </a:rPr>
              <a:t> </a:t>
            </a:r>
            <a:r>
              <a:rPr b="1" lang="sr-CS" sz="2800" spc="-1" strike="noStrike">
                <a:solidFill>
                  <a:srgbClr val="000099"/>
                </a:solidFill>
                <a:latin typeface="Cambria"/>
              </a:rPr>
              <a:t>наглас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иче (поготово бајке и басне)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чланке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рецепте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разна упутства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70c0"/>
                </a:solidFill>
                <a:latin typeface="Cambria"/>
              </a:rPr>
              <a:t>Читајте у кругу породице (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вако по дио текста или текстове  у којима ћете подијелити улоге</a:t>
            </a:r>
            <a:r>
              <a:rPr b="1" lang="sr-CS" sz="2400" spc="-1" strike="noStrike">
                <a:solidFill>
                  <a:srgbClr val="0070c0"/>
                </a:solidFill>
                <a:latin typeface="Cambri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70c0"/>
                </a:solidFill>
                <a:latin typeface="Cambria"/>
              </a:rPr>
              <a:t>Пишите поруке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 активностима које дијете мора урадити у току дана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70c0"/>
                </a:solidFill>
                <a:latin typeface="Cambria"/>
              </a:rPr>
              <a:t>Читајте упутства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која су дата уз лијек или ..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85520" y="260280"/>
            <a:ext cx="83581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sr-CS" sz="3200" spc="-1" strike="noStrike">
                <a:solidFill>
                  <a:srgbClr val="696464"/>
                </a:solidFill>
                <a:latin typeface="Calibri"/>
              </a:rPr>
              <a:t>Још</a:t>
            </a:r>
            <a:r>
              <a:rPr b="0" lang="hr-HR" sz="32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r>
              <a:rPr b="0" lang="sr-CS" sz="3200" spc="-1" strike="noStrike">
                <a:solidFill>
                  <a:srgbClr val="696464"/>
                </a:solidFill>
                <a:latin typeface="Calibri"/>
              </a:rPr>
              <a:t>пар</a:t>
            </a:r>
            <a:r>
              <a:rPr b="0" lang="hr-HR" sz="32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r>
              <a:rPr b="0" lang="sr-CS" sz="3200" spc="-1" strike="noStrike">
                <a:solidFill>
                  <a:srgbClr val="696464"/>
                </a:solidFill>
                <a:latin typeface="Calibri"/>
              </a:rPr>
              <a:t>ствари</a:t>
            </a:r>
            <a:r>
              <a:rPr b="0" lang="hr-HR" sz="32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r>
              <a:rPr b="0" lang="sr-CS" sz="3200" spc="-1" strike="noStrike">
                <a:solidFill>
                  <a:srgbClr val="696464"/>
                </a:solidFill>
                <a:latin typeface="Calibri"/>
              </a:rPr>
              <a:t>о</a:t>
            </a:r>
            <a:r>
              <a:rPr b="0" lang="hr-HR" sz="3200" spc="-1" strike="noStrike">
                <a:solidFill>
                  <a:srgbClr val="696464"/>
                </a:solidFill>
                <a:latin typeface="Franklin Gothic Book"/>
              </a:rPr>
              <a:t> планираним активностима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640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Током рјешавања проблема “Дјеца нерадо читају код куће”ученици ће, а и ви са њима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Cambria"/>
              </a:rPr>
              <a:t>&gt;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редовно посјећивати школску и Народну библиотеку,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Cambria"/>
              </a:rPr>
              <a:t>&gt;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читати на часовима српског језика, глумити прочитане приче, (На књижевним вечерима),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Cambria"/>
              </a:rPr>
              <a:t>&gt;</a:t>
            </a:r>
            <a:r>
              <a:rPr b="0" lang="sr-Latn-CS" sz="2400" spc="-1" strike="noStrike">
                <a:solidFill>
                  <a:srgbClr val="000000"/>
                </a:solidFill>
                <a:latin typeface="Perpetua"/>
              </a:rPr>
              <a:t>сакупљати књиге за кућну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 библиотеку,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Cambria"/>
              </a:rPr>
              <a:t>&gt;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читати  путујуће књиге код куће и писати утиске о прочитаним књигама ,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Cambria"/>
              </a:rPr>
              <a:t>                     </a:t>
            </a:r>
            <a:r>
              <a:rPr b="1" lang="sr-CS" sz="2400" spc="-1" strike="noStrike">
                <a:solidFill>
                  <a:srgbClr val="ff0000"/>
                </a:solidFill>
                <a:latin typeface="Cambria"/>
              </a:rPr>
              <a:t>Н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акон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аписаних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тисака одвојити неколико              минута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часу српског језика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а ученик преприча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лијепе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оживљаје,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               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е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морате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читати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цијеле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књиге,али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можете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               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ваки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ан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двојити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о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15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минута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ли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ола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ата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                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за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читањ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               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а крају бирамо најактивније ученике и  родитељ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34" name="Picture 6" descr="90b090ee042edaed004a94df931345ce_content_medium"/>
          <p:cNvPicPr/>
          <p:nvPr/>
        </p:nvPicPr>
        <p:blipFill>
          <a:blip r:embed="rId1"/>
          <a:stretch/>
        </p:blipFill>
        <p:spPr>
          <a:xfrm>
            <a:off x="250920" y="4869000"/>
            <a:ext cx="136836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696464"/>
                </a:solidFill>
                <a:latin typeface="Calibri"/>
              </a:rPr>
              <a:t>ПУТУЈУЋЕ</a:t>
            </a:r>
            <a:r>
              <a:rPr b="0" lang="hr-HR" sz="40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r>
              <a:rPr b="0" lang="sr-CS" sz="4000" spc="-1" strike="noStrike">
                <a:solidFill>
                  <a:srgbClr val="696464"/>
                </a:solidFill>
                <a:latin typeface="Calibri"/>
              </a:rPr>
              <a:t>КЊИГЕ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114440" y="1828440"/>
            <a:ext cx="4876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Perpetua"/>
              </a:rPr>
              <a:t>Књиге из кућне библиотеке послати на размјену са другом дјецом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ви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заједно</a:t>
            </a:r>
            <a:r>
              <a:rPr b="0" lang="bs-BA" sz="2400" spc="-1" strike="noStrike">
                <a:solidFill>
                  <a:srgbClr val="000000"/>
                </a:solidFill>
                <a:latin typeface="Perpetua"/>
              </a:rPr>
              <a:t>,у породици,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чита</a:t>
            </a:r>
            <a:r>
              <a:rPr b="0" lang="bs-BA" sz="2400" spc="-1" strike="noStrike">
                <a:solidFill>
                  <a:srgbClr val="000000"/>
                </a:solidFill>
                <a:latin typeface="Perpetua"/>
              </a:rPr>
              <a:t>мо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књигу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еколико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ачина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1)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ОЛА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ЈА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ОЛА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ТИ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2)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ЈА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ЧИТАМ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МАМИ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ТАТИ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3)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МАМА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ЛИ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ТАТА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ЧИТАЈУ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МЕНИ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4)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ЧИТАМО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ВИ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ЗАЈЕДНО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ВАКО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ВОЈУ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КЊИГУ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5)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РАЗГОВАРАМО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ЦРТАМО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ЕПРИЧАВАМО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ОЧИТАНО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ишемо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тиск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37" name="Picture 9" descr="Obitelj1"/>
          <p:cNvPicPr/>
          <p:nvPr/>
        </p:nvPicPr>
        <p:blipFill>
          <a:blip r:embed="rId1"/>
          <a:stretch/>
        </p:blipFill>
        <p:spPr>
          <a:xfrm>
            <a:off x="684360" y="1700280"/>
            <a:ext cx="2985840" cy="241776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0" descr=""/>
          <p:cNvPicPr/>
          <p:nvPr/>
        </p:nvPicPr>
        <p:blipFill>
          <a:blip r:embed="rId2"/>
          <a:stretch/>
        </p:blipFill>
        <p:spPr>
          <a:xfrm>
            <a:off x="395280" y="4437000"/>
            <a:ext cx="325440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696464"/>
                </a:solidFill>
                <a:latin typeface="Calibri"/>
              </a:rPr>
              <a:t>Још</a:t>
            </a:r>
            <a:r>
              <a:rPr b="0" lang="hr-HR" sz="40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r>
              <a:rPr b="0" lang="sr-CS" sz="4000" spc="-1" strike="noStrike">
                <a:solidFill>
                  <a:srgbClr val="696464"/>
                </a:solidFill>
                <a:latin typeface="Calibri"/>
              </a:rPr>
              <a:t>пар</a:t>
            </a:r>
            <a:r>
              <a:rPr b="0" lang="hr-HR" sz="40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r>
              <a:rPr b="0" lang="sr-CS" sz="4000" spc="-1" strike="noStrike">
                <a:solidFill>
                  <a:srgbClr val="696464"/>
                </a:solidFill>
                <a:latin typeface="Calibri"/>
              </a:rPr>
              <a:t>ствари</a:t>
            </a:r>
            <a:r>
              <a:rPr b="0" lang="hr-HR" sz="40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r>
              <a:rPr b="0" lang="sr-CS" sz="4000" spc="-1" strike="noStrike">
                <a:solidFill>
                  <a:srgbClr val="696464"/>
                </a:solidFill>
                <a:latin typeface="Calibri"/>
              </a:rPr>
              <a:t>о</a:t>
            </a:r>
            <a:r>
              <a:rPr b="0" lang="sr-Latn-CS" sz="4000" spc="-1" strike="noStrike">
                <a:solidFill>
                  <a:srgbClr val="696464"/>
                </a:solidFill>
                <a:latin typeface="Franklin Gothic Book"/>
              </a:rPr>
              <a:t> активностима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440" y="4114440"/>
            <a:ext cx="80773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900" spc="-1" strike="noStrike">
                <a:solidFill>
                  <a:srgbClr val="000000"/>
                </a:solidFill>
                <a:latin typeface="Cambria"/>
              </a:rPr>
              <a:t>Код</a:t>
            </a:r>
            <a:r>
              <a:rPr b="0" lang="hr-HR" sz="29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900" spc="-1" strike="noStrike">
                <a:solidFill>
                  <a:srgbClr val="000000"/>
                </a:solidFill>
                <a:latin typeface="Cambria"/>
              </a:rPr>
              <a:t>ученика</a:t>
            </a:r>
            <a:r>
              <a:rPr b="0" lang="hr-HR" sz="29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900" spc="-1" strike="noStrike">
                <a:solidFill>
                  <a:srgbClr val="000000"/>
                </a:solidFill>
                <a:latin typeface="Cambria"/>
              </a:rPr>
              <a:t>су</a:t>
            </a:r>
            <a:r>
              <a:rPr b="0" lang="hr-HR" sz="29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900" spc="-1" strike="noStrike">
                <a:solidFill>
                  <a:srgbClr val="000000"/>
                </a:solidFill>
                <a:latin typeface="Cambria"/>
              </a:rPr>
              <a:t>књиге</a:t>
            </a:r>
            <a:r>
              <a:rPr b="0" lang="hr-HR" sz="29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bs-BA" sz="2900" spc="-1" strike="noStrike">
                <a:solidFill>
                  <a:srgbClr val="000000"/>
                </a:solidFill>
                <a:latin typeface="Perpetua"/>
              </a:rPr>
              <a:t>једну седмицу, размјена је понедјељком</a:t>
            </a: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900" spc="-1" strike="noStrike">
                <a:solidFill>
                  <a:srgbClr val="000000"/>
                </a:solidFill>
                <a:latin typeface="Cambria"/>
              </a:rPr>
              <a:t>Истовременом</a:t>
            </a:r>
            <a:r>
              <a:rPr b="0" lang="hr-HR" sz="29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900" spc="-1" strike="noStrike">
                <a:solidFill>
                  <a:srgbClr val="000000"/>
                </a:solidFill>
                <a:latin typeface="Cambria"/>
              </a:rPr>
              <a:t>циркулацијом</a:t>
            </a:r>
            <a:r>
              <a:rPr b="0" lang="hr-HR" sz="29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900" spc="-1" strike="noStrike">
                <a:solidFill>
                  <a:srgbClr val="000000"/>
                </a:solidFill>
                <a:latin typeface="Cambria"/>
              </a:rPr>
              <a:t>већег броја књига код</a:t>
            </a:r>
            <a:r>
              <a:rPr b="0" lang="hr-HR" sz="29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900" spc="-1" strike="noStrike">
                <a:solidFill>
                  <a:srgbClr val="000000"/>
                </a:solidFill>
                <a:latin typeface="Cambria"/>
              </a:rPr>
              <a:t>свих</a:t>
            </a:r>
            <a:r>
              <a:rPr b="0" lang="hr-HR" sz="29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900" spc="-1" strike="noStrike">
                <a:solidFill>
                  <a:srgbClr val="000000"/>
                </a:solidFill>
                <a:latin typeface="Cambria"/>
              </a:rPr>
              <a:t>ученика</a:t>
            </a:r>
            <a:r>
              <a:rPr b="0" lang="hr-HR" sz="29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9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hr-HR" sz="29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900" spc="-1" strike="noStrike">
                <a:solidFill>
                  <a:srgbClr val="000000"/>
                </a:solidFill>
                <a:latin typeface="Cambria"/>
              </a:rPr>
              <a:t>разреду</a:t>
            </a:r>
            <a:r>
              <a:rPr b="0" lang="hr-HR" sz="29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900" spc="-1" strike="noStrike">
                <a:solidFill>
                  <a:srgbClr val="000000"/>
                </a:solidFill>
                <a:latin typeface="Cambria"/>
              </a:rPr>
              <a:t>ствара</a:t>
            </a:r>
            <a:r>
              <a:rPr b="0" lang="hr-HR" sz="29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9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hr-HR" sz="29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900" spc="-1" strike="noStrike">
                <a:solidFill>
                  <a:srgbClr val="000000"/>
                </a:solidFill>
                <a:latin typeface="Cambria"/>
              </a:rPr>
              <a:t>позитиван</a:t>
            </a:r>
            <a:r>
              <a:rPr b="0" lang="hr-HR" sz="29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9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hr-HR" sz="29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900" spc="-1" strike="noStrike">
                <a:solidFill>
                  <a:srgbClr val="000000"/>
                </a:solidFill>
                <a:latin typeface="Cambria"/>
              </a:rPr>
              <a:t>здрав</a:t>
            </a:r>
            <a:r>
              <a:rPr b="0" lang="hr-HR" sz="29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900" spc="-1" strike="noStrike">
                <a:solidFill>
                  <a:srgbClr val="000000"/>
                </a:solidFill>
                <a:latin typeface="Cambria"/>
              </a:rPr>
              <a:t>такмичарски</a:t>
            </a:r>
            <a:r>
              <a:rPr b="0" lang="hr-HR" sz="29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900" spc="-1" strike="noStrike">
                <a:solidFill>
                  <a:srgbClr val="000000"/>
                </a:solidFill>
                <a:latin typeface="Cambria"/>
              </a:rPr>
              <a:t>дух</a:t>
            </a: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41" name="Picture 5" descr="djeca citaju"/>
          <p:cNvPicPr/>
          <p:nvPr/>
        </p:nvPicPr>
        <p:blipFill>
          <a:blip r:embed="rId1"/>
          <a:stretch/>
        </p:blipFill>
        <p:spPr>
          <a:xfrm>
            <a:off x="826920" y="1628640"/>
            <a:ext cx="4191120" cy="23306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7" descr="AX067422"/>
          <p:cNvPicPr/>
          <p:nvPr/>
        </p:nvPicPr>
        <p:blipFill>
          <a:blip r:embed="rId2"/>
          <a:stretch/>
        </p:blipFill>
        <p:spPr>
          <a:xfrm>
            <a:off x="5508720" y="1628640"/>
            <a:ext cx="3162240" cy="23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96464"/>
                </a:solidFill>
                <a:latin typeface="Franklin Gothic Book"/>
              </a:rPr>
              <a:t>“</a:t>
            </a:r>
            <a:r>
              <a:rPr b="0" lang="hr-HR" sz="4000" spc="-1" strike="noStrike">
                <a:solidFill>
                  <a:srgbClr val="696464"/>
                </a:solidFill>
                <a:latin typeface="Franklin Gothic Book"/>
              </a:rPr>
              <a:t>ПУТУЈУЋЕ КЊИГЕ”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Роман</a:t>
            </a:r>
            <a:r>
              <a:rPr b="0" lang="hr-HR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или</a:t>
            </a:r>
            <a:r>
              <a:rPr b="0" lang="hr-HR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прича</a:t>
            </a:r>
            <a:r>
              <a:rPr b="0" lang="hr-HR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за</a:t>
            </a:r>
            <a:r>
              <a:rPr b="0" lang="hr-HR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дјецу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Пјесме</a:t>
            </a:r>
            <a:r>
              <a:rPr b="0" lang="hr-HR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за</a:t>
            </a:r>
            <a:r>
              <a:rPr b="0" lang="hr-HR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дјецу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Сликовнице</a:t>
            </a:r>
            <a:r>
              <a:rPr b="0" lang="hr-HR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за</a:t>
            </a:r>
            <a:r>
              <a:rPr b="0" lang="hr-HR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дјецу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Perpetua"/>
              </a:rPr>
              <a:t>Енциколпедије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60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60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696464"/>
                </a:solidFill>
                <a:latin typeface="Calibri"/>
              </a:rPr>
              <a:t>ЗАВРШНА</a:t>
            </a:r>
            <a:r>
              <a:rPr b="0" lang="hr-HR" sz="40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r>
              <a:rPr b="0" lang="sr-CS" sz="4000" spc="-1" strike="noStrike">
                <a:solidFill>
                  <a:srgbClr val="696464"/>
                </a:solidFill>
                <a:latin typeface="Calibri"/>
              </a:rPr>
              <a:t>ФАЗА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600" spc="-1" strike="noStrike">
                <a:solidFill>
                  <a:srgbClr val="000000"/>
                </a:solidFill>
                <a:latin typeface="Perpetua"/>
              </a:rPr>
              <a:t>Читање у Народној библиотеци ученицима других школа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600" spc="-1" strike="noStrike">
                <a:solidFill>
                  <a:srgbClr val="000000"/>
                </a:solidFill>
                <a:latin typeface="Perpetua"/>
              </a:rPr>
              <a:t>Презентовање активности „Читајмо заједно“ на ИНФО каналу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600" spc="-1" strike="noStrike">
                <a:solidFill>
                  <a:srgbClr val="000000"/>
                </a:solidFill>
                <a:latin typeface="Perpetua"/>
              </a:rPr>
              <a:t>Презентовање активности „Читајмо заједно“ слушаоцима Радио Козаре и читање најбољих утисака-занимљивости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47" name="Picture 4" descr="shutterstock_3125011"/>
          <p:cNvPicPr/>
          <p:nvPr/>
        </p:nvPicPr>
        <p:blipFill>
          <a:blip r:embed="rId1"/>
          <a:stretch/>
        </p:blipFill>
        <p:spPr>
          <a:xfrm>
            <a:off x="6516720" y="5373720"/>
            <a:ext cx="216072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300" spc="-1" strike="noStrike">
                <a:solidFill>
                  <a:srgbClr val="696464"/>
                </a:solidFill>
                <a:latin typeface="Calibri"/>
              </a:rPr>
              <a:t>И</a:t>
            </a:r>
            <a:r>
              <a:rPr b="0" lang="hr-HR" sz="43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r>
              <a:rPr b="0" lang="sr-CS" sz="4300" spc="-1" strike="noStrike">
                <a:solidFill>
                  <a:srgbClr val="696464"/>
                </a:solidFill>
                <a:latin typeface="Calibri"/>
              </a:rPr>
              <a:t>ЗА</a:t>
            </a:r>
            <a:r>
              <a:rPr b="0" lang="hr-HR" sz="43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r>
              <a:rPr b="0" lang="sr-CS" sz="4300" spc="-1" strike="noStrike">
                <a:solidFill>
                  <a:srgbClr val="696464"/>
                </a:solidFill>
                <a:latin typeface="Calibri"/>
              </a:rPr>
              <a:t>КРАЈ</a:t>
            </a:r>
            <a:r>
              <a:rPr b="0" lang="en-US" sz="4300" spc="-1" strike="noStrike">
                <a:solidFill>
                  <a:srgbClr val="696464"/>
                </a:solidFill>
                <a:latin typeface="Franklin Gothic Book"/>
              </a:rPr>
              <a:t>/</a:t>
            </a:r>
            <a:r>
              <a:rPr b="0" lang="sr-CS" sz="4300" spc="-1" strike="noStrike">
                <a:solidFill>
                  <a:srgbClr val="696464"/>
                </a:solidFill>
                <a:latin typeface="Calibri"/>
              </a:rPr>
              <a:t>ЧИТАЈМО ЗАЈЕДНО!</a:t>
            </a:r>
            <a:endParaRPr b="0" lang="en-US" sz="4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99640" y="2781000"/>
            <a:ext cx="75582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Много 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вам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ХВАЛА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томе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што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ћете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подржати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наш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е активности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што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ћете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њ</a:t>
            </a:r>
            <a:r>
              <a:rPr b="0" lang="sr-Latn-CS" sz="2600" spc="-1" strike="noStrike">
                <a:solidFill>
                  <a:srgbClr val="000000"/>
                </a:solidFill>
                <a:latin typeface="Perpetua"/>
              </a:rPr>
              <a:t>има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активно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учествовати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!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Желим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вам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свима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,од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срца,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да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угодно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проведете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вријеме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уз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књигу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са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својом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дјецом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!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50" name="Picture 4" descr="4ac3907a52acd"/>
          <p:cNvPicPr/>
          <p:nvPr/>
        </p:nvPicPr>
        <p:blipFill>
          <a:blip r:embed="rId1"/>
          <a:stretch/>
        </p:blipFill>
        <p:spPr>
          <a:xfrm>
            <a:off x="1187280" y="1773360"/>
            <a:ext cx="21956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 rot="565800">
            <a:off x="914040" y="54936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696464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696464"/>
                </a:solidFill>
                <a:latin typeface="Calibri"/>
              </a:rPr>
              <a:t>Шта на крају рећи, осим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2" name=""/>
          <p:cNvSpPr txBox="1"/>
          <p:nvPr/>
        </p:nvSpPr>
        <p:spPr>
          <a:xfrm rot="1375800">
            <a:off x="914400" y="242064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        </a:t>
            </a:r>
            <a:r>
              <a:rPr b="0" lang="sr-CS" sz="2000" spc="-1" strike="noStrike">
                <a:solidFill>
                  <a:srgbClr val="ff0000"/>
                </a:solidFill>
                <a:latin typeface="Cambria"/>
              </a:rPr>
              <a:t>МНОГО ВАМ ХВАЛА ШТО У СВЕМУ  И У СВАКО ДОБА МОГУ РАЧУНАТИ НА ВАС!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ff0000"/>
                </a:solidFill>
                <a:latin typeface="Perpetua"/>
              </a:rPr>
              <a:t>                                                                              </a:t>
            </a:r>
            <a:r>
              <a:rPr b="0" lang="bs-BA" sz="2000" spc="-1" strike="noStrike">
                <a:solidFill>
                  <a:srgbClr val="ff0000"/>
                </a:solidFill>
                <a:latin typeface="Perpetua"/>
              </a:rPr>
              <a:t>учитељица Мирослава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Calibri"/>
              </a:rPr>
              <a:t>Важност читања у нижим разредима основне школе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468000" y="549000"/>
            <a:ext cx="8218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арадња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родитељима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ченика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веома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важна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Многа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страживања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која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у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била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оведена,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у показала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а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јеца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родитеља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који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ужају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одршку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 свом дјетету при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чењу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остижу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много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боље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резултате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школи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Врло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важно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стварити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обру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арадњу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родитељима,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те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х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познати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различитим начинима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рада како би се олакшало учење њихове дјеце и унаприједио рад у школи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Један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д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ачина је и активност која се проводи у 2-1, а коју смо назвали “Читајмо заједно”. То је скуп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различитих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радионица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којима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чествују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ченици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њихови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родитељи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Циљ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вих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радионица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опуларизација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читања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тј. упознавање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родитеља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 ученика о важности читања, као и укључивање родитеља у остваривање планираних активности унутар овог одјељења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696464"/>
                </a:solidFill>
                <a:latin typeface="Calibri"/>
              </a:rPr>
              <a:t>УСМЕНА И ПИСАНА КОМУНИКАЦИЈА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914400" y="1988640"/>
            <a:ext cx="777240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Говорна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комуникација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данас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најзаступљенији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облик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преношења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информација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Писани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текст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најприступачније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средство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стицања 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знања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696464"/>
                </a:solidFill>
                <a:latin typeface="Calibri"/>
              </a:rPr>
              <a:t>Читање...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пада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ајсложеније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оцесе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чењ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темељ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за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већину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школских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едмет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темељ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за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ваки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блик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амосталног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чења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током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цијелог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живот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4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“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мисаони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оцес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” -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нтелектуална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вјежба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14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ткривање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значења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адржај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14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развија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критички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тав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14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тваралачко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ерађивање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696464"/>
                </a:solidFill>
                <a:latin typeface="Calibri"/>
              </a:rPr>
              <a:t>Читањем дјеца: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13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богате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рјечник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lnSpc>
                <a:spcPct val="13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развијају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пособност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концентрације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амћења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мишљења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, те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логичког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закључивања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lnSpc>
                <a:spcPct val="13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развијају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машту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lnSpc>
                <a:spcPct val="13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богате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емоционални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вијет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lnSpc>
                <a:spcPct val="13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свајају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етичке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вриједности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lnSpc>
                <a:spcPct val="13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тичу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ова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знања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оширују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остојећ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lnSpc>
                <a:spcPct val="13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занимљиво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корисно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оводе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лободно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вријеме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696464"/>
                </a:solidFill>
                <a:latin typeface="Calibri"/>
              </a:rPr>
              <a:t>Поруке: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99"/>
                </a:solidFill>
                <a:latin typeface="Cambria"/>
              </a:rPr>
              <a:t>ДОБРИ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читачи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знају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sr-CS" sz="2600" spc="-1" strike="noStrike">
                <a:solidFill>
                  <a:srgbClr val="ff0000"/>
                </a:solidFill>
                <a:latin typeface="Cambria"/>
              </a:rPr>
              <a:t>добро</a:t>
            </a:r>
            <a:r>
              <a:rPr b="1" lang="hr-HR" sz="2600" spc="-1" strike="noStrike">
                <a:solidFill>
                  <a:srgbClr val="ff0000"/>
                </a:solidFill>
                <a:latin typeface="Perpetua"/>
              </a:rPr>
              <a:t> </a:t>
            </a:r>
            <a:r>
              <a:rPr b="1" lang="sr-CS" sz="2600" spc="-1" strike="noStrike">
                <a:solidFill>
                  <a:srgbClr val="ff0000"/>
                </a:solidFill>
                <a:latin typeface="Cambria"/>
              </a:rPr>
              <a:t>учити</a:t>
            </a:r>
            <a:r>
              <a:rPr b="0" lang="hr-HR" sz="2600" spc="-1" strike="noStrike">
                <a:solidFill>
                  <a:srgbClr val="ff0000"/>
                </a:solidFill>
                <a:latin typeface="Perpet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sr-CS" sz="2600" spc="-1" strike="noStrike">
                <a:solidFill>
                  <a:srgbClr val="000099"/>
                </a:solidFill>
                <a:latin typeface="Cambria"/>
              </a:rPr>
              <a:t>ЛОШИ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читачи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имају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sr-CS" sz="2600" spc="-1" strike="noStrike">
                <a:solidFill>
                  <a:srgbClr val="ff0000"/>
                </a:solidFill>
                <a:latin typeface="Cambria"/>
              </a:rPr>
              <a:t>тешкоћа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при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учењу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–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требају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више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времена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мања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способност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критичког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мишљења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Дјеца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која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знају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читати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sr-CS" sz="2600" spc="-1" strike="noStrike">
                <a:solidFill>
                  <a:srgbClr val="000099"/>
                </a:solidFill>
                <a:latin typeface="Cambria"/>
              </a:rPr>
              <a:t>самосталнија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су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sr-CS" sz="2600" spc="-1" strike="noStrike">
                <a:solidFill>
                  <a:srgbClr val="000099"/>
                </a:solidFill>
                <a:latin typeface="Cambria"/>
              </a:rPr>
              <a:t>активно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учествују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култури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696464"/>
                </a:solidFill>
                <a:latin typeface="Calibri"/>
              </a:rPr>
              <a:t>ЦИЉЕВИ: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Развој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технике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читања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важност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читања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Родитељима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указати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да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најучинковитији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начин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свладавања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технике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читања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–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ЧИТАТИ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ПРЕД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ДЈЕЦОМ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С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ДЈЕЦОМ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након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што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су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научила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читати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Промоција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школске и Народне библиотеке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као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мултимедијалног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информацијског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средишта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школе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гдје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не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посуђују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само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лектире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него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књиге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ван</a:t>
            </a: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лектире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696464"/>
                </a:solidFill>
                <a:latin typeface="Calibri"/>
              </a:rPr>
              <a:t>Савјети за читање код куће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99"/>
                </a:solidFill>
                <a:latin typeface="Cambria"/>
              </a:rPr>
              <a:t>Комбинујте</a:t>
            </a:r>
            <a:r>
              <a:rPr b="1" lang="hr-HR" sz="2800" spc="-1" strike="noStrike">
                <a:solidFill>
                  <a:srgbClr val="000099"/>
                </a:solidFill>
                <a:latin typeface="Perpetua"/>
              </a:rPr>
              <a:t> </a:t>
            </a:r>
            <a:r>
              <a:rPr b="1" lang="sr-CS" sz="2800" spc="-1" strike="noStrike">
                <a:solidFill>
                  <a:srgbClr val="000099"/>
                </a:solidFill>
                <a:latin typeface="Cambria"/>
              </a:rPr>
              <a:t>читање</a:t>
            </a:r>
            <a:r>
              <a:rPr b="1" lang="hr-HR" sz="2800" spc="-1" strike="noStrike">
                <a:solidFill>
                  <a:srgbClr val="000099"/>
                </a:solidFill>
                <a:latin typeface="Perpetua"/>
              </a:rPr>
              <a:t> </a:t>
            </a:r>
            <a:r>
              <a:rPr b="1" lang="sr-CS" sz="2800" spc="-1" strike="noStrike">
                <a:solidFill>
                  <a:srgbClr val="000099"/>
                </a:solidFill>
                <a:latin typeface="Cambria"/>
              </a:rPr>
              <a:t>с</a:t>
            </a:r>
            <a:r>
              <a:rPr b="1" lang="hr-HR" sz="2800" spc="-1" strike="noStrike">
                <a:solidFill>
                  <a:srgbClr val="000099"/>
                </a:solidFill>
                <a:latin typeface="Perpetua"/>
              </a:rPr>
              <a:t> </a:t>
            </a:r>
            <a:r>
              <a:rPr b="1" lang="sr-CS" sz="2800" spc="-1" strike="noStrike">
                <a:solidFill>
                  <a:srgbClr val="000099"/>
                </a:solidFill>
                <a:latin typeface="Cambria"/>
              </a:rPr>
              <a:t>различитим</a:t>
            </a:r>
            <a:r>
              <a:rPr b="1" lang="hr-HR" sz="2800" spc="-1" strike="noStrike">
                <a:solidFill>
                  <a:srgbClr val="000099"/>
                </a:solidFill>
                <a:latin typeface="Perpetua"/>
              </a:rPr>
              <a:t> </a:t>
            </a:r>
            <a:r>
              <a:rPr b="1" lang="sr-CS" sz="2800" spc="-1" strike="noStrike">
                <a:solidFill>
                  <a:srgbClr val="000099"/>
                </a:solidFill>
                <a:latin typeface="Cambria"/>
              </a:rPr>
              <a:t>активностима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читање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хобијима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животињама, о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активностима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којима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баве..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99"/>
                </a:solidFill>
                <a:latin typeface="Cambria"/>
              </a:rPr>
              <a:t>Посјетите</a:t>
            </a:r>
            <a:r>
              <a:rPr b="1" lang="hr-HR" sz="2800" spc="-1" strike="noStrike">
                <a:solidFill>
                  <a:srgbClr val="000099"/>
                </a:solidFill>
                <a:latin typeface="Perpetua"/>
              </a:rPr>
              <a:t> </a:t>
            </a:r>
            <a:r>
              <a:rPr b="1" lang="sr-CS" sz="2800" spc="-1" strike="noStrike">
                <a:solidFill>
                  <a:srgbClr val="000099"/>
                </a:solidFill>
                <a:latin typeface="Cambria"/>
              </a:rPr>
              <a:t>градску</a:t>
            </a:r>
            <a:r>
              <a:rPr b="1" lang="hr-HR" sz="2800" spc="-1" strike="noStrike">
                <a:solidFill>
                  <a:srgbClr val="000099"/>
                </a:solidFill>
                <a:latin typeface="Perpetua"/>
              </a:rPr>
              <a:t> </a:t>
            </a:r>
            <a:r>
              <a:rPr b="1" lang="sr-CS" sz="2800" spc="-1" strike="noStrike">
                <a:solidFill>
                  <a:srgbClr val="000099"/>
                </a:solidFill>
                <a:latin typeface="Cambria"/>
              </a:rPr>
              <a:t>библиотеку у коју су дјеца учлањена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различита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грађа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за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читање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;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радиониц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99"/>
                </a:solidFill>
                <a:latin typeface="Cambria"/>
              </a:rPr>
              <a:t>Осигурајте</a:t>
            </a:r>
            <a:r>
              <a:rPr b="1" lang="hr-HR" sz="2800" spc="-1" strike="noStrike">
                <a:solidFill>
                  <a:srgbClr val="000099"/>
                </a:solidFill>
                <a:latin typeface="Perpetua"/>
              </a:rPr>
              <a:t> </a:t>
            </a:r>
            <a:r>
              <a:rPr b="1" lang="sr-CS" sz="2800" spc="-1" strike="noStrike">
                <a:solidFill>
                  <a:srgbClr val="000099"/>
                </a:solidFill>
                <a:latin typeface="Cambria"/>
              </a:rPr>
              <a:t>довољно</a:t>
            </a:r>
            <a:r>
              <a:rPr b="1" lang="hr-HR" sz="2800" spc="-1" strike="noStrike">
                <a:solidFill>
                  <a:srgbClr val="000099"/>
                </a:solidFill>
                <a:latin typeface="Perpetua"/>
              </a:rPr>
              <a:t> </a:t>
            </a:r>
            <a:r>
              <a:rPr b="1" lang="sr-CS" sz="2800" spc="-1" strike="noStrike">
                <a:solidFill>
                  <a:srgbClr val="000099"/>
                </a:solidFill>
                <a:latin typeface="Cambria"/>
              </a:rPr>
              <a:t>материјала</a:t>
            </a:r>
            <a:r>
              <a:rPr b="1" lang="hr-HR" sz="2800" spc="-1" strike="noStrike">
                <a:solidFill>
                  <a:srgbClr val="000099"/>
                </a:solidFill>
                <a:latin typeface="Perpetua"/>
              </a:rPr>
              <a:t> </a:t>
            </a:r>
            <a:r>
              <a:rPr b="1" lang="sr-CS" sz="2800" spc="-1" strike="noStrike">
                <a:solidFill>
                  <a:srgbClr val="000099"/>
                </a:solidFill>
                <a:latin typeface="Cambria"/>
              </a:rPr>
              <a:t>за</a:t>
            </a:r>
            <a:r>
              <a:rPr b="1" lang="hr-HR" sz="2800" spc="-1" strike="noStrike">
                <a:solidFill>
                  <a:srgbClr val="000099"/>
                </a:solidFill>
                <a:latin typeface="Perpetua"/>
              </a:rPr>
              <a:t> </a:t>
            </a:r>
            <a:r>
              <a:rPr b="1" lang="sr-CS" sz="2800" spc="-1" strike="noStrike">
                <a:solidFill>
                  <a:srgbClr val="000099"/>
                </a:solidFill>
                <a:latin typeface="Cambria"/>
              </a:rPr>
              <a:t>читање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књиге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часописи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туристички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водичи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трипови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иручници</a:t>
            </a: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5T19:31:53Z</dcterms:created>
  <dc:creator>XP</dc:creator>
  <dc:description/>
  <dc:language>en-US</dc:language>
  <cp:lastModifiedBy>OS Kozarska Djeca</cp:lastModifiedBy>
  <dcterms:modified xsi:type="dcterms:W3CDTF">2017-10-31T09:21:37Z</dcterms:modified>
  <cp:revision>29</cp:revision>
  <dc:subject/>
  <dc:title>Важност читања у нижим разредима основне школе</dc:title>
</cp:coreProperties>
</file>