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57A6A-52FC-4085-9FF4-39524DEC3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CE68B-F8D2-44D0-B383-A1101C8FF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86BAF-CE9C-42FD-A262-E42B05D6E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1C959-526F-47BD-87E3-59B1914C9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83D5B-3E47-40FC-9369-36AC0CB82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87B9C-B37A-4E73-BAE1-7112E970E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C4FBB-7A48-4B54-B863-052BAF791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0E75C-D940-4879-825C-C001E5C35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E85D1-D8EF-4C61-BEE6-9CAC633AD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4E45F-137E-47DE-B57E-23CCAAA0C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BDB6E-2A82-4362-9630-567BD66FE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54468-028A-4E91-9AE5-64518B279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3A0D6-564B-4D48-B5E5-C60B48E0BE44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503160" y="3887280"/>
            <a:ext cx="5497560" cy="1220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ART TERAPIJ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503160" y="5108040"/>
            <a:ext cx="5497560" cy="137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98989"/>
                </a:solidFill>
                <a:latin typeface="Calibri"/>
              </a:rPr>
              <a:t>S</a:t>
            </a:r>
            <a:r>
              <a:rPr b="1" lang="hr-BA" sz="3200" spc="-1" strike="noStrike">
                <a:solidFill>
                  <a:srgbClr val="898989"/>
                </a:solidFill>
                <a:latin typeface="Calibri"/>
              </a:rPr>
              <a:t>usreti učitelja „Aida Korjenić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BA" sz="3200" spc="-1" strike="noStrike">
                <a:solidFill>
                  <a:srgbClr val="898989"/>
                </a:solidFill>
                <a:latin typeface="Calibri"/>
              </a:rPr>
              <a:t>S</a:t>
            </a:r>
            <a:r>
              <a:rPr b="1" lang="en-US" sz="3200" spc="-1" strike="noStrike">
                <a:solidFill>
                  <a:srgbClr val="898989"/>
                </a:solidFill>
                <a:latin typeface="Calibri"/>
              </a:rPr>
              <a:t>arajevo, 2017.godi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over dir="l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s-BA" sz="3000" spc="-1" strike="noStrike">
                <a:solidFill>
                  <a:srgbClr val="000000"/>
                </a:solidFill>
                <a:latin typeface="Calibri"/>
              </a:rPr>
              <a:t>Svjesna upotreba boja može nam pomoći na više nivoa. Boje mogu da:</a:t>
            </a:r>
            <a:br>
              <a:rPr sz="3000"/>
            </a:br>
            <a:br>
              <a:rPr sz="3000"/>
            </a:br>
            <a:r>
              <a:rPr b="0" lang="bs-BA" sz="3000" spc="-1" strike="noStrike">
                <a:solidFill>
                  <a:srgbClr val="000000"/>
                </a:solidFill>
                <a:latin typeface="Calibri"/>
              </a:rPr>
              <a:t>- ubrzaju psihički i fizički oporavak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bs-BA" sz="3000" spc="-1" strike="noStrike">
                <a:solidFill>
                  <a:srgbClr val="000000"/>
                </a:solidFill>
                <a:latin typeface="Calibri"/>
              </a:rPr>
              <a:t>- poprave raspoloženj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bs-BA" sz="3000" spc="-1" strike="noStrike">
                <a:solidFill>
                  <a:srgbClr val="000000"/>
                </a:solidFill>
                <a:latin typeface="Calibri"/>
              </a:rPr>
              <a:t>- podstiču na akciju ili opuštaju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bs-BA" sz="3000" spc="-1" strike="noStrike">
                <a:solidFill>
                  <a:srgbClr val="000000"/>
                </a:solidFill>
                <a:latin typeface="Calibri"/>
              </a:rPr>
              <a:t>- razbude ili umir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bs-BA" sz="3000" spc="-1" strike="noStrike">
                <a:solidFill>
                  <a:srgbClr val="000000"/>
                </a:solidFill>
                <a:latin typeface="Calibri"/>
              </a:rPr>
              <a:t>- napune onom vrstom energije koja nam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3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bs-BA" sz="3000" spc="-1" strike="noStrike">
                <a:solidFill>
                  <a:srgbClr val="000000"/>
                </a:solidFill>
                <a:latin typeface="Calibri"/>
              </a:rPr>
              <a:t>trenutno nedostaj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bs-BA" sz="3000" spc="-1" strike="noStrike">
                <a:solidFill>
                  <a:srgbClr val="000000"/>
                </a:solidFill>
                <a:latin typeface="Calibri"/>
              </a:rPr>
              <a:t>- pomaži da ostvarimo svoje ciljeve i da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3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bs-BA" sz="3000" spc="-1" strike="noStrike">
                <a:solidFill>
                  <a:srgbClr val="000000"/>
                </a:solidFill>
                <a:latin typeface="Calibri"/>
              </a:rPr>
              <a:t>privučemo pozitivn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over dir="l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ART TERAPIJ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Art terapija je oblik psihoterapije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 koji se praktikuje u svijetu više od 50 godina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rt terapija ima široku primjenu – od kliničke psihologije do vrtića i može se koristiti kod ljudi svih dobi. Art terapija služi kao sredstvo komunikacije između terapeuta/učitelja i djeteta. Takav pristup pomaže djetetu da stekne povjerenje u svog terapeuta/učitelja, da s njim ostvari bliskost te da posrednim putem iskaže svoje emocije i nadvlada lično iskustvo. Ova se terapija provodi u grupi ili individualno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over dir="l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1212480" y="681120"/>
            <a:ext cx="748188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Kroz 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rtež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 djeca iskazuju misli i osjećaje koje još ne umiju izraziti ili im je neugodno govoriti o njima. Art terapija počinje kraćim razgovorom tokom kojeg dijete počinje crtati.</a:t>
            </a:r>
            <a:r>
              <a:rPr b="0" lang="hr-BA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ije važno koliko dobro dijete zna</a:t>
            </a:r>
            <a:r>
              <a:rPr b="0" lang="hr-BA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rtati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Najvažniji je razgovor s djetetom, te način na koji ono crta.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 Smireno i opušteno crtanje govori nam da se dijete bavi motivom koji ga opušta, koji voli i koji ne doživljava kao prijetnju. Agresivni, nervozni pokreti pričaju posve drugačiju priču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over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ETODA CRTANJA FRAKTAL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297000" y="1901520"/>
            <a:ext cx="4039920" cy="303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rtanje fraktala je nova forma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rt terapij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 Terapijsku metodu osmislila je Tanzilia Polujahtova, klinička </a:t>
            </a:r>
            <a:r>
              <a:rPr b="0" lang="hr-BA" sz="2400" spc="-1" strike="noStrike">
                <a:solidFill>
                  <a:srgbClr val="000000"/>
                </a:solidFill>
                <a:latin typeface="Calibri"/>
              </a:rPr>
              <a:t>i porodična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psihologinja koja radi i djeluje u Rusiji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266720" y="1290240"/>
            <a:ext cx="442764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ehnika crtanja fraktala ne utječe pozitivno samo na oporavljanje od bolesti i različitih negativnih stanja.</a:t>
            </a:r>
            <a:r>
              <a:rPr b="0" lang="hr-BA" sz="2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Ona također daje odgovore na pitanja kako upoznati samog sebe, kako dobiti pristup informacijama skrivenima u dubinama naše podsvijesti,</a:t>
            </a:r>
            <a:r>
              <a:rPr b="0" lang="hr-BA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kako naučiti prepoznati svoje životne ciljeve i ostvariti svoja postignuća te kako se podignuti na novu razinu u razvoju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over dir="l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raktalni crtež je energetski crtež. Njegova vibracija prodire u naše tijelo, misli i osjećaje. Crtajući fraktale mi se otvaramo višoj svijesti te oslobađamo kreativnu energiju. U svijetu apstraktnih boja i linija dobivamo mjesto u kojem misli nestaju. Ostaje samo duh spojen s višim vibracijama. Crtanjem fraktala uranjamo u meditativno stanje u kojem postoje samo sklad i ravnoteža. Dok crtamo, mi se mijenjamo. Otvaramo se novim mogućnostima. Crtanjem stvaramo kreativan pristup životu i njegovim problemima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over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O TEHNIC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BA" sz="2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Postoje nekoliko vrsta fraktala: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alibri"/>
              </a:rPr>
              <a:t>dijagnostički i korekcijski fraktali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 – crtaju se kada osoba želi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23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uravnotežiti svoju energiju, usmjeriti svoj život u pravilnom smjeru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23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Prvo se radi testiranje unutarnjeg stanja, a zatim korekcija. 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</a:rPr>
              <a:t>Analizom</a:t>
            </a:r>
            <a:r>
              <a:rPr b="0" lang="hr-BA" sz="2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prva četiri korekcijska fraktala jasno se može definirati problem osobe</a:t>
            </a:r>
            <a:r>
              <a:rPr b="0" lang="hr-BA" sz="2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koja ga crta. Zatim se crtanjem ostalih fraktala (sveukupno 21) radi</a:t>
            </a:r>
            <a:r>
              <a:rPr b="0" lang="hr-BA" sz="2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korekcija, odnosno „ispravljanje“ problema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alibri"/>
              </a:rPr>
              <a:t>grupni fraktali – 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crtaju se u paru u svrhu poboljšanja odnosa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alibri"/>
              </a:rPr>
              <a:t>fraktali u svrhu ispunjenja želja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 – crtaju se ukoliko želimo raditi na</a:t>
            </a:r>
            <a:r>
              <a:rPr b="0" lang="hr-BA" sz="2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određenom problemu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alibri"/>
              </a:rPr>
              <a:t>umjetnički fraktali – 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crtaju se iz same potrebe za umjetničkim</a:t>
            </a:r>
            <a:r>
              <a:rPr b="0" lang="bs-BA" sz="2300" spc="-1" strike="noStrike">
                <a:solidFill>
                  <a:srgbClr val="000000"/>
                </a:solidFill>
                <a:latin typeface="Calibri"/>
              </a:rPr>
              <a:t> i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zražavanjem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over dir="l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DJELOVANJE BOJ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200" spc="-1" strike="noStrike">
                <a:solidFill>
                  <a:srgbClr val="000000"/>
                </a:solidFill>
                <a:latin typeface="Arial"/>
              </a:rPr>
              <a:t>Boje </a:t>
            </a:r>
            <a:r>
              <a:rPr b="0" lang="vi-VN" sz="3200" spc="-1" strike="noStrike">
                <a:solidFill>
                  <a:srgbClr val="000000"/>
                </a:solidFill>
                <a:latin typeface="Arial"/>
              </a:rPr>
              <a:t>imaju u našem životu vrlo značajnu ulogu jer </a:t>
            </a:r>
            <a:r>
              <a:rPr b="0" lang="hr-BA" sz="3200" spc="-1" strike="noStrike">
                <a:solidFill>
                  <a:srgbClr val="000000"/>
                </a:solidFill>
                <a:latin typeface="Arial"/>
                <a:ea typeface="Arial"/>
              </a:rPr>
              <a:t>direkt</a:t>
            </a:r>
            <a:r>
              <a:rPr b="0" lang="vi-VN" sz="3200" spc="-1" strike="noStrike">
                <a:solidFill>
                  <a:srgbClr val="000000"/>
                </a:solidFill>
                <a:latin typeface="Arial"/>
              </a:rPr>
              <a:t>no utječu na naše raspoloženje i ugođaj. Svako od nas ima svoj spektar omiljenih boja, ali i boja koje mu ne odgovaraju. Doživljavanje boja ovisi o više faktora: nijansi boje, vrsti svjetlosti (dnevna ili umjetna, intenzivna ili prigušena..)</a:t>
            </a:r>
            <a:r>
              <a:rPr b="0" lang="hr-BA" sz="3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vi-VN" sz="3200" spc="-1" strike="noStrike">
                <a:solidFill>
                  <a:srgbClr val="000000"/>
                </a:solidFill>
                <a:latin typeface="Arial"/>
              </a:rPr>
              <a:t> našem općem raspoloženju, bioritmu, it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over dir="l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304920" y="228600"/>
          <a:ext cx="8534160" cy="6068880"/>
        </p:xfrm>
        <a:graphic>
          <a:graphicData uri="http://schemas.openxmlformats.org/drawingml/2006/table">
            <a:tbl>
              <a:tblPr/>
              <a:tblGrid>
                <a:gridCol w="2844720"/>
                <a:gridCol w="2844720"/>
                <a:gridCol w="2844720"/>
              </a:tblGrid>
              <a:tr h="457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s-BA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OJ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s-BA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ZITIV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s-BA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GATIV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0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s-BA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bs-BA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jeluje poticajno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s-BA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bs-BA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zaziva radost i veselje, budi    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s-BA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bs-BA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mizam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s-BA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bazrivost, bistrina, inteligencija, organizacija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s-BA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jenost i cinizam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296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s-BA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većava krvni pritisak, snadbjeva tijelo neophodnom energijom kod umora i iscrpljenosti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s-BA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oja ljubavi, strasti, radosti, podstiče kreativnost, jača samopouzdanje i snagu volje, ohrabruje, otklanja bezvoljnost i depresiju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s-BA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ke nijanse crvene boje predstavljaju revoluciju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1296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s-BA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tiče koncentraciju, utiče na sposobnost izražavanja, prilagođavanja okolini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s-BA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dstavlja smirenost, ljubav, aristokraciju, prihvatanje, strpljivost, razumijevanje, saradnju, udobnost, lojalnost i sigurnost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s-BA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rah, hladnoća, pasivnost i depresija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</a:tr>
              <a:tr h="1063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s-BA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zaziva osjećaj zdravlja i životne radosti, boja mudrosti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s-BA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zitivno značenje je hrabrost, prijateljstvo, toplina, energija, olakšava učenje, podstiče pamćenje i smiruje nervozu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s-BA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upućenost i inferiornost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</a:tr>
              <a:tr h="1035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s-BA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igušuje strasti, predstavlja nešto mistično i tajanstveno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04a7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s-BA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z nju se veže sofisticiranost i vjera, uspešno suzbija osećaj bezizlaznosti i očaja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04a7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s-BA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dstavlja i zabranu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04a7b"/>
                    </a:solidFill>
                  </a:tcPr>
                </a:tc>
              </a:tr>
            </a:tbl>
          </a:graphicData>
        </a:graphic>
      </p:graphicFrame>
    </p:spTree>
  </p:cSld>
  <p:transition spd="slow">
    <p:cover dir="l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609480" y="228600"/>
          <a:ext cx="8229600" cy="398448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6094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s-BA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OJ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s-BA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ZITIV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s-BA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GATIV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0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s-BA" sz="17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odmara i stvara unutrašnji mir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ca8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s-BA" sz="17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osi obilježja bogatstva, zdravlja, prirode, nade, rasta, svježine i odgovornosti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ca8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s-BA" sz="17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zavist, krivnja, ljubomora i poremećaji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ca800"/>
                    </a:solidFill>
                  </a:tcPr>
                </a:tc>
              </a:tr>
              <a:tr h="12272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s-BA" sz="17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umara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s-BA" sz="17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imbolizira čistoću, svježinu, lakoću i dobrotu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s-BA" sz="17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inonim za zimu, hladnoću i daljinu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268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s-BA" sz="17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nedostatak bilo kakvog svjetla i boj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s-BA" sz="17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predstavlja ozbiljnost, eleganciju, dramatičnost i odanost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s-BA" sz="17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nosi konotacije emotivne hladnoće i neznanja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</a:tbl>
          </a:graphicData>
        </a:graphic>
      </p:graphicFrame>
    </p:spTree>
  </p:cSld>
  <p:transition spd="slow">
    <p:cover dir="l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1T19:17:07Z</dcterms:created>
  <dc:creator>Julian</dc:creator>
  <dc:description/>
  <dc:language>en-US</dc:language>
  <cp:lastModifiedBy>Amina</cp:lastModifiedBy>
  <dcterms:modified xsi:type="dcterms:W3CDTF">2017-09-30T06:02:17Z</dcterms:modified>
  <cp:revision>59</cp:revision>
  <dc:subject/>
  <dc:title>PowerPoint Presentation</dc:title>
</cp:coreProperties>
</file>