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9B0-EF99-455A-AC94-F5A8BBA0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E5C-824E-46E9-8034-8EA029A1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857-ADE1-4005-987B-497AC20E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DB6-9A1C-4E26-8769-DA2CEA4B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99F0-C8D2-4C2E-825F-BFCF2774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0BF1-D188-40E4-A76C-32DED84B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663D-D105-4358-9E6F-BAE2EDA4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6B48-566E-479C-9B79-CFEAEB36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60A1-EA94-4584-A067-E3CA00B0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8BC3-DA4B-4A8A-A621-5880627E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EDD8-BA1D-4145-B7F1-7AC33C1D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46C-8036-4BC7-94DC-B3B949E7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FAB2-9D14-4BD2-B576-630C6557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8C9C-31F1-4461-83AE-D8A0ADED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2A51-739D-4EEC-A51D-D3A9CC4D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B1C2-5946-44E6-866D-F94E77C4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789C-B7AA-4B5C-876B-88E32FB4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52768-6AA9-4B4B-8D42-1E7BC5CB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E9FBB-53A5-4572-837F-AD0D2CE9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9137F-0403-4472-9355-1AB94F89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2DFC-FF07-4062-9059-4FEF1085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53FCD-7D61-42D5-91EE-91E1B34F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C07-D523-475D-9BC8-EB3993D2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85303-4461-4705-8537-1330D5E4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B1A97-F6A9-4E01-9F04-EDE7899E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6059D-B1AA-4DBD-9961-43D488B2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244B-D5F3-4328-8FBB-5B2864D0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8F61C-CCAE-49F1-A0E7-EE4EC968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12E28-23B2-49EE-8BC9-96B6CCC5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E8841-2774-4009-AC37-51277BD0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61818-DEA1-42C9-8E1A-6373E860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8B5C2-37F9-410A-B581-3E7291DA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FDA6C-173A-4BBD-93CB-1CEC79D8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220-1755-4BC5-81C0-E49EB43F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5B36C-9AE4-48BC-8C2E-3FD42AA7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AC206-9CEB-4B43-AA6D-3ABD6A87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EC994-250B-4DA7-97CC-2CAD9A31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E51FA-7891-4BCF-92D2-F6004A50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69547-6BE4-4CF5-8C71-9F10C51F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A3F7E-A7DE-4FA9-8789-8EF13AF6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B60F2-0F72-45F5-B4C2-DE55E5A7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E4514-6D50-422C-AE88-B23C364D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1345A-BF6E-4724-9A7F-038E5290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8D468-FB1A-481D-BEE8-A34474B3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CAB-6658-4BCA-A05C-E4E06E33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B681B-C9F1-4325-B3CB-B6EE1DA3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8B55F-B846-493D-B9EC-7D25C21F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6700C-0DF0-49D7-85AA-A8D1D39E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20AE5-ACFA-4AAF-BB45-000A1C03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DBCB5-A96B-45E5-A43F-CD1FF7B2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0BB4E-9C47-4959-AE93-8638CD1F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27CF0-3247-4F13-8777-7E432F00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FA182-45A6-40D9-B24D-2D640FB4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9B4B3-C66E-4977-936D-E213667E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3E33A-88FD-4E14-BF9F-917F6EC2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E9E-26F2-4E74-A35F-EACD2FA5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833E0-1AAF-4492-9D35-40808076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438DE-BFAC-4312-9232-D4F93772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B5A56-3284-4888-A962-313CA8C2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82517-D99B-41C5-BAE0-A12DAB96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44C5F-9CDC-44F7-A5C7-C1469EBA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4899F-3614-442F-A475-213B6F68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BFBF6-60D1-4123-9536-AD712D55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8B3CF-48A5-4531-B278-A03FF9D9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DCA44-3F45-42A2-9B2D-859C6712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DA8C6-173A-4D1D-BD67-F11EC897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A35-D996-493B-B089-3311A730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7FF49-FE50-4E61-811A-87541C32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E8B00-C77E-4A31-8445-B8EB5B49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BBDAB-995D-482F-97AF-11CFA67B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98D-78CD-4A96-AB97-6A333E60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C24F-3230-4B8C-B39C-149925C6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5ECE-E11D-40BC-9873-A2173F1FA8DD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BF5D-8423-4D48-894F-21D3701AE8B5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4694-D024-4CDE-9F79-019C6E871A22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88D6-8D3B-4BE6-8067-84459BC76FEB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8443-7EA0-477B-93AF-4CDA58F59ED9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B8C6-A4D6-4E63-BC71-406B376ADB9A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1760" y="428400"/>
            <a:ext cx="75438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1f497d"/>
                </a:solidFill>
                <a:latin typeface="Calibri"/>
              </a:rPr>
              <a:t>Razvojne karakteristike sedmogodišnjak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4025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 u="sng">
                <a:solidFill>
                  <a:srgbClr val="000000"/>
                </a:solidFill>
                <a:uFillTx/>
                <a:latin typeface="Constantia"/>
              </a:rPr>
              <a:t>Vrijedni analitičar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često su zadovoljni time što sate i sate provode u svojoj sobi,listajući slikovnice (knjige), slušajući muziku, igrajući se igračkama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vole i da rade sa najboljim drugom iako se takvi odnosi mogu mijenjati iz dana u dan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žele da ono što rade bude tačno i da izgleda lijep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sedmogodišnjaci vole rutinu i red u školi i dopada im se lični odnos sa učiteljem ili učiteljicom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neraspoloženi su ako ih neko oponaša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veoma ih boli zadirkivanje, ismijavanje i kada im se neko obratiponižavajućim tonom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veoma su radoznali i imaju jaku želju za istraživanjem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5" descr="0,,16286714_401,00"/>
          <p:cNvPicPr/>
          <p:nvPr/>
        </p:nvPicPr>
        <p:blipFill>
          <a:blip r:embed="rId1"/>
          <a:stretch/>
        </p:blipFill>
        <p:spPr>
          <a:xfrm>
            <a:off x="4610160" y="2732040"/>
            <a:ext cx="3695760" cy="2079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 u="sng">
                <a:solidFill>
                  <a:srgbClr val="000000"/>
                </a:solidFill>
                <a:uFillTx/>
                <a:latin typeface="Arial"/>
              </a:rPr>
              <a:t>Karakteristike fizičkog razvoj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4530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dok pišu, drže glavu nisko sagnutu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olovku drže tako što ju prstima obuhvataju pri vrhu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pišu uredn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ponekad su napeti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karakteristične su brojne povrede, umišljene ili stvar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teško im je da pišu pisanim slovima;i radni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pri dnu stranice ispisuju sićušna slova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dobro su im razvijeni pojmovi lijeve i desne stra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sedmogodišnjaci obožavaju gumicu, ako pogriješe, brisaće do besvijeti, sve dok ne naprave rupu u papiru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žele da ono što rade bude tačno i da izgleda lijep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zbog toga im je za sve to potrebno mnogo vremena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7" descr="djeca-u-skoli"/>
          <p:cNvPicPr/>
          <p:nvPr/>
        </p:nvPicPr>
        <p:blipFill>
          <a:blip r:embed="rId1"/>
          <a:stretch/>
        </p:blipFill>
        <p:spPr>
          <a:xfrm>
            <a:off x="5508720" y="1989000"/>
            <a:ext cx="3047760" cy="3097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 u="sng">
                <a:solidFill>
                  <a:srgbClr val="000000"/>
                </a:solidFill>
                <a:uFillTx/>
                <a:latin typeface="Arial"/>
              </a:rPr>
              <a:t>Karakteristike razvoja govor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pažljivo slušaju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precizno govor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vole razgovor udvoje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ubrzano im se bogati riječnik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zainteresovani su za značenje riječi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vole da pišu poruk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vole da rade i pričaju u paru, ali nisu uspješni u izradi grupnih zadataka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njihova vrijednoća usmjerena je na individualan rad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3" name="Picture 6" descr="tjeskoba-radi-nastave-igranje-skole-lijeci-strah-kod-djeteta-504x335-20120834-20120824160738-33b5fb9f83c354c8811c6121d6b4b3c4"/>
          <p:cNvPicPr/>
          <p:nvPr/>
        </p:nvPicPr>
        <p:blipFill>
          <a:blip r:embed="rId1"/>
          <a:stretch/>
        </p:blipFill>
        <p:spPr>
          <a:xfrm>
            <a:off x="4859280" y="1989000"/>
            <a:ext cx="3660840" cy="3167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 u="sng">
                <a:solidFill>
                  <a:srgbClr val="000000"/>
                </a:solidFill>
                <a:uFillTx/>
                <a:latin typeface="Arial"/>
              </a:rPr>
              <a:t>Karakteristike socijalnog razvoj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402588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nekog, odnsno nešto ili vole ili ne vol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često mijenjaju prijatelj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potrebno im je stalno ohrabrenj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saosjećaju sa drugima, ali vole i da tužakaju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ne vole da griješe, a ni da se izlažu riziku da pogriješ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oslanjaju se na pomoć roditelja ili učitelja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osjećanja su im promjenjiva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preosjetljivi su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ponekad su hiroviti, potišteni, zlovoljni ili stidljivi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povučeni su i okrenuti sebi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6" name="Picture 7" descr="djeca"/>
          <p:cNvPicPr/>
          <p:nvPr/>
        </p:nvPicPr>
        <p:blipFill>
          <a:blip r:embed="rId1"/>
          <a:stretch/>
        </p:blipFill>
        <p:spPr>
          <a:xfrm>
            <a:off x="4859280" y="1989000"/>
            <a:ext cx="3695760" cy="3311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 u="sng">
                <a:solidFill>
                  <a:srgbClr val="000000"/>
                </a:solidFill>
                <a:uFillTx/>
                <a:latin typeface="Arial"/>
              </a:rPr>
              <a:t>Karakteristike saznajnog razvoj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17024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vole da se preslišavaju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imaju potrebu da završe zadatk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vole da rade natena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vole da rade sami ili u paru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vole da uče napame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vole da im se čita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stalno ispravljaju to što rade, teže savršenstvu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vole da ponavljaju isti zadatak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vole igre na tabli, kao i igre sa kockicama, slagalicama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žele da otkriju kako neki predmet radi – vole da rasklapaju stvari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6" descr="ucenici_u_klupi"/>
          <p:cNvPicPr/>
          <p:nvPr/>
        </p:nvPicPr>
        <p:blipFill>
          <a:blip r:embed="rId1"/>
          <a:stretch/>
        </p:blipFill>
        <p:spPr>
          <a:xfrm>
            <a:off x="5148360" y="1844640"/>
            <a:ext cx="3427200" cy="3533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 u="sng">
                <a:solidFill>
                  <a:srgbClr val="000000"/>
                </a:solidFill>
                <a:uFillTx/>
                <a:latin typeface="Arial"/>
              </a:rPr>
              <a:t>Savjeti za roditelje: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4025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potrebna im je podrška u radu, jer često odustaju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pružite im pomoć u radu, ali nemojte vi odraditi nešto umjesto njih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vole da im se čita i objašnjava, pa nemojte škrtariti u tom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nikada vi ne brišite neki njihov rad, oni trebaju da uoče razliku u pisanju slova kada ih više puta ponavljaju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vole pohvalu, pa je i ne štedite u svim aktvnostima koje obavljaju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neka imaju svoju obavezu u kući, vole da im se nešto povjeri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poštujte njihova osjećanja, veoma su uvrijedljivi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Constantia"/>
              </a:rPr>
              <a:t>- zato nemojte ni u šali da im se narugate za bilo šta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7" descr="121355626"/>
          <p:cNvPicPr/>
          <p:nvPr/>
        </p:nvPicPr>
        <p:blipFill>
          <a:blip r:embed="rId1"/>
          <a:stretch/>
        </p:blipFill>
        <p:spPr>
          <a:xfrm>
            <a:off x="4932360" y="1989000"/>
            <a:ext cx="369576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9:22:24Z</dcterms:created>
  <dc:creator>lee-pc</dc:creator>
  <dc:description/>
  <dc:language>en-US</dc:language>
  <cp:lastModifiedBy>OS Kozarska Djeca</cp:lastModifiedBy>
  <dcterms:modified xsi:type="dcterms:W3CDTF">2017-10-09T09:54:43Z</dcterms:modified>
  <cp:revision>3</cp:revision>
  <dc:subject/>
  <dc:title>Razvojne karakteristike sedmogodišnjak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65;#Microsoft Office PowerPoint 2007;#182;#Office XP;#64;#PowerPoint 2003;#67;#PowerPoint - Design Templt 12;#184;#Office 2000;#66;#PowerPoint - Design Templt 2003;#79;#Template 12</vt:lpwstr>
  </property>
  <property fmtid="{D5CDD505-2E9C-101B-9397-08002B2CF9AE}" pid="6" name="Approval Level">
    <vt:lpwstr/>
  </property>
  <property fmtid="{D5CDD505-2E9C-101B-9397-08002B2CF9AE}" pid="7" name="AssetId">
    <vt:lpwstr>TS001072121</vt:lpwstr>
  </property>
  <property fmtid="{D5CDD505-2E9C-101B-9397-08002B2CF9AE}" pid="8" name="AssetType">
    <vt:lpwstr>TP</vt:lpwstr>
  </property>
  <property fmtid="{D5CDD505-2E9C-101B-9397-08002B2CF9AE}" pid="9" name="Assigned To">
    <vt:lpwstr/>
  </property>
  <property fmtid="{D5CDD505-2E9C-101B-9397-08002B2CF9AE}" pid="10" name="AuthoringAssetId">
    <vt:lpwstr>TP001072121</vt:lpwstr>
  </property>
  <property fmtid="{D5CDD505-2E9C-101B-9397-08002B2CF9AE}" pid="11" name="BugNumber">
    <vt:lpwstr>460420L</vt:lpwstr>
  </property>
  <property fmtid="{D5CDD505-2E9C-101B-9397-08002B2CF9AE}" pid="12" name="Categories">
    <vt:lpwstr/>
  </property>
  <property fmtid="{D5CDD505-2E9C-101B-9397-08002B2CF9AE}" pid="13" name="Content Type">
    <vt:lpwstr>OOFile</vt:lpwstr>
  </property>
  <property fmtid="{D5CDD505-2E9C-101B-9397-08002B2CF9AE}" pid="14" name="ContentTypeId">
    <vt:lpwstr>0x0101006025706CF4CD034688BEBAE97A2E701D020200C3831ACA17D8814887A164412888521E</vt:lpwstr>
  </property>
  <property fmtid="{D5CDD505-2E9C-101B-9397-08002B2CF9AE}" pid="15" name="IsDeleted">
    <vt:lpwstr>0</vt:lpwstr>
  </property>
  <property fmtid="{D5CDD505-2E9C-101B-9397-08002B2CF9AE}" pid="16" name="IsSearchable">
    <vt:lpwstr>0</vt:lpwstr>
  </property>
  <property fmtid="{D5CDD505-2E9C-101B-9397-08002B2CF9AE}" pid="17" name="Keywords">
    <vt:lpwstr/>
  </property>
  <property fmtid="{D5CDD505-2E9C-101B-9397-08002B2CF9AE}" pid="18" name="Markets">
    <vt:lpwstr/>
  </property>
  <property fmtid="{D5CDD505-2E9C-101B-9397-08002B2CF9AE}" pid="19" name="Milestone">
    <vt:lpwstr>Continuous</vt:lpwstr>
  </property>
  <property fmtid="{D5CDD505-2E9C-101B-9397-08002B2CF9AE}" pid="20" name="NumericId">
    <vt:lpwstr>-1.00000000000000</vt:lpwstr>
  </property>
  <property fmtid="{D5CDD505-2E9C-101B-9397-08002B2CF9AE}" pid="21" name="OpenTemplate">
    <vt:lpwstr>1</vt:lpwstr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StatusLookup">
    <vt:lpwstr>256732</vt:lpwstr>
  </property>
  <property fmtid="{D5CDD505-2E9C-101B-9397-08002B2CF9AE}" pid="25" name="PublishTargets">
    <vt:lpwstr>OfficeOnline</vt:lpwstr>
  </property>
  <property fmtid="{D5CDD505-2E9C-101B-9397-08002B2CF9AE}" pid="26" name="ShowIn">
    <vt:lpwstr>Show everywhere</vt:lpwstr>
  </property>
  <property fmtid="{D5CDD505-2E9C-101B-9397-08002B2CF9AE}" pid="27" name="Slides">
    <vt:lpwstr>0</vt:lpwstr>
  </property>
  <property fmtid="{D5CDD505-2E9C-101B-9397-08002B2CF9AE}" pid="28" name="SourceTitle">
    <vt:lpwstr>Blue-green cave design template</vt:lpwstr>
  </property>
  <property fmtid="{D5CDD505-2E9C-101B-9397-08002B2CF9AE}" pid="29" name="Subject">
    <vt:lpwstr/>
  </property>
  <property fmtid="{D5CDD505-2E9C-101B-9397-08002B2CF9AE}" pid="30" name="TPAppVersion">
    <vt:lpwstr>11</vt:lpwstr>
  </property>
  <property fmtid="{D5CDD505-2E9C-101B-9397-08002B2CF9AE}" pid="31" name="TPApplication">
    <vt:lpwstr>PowerPoint</vt:lpwstr>
  </property>
  <property fmtid="{D5CDD505-2E9C-101B-9397-08002B2CF9AE}" pid="32" name="TPClientViewer">
    <vt:lpwstr>Microsoft Office PowerPoint</vt:lpwstr>
  </property>
  <property fmtid="{D5CDD505-2E9C-101B-9397-08002B2CF9AE}" pid="33" name="TPCommandLine">
    <vt:lpwstr>{PP} {FilePath}</vt:lpwstr>
  </property>
  <property fmtid="{D5CDD505-2E9C-101B-9397-08002B2CF9AE}" pid="34" name="TPComponent">
    <vt:lpwstr>PPTFiles</vt:lpwstr>
  </property>
  <property fmtid="{D5CDD505-2E9C-101B-9397-08002B2CF9AE}" pid="35" name="TPFriendlyName">
    <vt:lpwstr>Blue-green cave design template</vt:lpwstr>
  </property>
  <property fmtid="{D5CDD505-2E9C-101B-9397-08002B2CF9AE}" pid="36" name="TPInstallLocation">
    <vt:lpwstr>{Document Themes}</vt:lpwstr>
  </property>
  <property fmtid="{D5CDD505-2E9C-101B-9397-08002B2CF9AE}" pid="37" name="TPLaunchHelpLink">
    <vt:lpwstr/>
  </property>
  <property fmtid="{D5CDD505-2E9C-101B-9397-08002B2CF9AE}" pid="38" name="TPLaunchHelpLinkType">
    <vt:lpwstr>Template</vt:lpwstr>
  </property>
  <property fmtid="{D5CDD505-2E9C-101B-9397-08002B2CF9AE}" pid="39" name="TPNamespace">
    <vt:lpwstr>POWERPNT</vt:lpwstr>
  </property>
  <property fmtid="{D5CDD505-2E9C-101B-9397-08002B2CF9AE}" pid="40" name="TemplateStatus">
    <vt:lpwstr>Complete</vt:lpwstr>
  </property>
  <property fmtid="{D5CDD505-2E9C-101B-9397-08002B2CF9AE}" pid="41" name="TrustLevel">
    <vt:lpwstr>Microsoft Managed Content</vt:lpwstr>
  </property>
  <property fmtid="{D5CDD505-2E9C-101B-9397-08002B2CF9AE}" pid="42" name="UACurrentWords">
    <vt:lpwstr>0</vt:lpwstr>
  </property>
  <property fmtid="{D5CDD505-2E9C-101B-9397-08002B2CF9AE}" pid="43" name="UALocRecommendation">
    <vt:lpwstr>Localize</vt:lpwstr>
  </property>
  <property fmtid="{D5CDD505-2E9C-101B-9397-08002B2CF9AE}" pid="44" name="UANotes">
    <vt:lpwstr>429034L. June 2003 retrofit</vt:lpwstr>
  </property>
  <property fmtid="{D5CDD505-2E9C-101B-9397-08002B2CF9AE}" pid="45" name="Version">
    <vt:lpwstr/>
  </property>
  <property fmtid="{D5CDD505-2E9C-101B-9397-08002B2CF9AE}" pid="46" name="_Author">
    <vt:lpwstr/>
  </property>
  <property fmtid="{D5CDD505-2E9C-101B-9397-08002B2CF9AE}" pid="47" name="_Category">
    <vt:lpwstr/>
  </property>
  <property fmtid="{D5CDD505-2E9C-101B-9397-08002B2CF9AE}" pid="48" name="_Comments">
    <vt:lpwstr/>
  </property>
  <property fmtid="{D5CDD505-2E9C-101B-9397-08002B2CF9AE}" pid="49" name="_Status">
    <vt:lpwstr/>
  </property>
  <property fmtid="{D5CDD505-2E9C-101B-9397-08002B2CF9AE}" pid="50" name="display_urn:schemas-microsoft-com:office:office#APAuthor">
    <vt:lpwstr>REDMOND\cynvey</vt:lpwstr>
  </property>
  <property fmtid="{D5CDD505-2E9C-101B-9397-08002B2CF9AE}" pid="51" name="display_urn:schemas-microsoft-com:office:office#APEditor">
    <vt:lpwstr>REDMOND\v-luannv</vt:lpwstr>
  </property>
</Properties>
</file>