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1D7-EFC8-4FE9-BCB7-6EF963FF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9D2-A06C-4CA7-92C2-058ADEF0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EA8-B125-41EB-B2C8-B581041D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DCC-B273-4169-8DCE-2D3F6E92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AF63-05C9-4992-96EC-5789C43C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833B-BF15-454E-92DE-56D6B64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55E6-2648-4E1D-9300-C5DC252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1D14-91C2-41BA-92AF-4DF53A1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7AE0-E130-417B-977A-B38636E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871F-D8B0-4E00-9C9A-3E61FEA4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3C82-3A21-457B-B2E2-5E38134B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E26-DD3B-4E72-A776-B3020A8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F53B-C7A8-4EE3-9E2B-E3B36BB8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B4C4-B5F7-4EE2-BEB5-48C30D4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AB43-0E73-4F2C-85EB-B0EEDB4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B0C1-5732-4F53-8F58-12488C1A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3D1E-AD9E-4248-852A-E5BE070D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008C-23B7-49E9-ABB1-C11AD3FE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6966-506D-4027-874C-D55917C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E36D-D0F1-48B8-9F6B-CBBFCAD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B868-15C3-4D3E-8137-68FAB100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67E1-6D2C-4BD2-89A6-17102823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E0D-70FD-45BC-82D9-F8E0F06B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3730-25E0-438A-A26A-5CCF6E0F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8CFB-AC8A-463F-AFDB-4F62693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BDDD-4144-457A-B7FE-D280D031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5CDA-9CE9-4136-8201-37CA6E0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3308-1D04-4D43-BC32-F71F944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52D0-DF9A-4B93-B17E-8E0E0BC3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4013-5807-41E9-8C81-2AC671C9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9859-7A61-451B-A9DD-F4C76068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DB08-EA06-4ED5-8838-1E0729B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85E2-1E68-4C91-BE29-ACFEC448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778-B1CB-4546-A11E-68DDFDC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33DB-6A9C-49C0-86EC-C6FF9809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0304-B2AC-4F48-9606-EE2D054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E4D8-BA23-4CF1-8F75-4C4084E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8035-3D3D-4373-BDC2-AA5963E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A1E9-A6E9-4902-A761-7254B4D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459E-6970-4B64-B431-E6BA2C5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6457-7A4F-4296-9AC4-A2C9B89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D92C-0468-4A32-9FA2-1A2F4725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36967-29C5-44F9-BE29-2B7904B4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8BF-52C8-4964-BA66-8BF28467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69B-5316-426D-862E-C84A5C6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717-9C06-43E9-9803-7ACFC73C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172-9A8F-475A-9D65-B35AFDF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F03-4BB8-4FC6-8683-D09DB3DE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025C-41E0-4F6D-86C1-A17CEE2B1F16}" type="slidenum">
              <a:rPr b="0" lang="sr-Latn-C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4D61-10D1-4E02-BD41-104E72172DE7}" type="slidenum">
              <a:rPr b="0" lang="sr-Latn-C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86D4-6873-48AE-89F0-FBFF880A410E}" type="slidenum">
              <a:rPr b="0" lang="sr-Latn-C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9C17-CA8D-428B-A2D7-709FA14FA496}" type="slidenum">
              <a:rPr b="0" lang="sr-Latn-C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009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uni energije i maš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Tanka svijest o vlastitim mogućnost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ri biranju saradnika priklanjaju se svom pol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5000" spc="-1" strike="noStrike">
                <a:solidFill>
                  <a:srgbClr val="4e5b6f"/>
                </a:solidFill>
                <a:latin typeface="Calibri"/>
              </a:rPr>
              <a:t>FIZIČKI RAZVOJ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Rade na brzinu, žure 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Nemirni su i puni energi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otreban im je boravak va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Obim pažnje je ogranič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5000" spc="-1" strike="noStrike">
                <a:solidFill>
                  <a:srgbClr val="4e5b6f"/>
                </a:solidFill>
                <a:latin typeface="Calibri"/>
              </a:rPr>
              <a:t>SOCIJALNI RAZVOJ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Vole šalu, druželjubivi s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Vole da sarađuj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Često precjenjuju svoje moguć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Brzo odustaju ako pogriješ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Vole da sarađuju sa drugarima istog p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5000" spc="-1" strike="noStrike">
                <a:solidFill>
                  <a:srgbClr val="4e5b6f"/>
                </a:solidFill>
                <a:latin typeface="Calibri"/>
              </a:rPr>
              <a:t>RAZVOJ GOVORA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ričljivi s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Slušaj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uni su ideja, vole da objašnjavaju svoje ide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retjeruju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Riječnik se ubrzano bog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5000" spc="-1" strike="noStrike">
                <a:solidFill>
                  <a:srgbClr val="4e5b6f"/>
                </a:solidFill>
                <a:latin typeface="Calibri"/>
              </a:rPr>
              <a:t>SAVJETI ZA RODITELJE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uni su energije i moraju se negdje “izduvati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Pogodno vrijeme za savladavnje vještina ( sportovi, igre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Treba im podsticaj, jer odustaju kada naiđu na prepre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Zadaci i obaveze u kući trebaju biti kratki i jas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Slušajte ih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000000"/>
                </a:solidFill>
                <a:latin typeface="Constantia"/>
              </a:rPr>
              <a:t>Imaju potrebu da se igraju sa vršnjacima istog pola ( takmičarske “malo grublje” ig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08:04:05Z</dcterms:created>
  <dc:creator>OS Kozarska Djeca</dc:creator>
  <dc:description/>
  <dc:language>en-US</dc:language>
  <cp:lastModifiedBy>OS Kozarska Djeca</cp:lastModifiedBy>
  <dcterms:modified xsi:type="dcterms:W3CDTF">2017-10-09T10:59:49Z</dcterms:modified>
  <cp:revision>3</cp:revision>
  <dc:subject/>
  <dc:title>UZRASNE KARAKTERISTIKE OSMOGODIŠNJAKA</dc:title>
</cp:coreProperties>
</file>