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40.wmf" ContentType="image/x-wmf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1A0-9165-4028-B2DC-E0A8B23F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A3E-71C6-4AE5-880B-3DB13D0D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2ED-7380-4BD1-BEBE-C80AFD6F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799-FB0C-4ACC-AD8F-22BB4C76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C2B4-A10F-40D7-95DD-4D9719F5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4465-C3D2-4AD0-98B8-FCEC9287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2530-5994-419E-8A93-E28E082C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E1E6-BCC2-4E67-9A7D-7B677A9A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7E86-DB43-442C-A9E7-5B95FFBF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46E4-D82B-43D0-A845-6DBFC212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84AF-DF49-41A7-B6EA-CC12D1CD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91F-8453-421A-83A8-27FC499A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9192-48D3-4943-A83F-F42105B6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39AB-1003-41DE-92F1-6514526D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59BF-695A-4A87-B40C-D415D1B4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B1F6-F0C6-4C5B-9C1C-FDD3E2A9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B98F-ABA8-4BB2-BB75-8E90BD72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117-592D-475D-9DCF-B24EDDDB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D15-63A6-47D4-BFE7-93E4C679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CAA-9B86-4AF0-B115-52CD2370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D9C-4161-4960-8D02-66572301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85F-6CE7-4962-8C36-AD814AD9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F018-22F0-4C48-8765-DABBD54A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19E-C769-49E1-9F45-BCF39019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CD5A-BA22-47A4-8C9A-332777B5FF90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EDF9-9E35-414E-999F-9598DD29D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3" descr=""/>
          <p:cNvPicPr/>
          <p:nvPr/>
        </p:nvPicPr>
        <p:blipFill>
          <a:blip r:embed="rId2"/>
          <a:stretch/>
        </p:blipFill>
        <p:spPr>
          <a:xfrm>
            <a:off x="4522680" y="5619600"/>
            <a:ext cx="3737160" cy="107964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4" descr=""/>
          <p:cNvPicPr/>
          <p:nvPr/>
        </p:nvPicPr>
        <p:blipFill>
          <a:blip r:embed="rId3"/>
          <a:stretch/>
        </p:blipFill>
        <p:spPr>
          <a:xfrm>
            <a:off x="2041560" y="3121200"/>
            <a:ext cx="1824120" cy="107280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5" descr=""/>
          <p:cNvPicPr/>
          <p:nvPr/>
        </p:nvPicPr>
        <p:blipFill>
          <a:blip r:embed="rId4"/>
          <a:stretch/>
        </p:blipFill>
        <p:spPr>
          <a:xfrm>
            <a:off x="2011320" y="3975120"/>
            <a:ext cx="2043000" cy="107784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6" descr=""/>
          <p:cNvPicPr/>
          <p:nvPr/>
        </p:nvPicPr>
        <p:blipFill>
          <a:blip r:embed="rId5"/>
          <a:stretch/>
        </p:blipFill>
        <p:spPr>
          <a:xfrm>
            <a:off x="5321160" y="3962520"/>
            <a:ext cx="1079640" cy="206028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7" descr=""/>
          <p:cNvPicPr/>
          <p:nvPr/>
        </p:nvPicPr>
        <p:blipFill>
          <a:blip r:embed="rId6"/>
          <a:stretch/>
        </p:blipFill>
        <p:spPr>
          <a:xfrm>
            <a:off x="6095880" y="4479840"/>
            <a:ext cx="3084480" cy="107316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8" descr=""/>
          <p:cNvPicPr/>
          <p:nvPr/>
        </p:nvPicPr>
        <p:blipFill>
          <a:blip r:embed="rId7"/>
          <a:stretch/>
        </p:blipFill>
        <p:spPr>
          <a:xfrm>
            <a:off x="2041560" y="549360"/>
            <a:ext cx="1079640" cy="268128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9" descr=""/>
          <p:cNvPicPr/>
          <p:nvPr/>
        </p:nvPicPr>
        <p:blipFill>
          <a:blip r:embed="rId8"/>
          <a:stretch/>
        </p:blipFill>
        <p:spPr>
          <a:xfrm>
            <a:off x="4048200" y="476280"/>
            <a:ext cx="3133800" cy="107784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11" descr=""/>
          <p:cNvPicPr/>
          <p:nvPr/>
        </p:nvPicPr>
        <p:blipFill>
          <a:blip r:embed="rId9"/>
          <a:stretch/>
        </p:blipFill>
        <p:spPr>
          <a:xfrm>
            <a:off x="4492800" y="2871720"/>
            <a:ext cx="3011400" cy="107784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12" descr=""/>
          <p:cNvPicPr/>
          <p:nvPr/>
        </p:nvPicPr>
        <p:blipFill>
          <a:blip r:embed="rId10"/>
          <a:stretch/>
        </p:blipFill>
        <p:spPr>
          <a:xfrm>
            <a:off x="281160" y="4748040"/>
            <a:ext cx="4082760" cy="70200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14" descr=""/>
          <p:cNvPicPr/>
          <p:nvPr/>
        </p:nvPicPr>
        <p:blipFill>
          <a:blip r:embed="rId11"/>
          <a:stretch/>
        </p:blipFill>
        <p:spPr>
          <a:xfrm>
            <a:off x="3279600" y="1603440"/>
            <a:ext cx="3468960" cy="70164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16" descr=""/>
          <p:cNvPicPr/>
          <p:nvPr/>
        </p:nvPicPr>
        <p:blipFill>
          <a:blip r:embed="rId12"/>
          <a:stretch/>
        </p:blipFill>
        <p:spPr>
          <a:xfrm>
            <a:off x="1262160" y="1633680"/>
            <a:ext cx="749160" cy="302400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17" descr=""/>
          <p:cNvPicPr/>
          <p:nvPr/>
        </p:nvPicPr>
        <p:blipFill>
          <a:blip r:embed="rId13"/>
          <a:stretch/>
        </p:blipFill>
        <p:spPr>
          <a:xfrm>
            <a:off x="7815240" y="1444680"/>
            <a:ext cx="755640" cy="353520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18" descr=""/>
          <p:cNvPicPr/>
          <p:nvPr/>
        </p:nvPicPr>
        <p:blipFill>
          <a:blip r:embed="rId14"/>
          <a:stretch/>
        </p:blipFill>
        <p:spPr>
          <a:xfrm>
            <a:off x="2517840" y="2530440"/>
            <a:ext cx="2657520" cy="70632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19" descr=""/>
          <p:cNvPicPr/>
          <p:nvPr/>
        </p:nvPicPr>
        <p:blipFill>
          <a:blip r:embed="rId15"/>
          <a:stretch/>
        </p:blipFill>
        <p:spPr>
          <a:xfrm>
            <a:off x="4286160" y="2743200"/>
            <a:ext cx="743040" cy="368784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20" descr=""/>
          <p:cNvPicPr/>
          <p:nvPr/>
        </p:nvPicPr>
        <p:blipFill>
          <a:blip r:embed="rId16"/>
          <a:stretch/>
        </p:blipFill>
        <p:spPr>
          <a:xfrm>
            <a:off x="3529080" y="60480"/>
            <a:ext cx="750960" cy="168912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21" descr=""/>
          <p:cNvPicPr/>
          <p:nvPr/>
        </p:nvPicPr>
        <p:blipFill>
          <a:blip r:embed="rId17"/>
          <a:stretch/>
        </p:blipFill>
        <p:spPr>
          <a:xfrm>
            <a:off x="285840" y="201600"/>
            <a:ext cx="3414600" cy="67644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22" descr=""/>
          <p:cNvPicPr/>
          <p:nvPr/>
        </p:nvPicPr>
        <p:blipFill>
          <a:blip r:embed="rId18"/>
          <a:stretch/>
        </p:blipFill>
        <p:spPr>
          <a:xfrm>
            <a:off x="-6480" y="5419800"/>
            <a:ext cx="5969160" cy="68256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23" descr=""/>
          <p:cNvPicPr/>
          <p:nvPr/>
        </p:nvPicPr>
        <p:blipFill>
          <a:blip r:embed="rId19"/>
          <a:stretch/>
        </p:blipFill>
        <p:spPr>
          <a:xfrm>
            <a:off x="5065560" y="2103480"/>
            <a:ext cx="3084840" cy="70020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24" descr=""/>
          <p:cNvPicPr/>
          <p:nvPr/>
        </p:nvPicPr>
        <p:blipFill>
          <a:blip r:embed="rId20"/>
          <a:stretch/>
        </p:blipFill>
        <p:spPr>
          <a:xfrm>
            <a:off x="-60480" y="987480"/>
            <a:ext cx="2455920" cy="70164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25" descr=""/>
          <p:cNvPicPr/>
          <p:nvPr/>
        </p:nvPicPr>
        <p:blipFill>
          <a:blip r:embed="rId21"/>
          <a:stretch/>
        </p:blipFill>
        <p:spPr>
          <a:xfrm>
            <a:off x="469800" y="2610000"/>
            <a:ext cx="749520" cy="314460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26" descr=""/>
          <p:cNvPicPr/>
          <p:nvPr/>
        </p:nvPicPr>
        <p:blipFill>
          <a:blip r:embed="rId22"/>
          <a:stretch/>
        </p:blipFill>
        <p:spPr>
          <a:xfrm>
            <a:off x="5791320" y="1060560"/>
            <a:ext cx="3485880" cy="67140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27" descr=""/>
          <p:cNvPicPr/>
          <p:nvPr/>
        </p:nvPicPr>
        <p:blipFill>
          <a:blip r:embed="rId23"/>
          <a:stretch/>
        </p:blipFill>
        <p:spPr>
          <a:xfrm>
            <a:off x="2041560" y="6046920"/>
            <a:ext cx="5060880" cy="107928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28" descr=""/>
          <p:cNvPicPr/>
          <p:nvPr/>
        </p:nvPicPr>
        <p:blipFill>
          <a:blip r:embed="rId24"/>
          <a:stretch/>
        </p:blipFill>
        <p:spPr>
          <a:xfrm>
            <a:off x="5121360" y="3529080"/>
            <a:ext cx="2900160" cy="70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3" descr=""/>
          <p:cNvPicPr/>
          <p:nvPr/>
        </p:nvPicPr>
        <p:blipFill>
          <a:blip r:embed="rId1"/>
          <a:stretch/>
        </p:blipFill>
        <p:spPr>
          <a:xfrm>
            <a:off x="1066680" y="4468680"/>
            <a:ext cx="7034400" cy="1756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1590840" y="469800"/>
            <a:ext cx="2914560" cy="1968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Program Files\Microsoft Office\MEDIA\CAGCAT10\j0199549.wmf"/>
          <p:cNvPicPr/>
          <p:nvPr/>
        </p:nvPicPr>
        <p:blipFill>
          <a:blip r:embed="rId3"/>
          <a:stretch/>
        </p:blipFill>
        <p:spPr>
          <a:xfrm>
            <a:off x="4297320" y="560520"/>
            <a:ext cx="2524320" cy="1841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Program Files\Microsoft Office\MEDIA\CAGCAT10\j0240719.wmf"/>
          <p:cNvPicPr/>
          <p:nvPr/>
        </p:nvPicPr>
        <p:blipFill>
          <a:blip r:embed="rId4"/>
          <a:stretch/>
        </p:blipFill>
        <p:spPr>
          <a:xfrm>
            <a:off x="1706400" y="2352600"/>
            <a:ext cx="2584440" cy="183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Program Files\Microsoft Office\MEDIA\CAGCAT10\j0297551.wmf"/>
          <p:cNvPicPr/>
          <p:nvPr/>
        </p:nvPicPr>
        <p:blipFill>
          <a:blip r:embed="rId5"/>
          <a:stretch/>
        </p:blipFill>
        <p:spPr>
          <a:xfrm>
            <a:off x="3676680" y="1755720"/>
            <a:ext cx="1913040" cy="184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Program Files\Microsoft Office\MEDIA\CAGCAT10\j0240695.wmf"/>
          <p:cNvPicPr/>
          <p:nvPr/>
        </p:nvPicPr>
        <p:blipFill>
          <a:blip r:embed="rId6"/>
          <a:stretch/>
        </p:blipFill>
        <p:spPr>
          <a:xfrm>
            <a:off x="4979880" y="2432160"/>
            <a:ext cx="1762200" cy="155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433440" y="781200"/>
            <a:ext cx="8577360" cy="537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СОБИНЕ ЛИЧ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рте су релативно трајне и релативно опште особине личности одговорне за досљедност нашег понаша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су све особине личности подједнако добре за сва заним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агање особина са захтијевима посла = добро обављање пос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58920" y="333360"/>
          <a:ext cx="8785080" cy="5265720"/>
        </p:xfrm>
        <a:graphic>
          <a:graphicData uri="http://schemas.openxmlformats.org/drawingml/2006/table">
            <a:tbl>
              <a:tblPr/>
              <a:tblGrid>
                <a:gridCol w="2376360"/>
                <a:gridCol w="2170080"/>
                <a:gridCol w="2043000"/>
                <a:gridCol w="21956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алистичан 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ага, вјештина, координа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билан, стидљив, практич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дник на линији, механич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раживачки 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мишљање разумијевање истражива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дознао, независан, аналитич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ономиста, новинар, математич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јалан 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агање други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жељубив емпатич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јални радник, настав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венционалан 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д, прави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ктичан, ефикас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жбеник, рачуновођ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узетнички 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бално убјеђивање друг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бициозан, самопузд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вокат, суд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јетнички 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систематичност, креатив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актичанотвор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икар, писац, декора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Омогућавају лако и успјешно савладавање задата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пособности - захтјеви занимања 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али напор - добар резултат - осјећај задовољ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рсте способ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телектуал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омоторн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осензорн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телектуалне способ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8229600" cy="3774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рсте интелиген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лик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раперсонална интелиг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ност доживљавања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бално-лингвистичка интелиг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ворно изража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ичко-математичка интелиг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ност рада са апстрактним симбол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зуелно-просторна интелиг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ковно изражавање,цртање, моделир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јелесно-кинестетичка интелиг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ординација покр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ичко-ритмичка интелиг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познавање музичких изр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персонална интелиг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ност тимског рада и комуник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сихомоторне способ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4618080"/>
        </p:xfrm>
        <a:graphic>
          <a:graphicData uri="http://schemas.openxmlformats.org/drawingml/2006/table">
            <a:tbl>
              <a:tblPr/>
              <a:tblGrid>
                <a:gridCol w="3043080"/>
                <a:gridCol w="51865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рс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л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цизност контр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за и тачна моторна манипул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ординација покр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аглашеност покрета руку и н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сихомоторна оријенат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за и тачна процјена правца покр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ијеме реак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зина реагов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зина покрета ру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зо извођење покрета, без прециз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цјена контр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лагођавање промјенама у брзини и правцу реагов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нуелна спрет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јешто манипулисање крупним објект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ретност прстиј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и рад са ситним предмет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билност покрета руке и ша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цизност покрета уз минимум нап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ретност прстију и ша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зина којом преецизно радимо на подло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сихосензорне способ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валитет наше перцеп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i="1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области вида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– оштрина вида, разликовање боја, ширина видног по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области слуха – апсолутна осјетљивост уха на звуке различитих вис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тересовањ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ајно” знимање за одређену актив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 наставне предмете волиш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 школске активности највише волиш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 предмете најрадије никад не би уч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ојање хобија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3" descr=""/>
          <p:cNvPicPr/>
          <p:nvPr/>
        </p:nvPicPr>
        <p:blipFill>
          <a:blip r:embed="rId2"/>
          <a:stretch/>
        </p:blipFill>
        <p:spPr>
          <a:xfrm>
            <a:off x="1066680" y="2286000"/>
            <a:ext cx="7218360" cy="197496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4" descr=""/>
          <p:cNvPicPr/>
          <p:nvPr/>
        </p:nvPicPr>
        <p:blipFill>
          <a:blip r:embed="rId3"/>
          <a:stretch/>
        </p:blipFill>
        <p:spPr>
          <a:xfrm>
            <a:off x="1206360" y="2041560"/>
            <a:ext cx="7444080" cy="1933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риједнос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стем вриједности – шта је пожељно, корисно, чему тежим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и појединац различито рангује врије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крено сагледати “свој” систем врије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Шта се сматра важним у послу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сјећај сигур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Добра зарад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реативно изражавањ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акмичењ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сјећај независност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радња и подршка груп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огућност напредовањ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Флексибилно радно вријем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огућност путовањ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сјећај моћ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збјегавање велике одговорности ..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ахтјеви заним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ше воли рад са подацима или људим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дити сам или у груп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ар организатор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гућност пажљивог и стрпљивог слушањ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магање људим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ношење туђих грешак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дозналост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ако доношење одлук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зо и лако памћење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пољашњи факто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Content Placeholder 3" descr=""/>
          <p:cNvPicPr/>
          <p:nvPr/>
        </p:nvPicPr>
        <p:blipFill>
          <a:blip r:embed="rId1"/>
          <a:stretch/>
        </p:blipFill>
        <p:spPr>
          <a:xfrm>
            <a:off x="450720" y="1542960"/>
            <a:ext cx="8242560" cy="458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Неколико информација о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упис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 у средњу школ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10" descr="bd04912_"/>
          <p:cNvPicPr/>
          <p:nvPr/>
        </p:nvPicPr>
        <p:blipFill>
          <a:blip r:embed="rId1"/>
          <a:stretch/>
        </p:blipFill>
        <p:spPr>
          <a:xfrm>
            <a:off x="1835280" y="4714920"/>
            <a:ext cx="5616360" cy="1881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bd04912_"/>
          <p:cNvPicPr/>
          <p:nvPr/>
        </p:nvPicPr>
        <p:blipFill>
          <a:blip r:embed="rId2"/>
          <a:stretch/>
        </p:blipFill>
        <p:spPr>
          <a:xfrm>
            <a:off x="1828800" y="3852720"/>
            <a:ext cx="5626080" cy="274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55320" y="380520"/>
            <a:ext cx="253548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ња шко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 прва степени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авезне основне школ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Већ сад заједно са вашом дјецом треба да донесете одлуку шта је циљ уписа у средњу школ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 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аша дјеца запос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 након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завршене средње школ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 наставе школов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ле заврше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ње школе и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 прво заврше средњ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учну шко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 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ж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ставе школов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Ваша дје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иј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 завршене средње школе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имају жељу да се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по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л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 м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гу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да се опре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ијел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за средњу стручну школу, за трогодишњи или четворогодишњи образовни профи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иј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средње школе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желе да наставе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коловање, м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гу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да се одлуч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за четворогодишњи образовни профил у средњој стручној школи или за гимназ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400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нашем граду постоје три средњ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е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имназ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ГИМНАЗ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 средња шко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а пружа широ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ште образ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припрема учени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 даље школ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аје четири годи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едњ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струч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 и техничк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школ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Техничка 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Средње стручне школ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пособљавају за ра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носно за раз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ним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кол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њима трај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и или четири године овисно о занимањ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ГИМНАЗ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средња шко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а пружа широк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ште образов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 припрема ученик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 даље школов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је четири годи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Средње стручне школ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пособљавају за ра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носно за раз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нима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колов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 њима трај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и или четири године овисно о занимањ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ритерији на основу којих се утврђује редосљед кандид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шти успјех у шко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ебан успјех у основној школи из предмета значајних за занимање у одређеној стру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На чему се заснива професионална орјентациј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6" descr="profesionalna_orjentacija.jpg"/>
          <p:cNvPicPr/>
          <p:nvPr/>
        </p:nvPicPr>
        <p:blipFill>
          <a:blip r:embed="rId1"/>
          <a:stretch/>
        </p:blipFill>
        <p:spPr>
          <a:xfrm>
            <a:off x="857160" y="214308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643280" y="2356920"/>
            <a:ext cx="404352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Професионална орјентација ученика је поступак помоћу којег се појединци усмјеравају на она подручја рада која најбоље одговарају њиховим психофизичким способностима, особинама личности и друштвеним потребама у којима имају највише изгледа да успиј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пшти успје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сјечна средња оцјена у шестом разреду множи се са дв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сјечна средња оцјена у седмом разреду множи се са дв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сјечна средња оцјена у осмом разреду множи се са тр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сјечна средња оцјена у деветом разреду множи се са тр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 основу општег успјеха кандидат може да оствари највише 50 бод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начајни предм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 осмом разреду просјечна оцјена из предмета множи се са дв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 деветом разреду просјечна оцјена из предмета множи се са тр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 овом основу кандидат може да оствари највише 20 бод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428760" y="500040"/>
          <a:ext cx="8229600" cy="5726160"/>
        </p:xfrm>
        <a:graphic>
          <a:graphicData uri="http://schemas.openxmlformats.org/drawingml/2006/table">
            <a:tbl>
              <a:tblPr/>
              <a:tblGrid>
                <a:gridCol w="2757240"/>
                <a:gridCol w="547236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имназија-општи смј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пски језик, страни језик, математика, физика, х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љопривреда и прерада хра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пски језик, страни језик, хемија, биологија и инфор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умарство и обрада др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пски језик, математика, биологија, хемија и инфор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шинство и обрада мет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пски језик, страни језик, математика, физика, и инфор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ектротех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пски језик, страни језик, математика, физика, и инфор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ономија, право и туриз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пски језик, страни језик, математика, иторија и географ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оститељство и туриз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пски језик, страни језик, историја, географија и инфор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Title 3" descr=""/>
          <p:cNvPicPr/>
          <p:nvPr/>
        </p:nvPicPr>
        <p:blipFill>
          <a:blip r:embed="rId1"/>
          <a:stretch/>
        </p:blipFill>
        <p:spPr>
          <a:xfrm>
            <a:off x="682560" y="1762200"/>
            <a:ext cx="7785000" cy="184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900" spc="-1" strike="noStrike">
                <a:solidFill>
                  <a:srgbClr val="000000"/>
                </a:solidFill>
                <a:latin typeface="Calibri"/>
              </a:rPr>
              <a:t>Зашто је професионална орјентација потребна?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429000" y="4071960"/>
            <a:ext cx="221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Са аспекта организације  која запошљава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– доприноси смањењу ризика пословања и омогућава да послове обављају они од којих се може очекивати да ће их успјешно обавља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857160" y="4357800"/>
            <a:ext cx="214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Са аспекта појединца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– професионална орјентација доприноси већем задовољству поједи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5929200" y="443700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 аспекта потребе тржишта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– доводи до ниже стопе незапосле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7" descr=""/>
          <p:cNvPicPr/>
          <p:nvPr/>
        </p:nvPicPr>
        <p:blipFill>
          <a:blip r:embed="rId1"/>
          <a:stretch/>
        </p:blipFill>
        <p:spPr>
          <a:xfrm>
            <a:off x="774720" y="1378080"/>
            <a:ext cx="7534080" cy="27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ограм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професионалне оријентације у шк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Циљ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моћ у процјени својих склоности , интересовања , вриједности и способн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формисање о врстама средњих школа(подручја рада , занимања, описи посло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тивање професионалних интересовања учени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смјеравање ка избору занимања у складу са интересима, вриједностима и способност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Садржај програмских активности за учен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Радионица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„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Мој пут 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„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клоности , вриједности и способности “ – преда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„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коле и занимања „  – през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питивање професионалних интересовања уче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дионица „ Волио бих да будем ... требао бих да будем ..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вјетодавни рад – индивидуал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јете средњим школ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познавање са политиком уписа у средње шко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роблеми са којима се сусрећемо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179280" y="4143240"/>
            <a:ext cx="2514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Недовољна или погрешна информисаност један је од најчешћих проблема у избору будућег занимањ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6172200" y="4643280"/>
            <a:ext cx="266688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У анкети која је спроведена међу ученицима завршних разреда основних школа, знатно велики број ученика опредјели се за занимање које бирају сви други вршњаци нпр.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кономску шко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2987640" y="4429080"/>
            <a:ext cx="280836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скуства у раду указују на то да млади данас све више при избору занимања пажњу усмјеравају на углед занимања, а мање на саму природу посла, услове рада и могућност запошљавања, штокасније може условити умањену могућност запошљавања након школовањ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Diagram 10" descr=""/>
          <p:cNvPicPr/>
          <p:nvPr/>
        </p:nvPicPr>
        <p:blipFill>
          <a:blip r:embed="rId1"/>
          <a:stretch/>
        </p:blipFill>
        <p:spPr>
          <a:xfrm>
            <a:off x="1779480" y="847800"/>
            <a:ext cx="6108840" cy="317016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Arrow Connector 18"/>
          <p:cNvCxnSpPr/>
          <p:nvPr/>
        </p:nvCxnSpPr>
        <p:spPr>
          <a:xfrm flipH="1">
            <a:off x="785520" y="3357720"/>
            <a:ext cx="1286640" cy="1000800"/>
          </a:xfrm>
          <a:prstGeom prst="straightConnector1">
            <a:avLst/>
          </a:prstGeom>
          <a:ln w="9360">
            <a:solidFill>
              <a:srgbClr val="347fd8"/>
            </a:solidFill>
            <a:miter/>
            <a:tailEnd len="med" type="arrow" w="med"/>
          </a:ln>
        </p:spPr>
      </p:cxnSp>
      <p:cxnSp>
        <p:nvCxnSpPr>
          <p:cNvPr id="125" name="Straight Arrow Connector 20"/>
          <p:cNvCxnSpPr/>
          <p:nvPr/>
        </p:nvCxnSpPr>
        <p:spPr>
          <a:xfrm>
            <a:off x="5214960" y="3857400"/>
            <a:ext cx="2643840" cy="929160"/>
          </a:xfrm>
          <a:prstGeom prst="straightConnector1">
            <a:avLst/>
          </a:prstGeom>
          <a:ln w="9360">
            <a:solidFill>
              <a:srgbClr val="347fd8"/>
            </a:solidFill>
            <a:miter/>
            <a:tailEnd len="med" type="arrow" w="med"/>
          </a:ln>
        </p:spPr>
      </p:cxnSp>
      <p:cxnSp>
        <p:nvCxnSpPr>
          <p:cNvPr id="126" name="Straight Arrow Connector 22"/>
          <p:cNvCxnSpPr/>
          <p:nvPr/>
        </p:nvCxnSpPr>
        <p:spPr>
          <a:xfrm flipH="1">
            <a:off x="4785840" y="3357360"/>
            <a:ext cx="1215360" cy="1215000"/>
          </a:xfrm>
          <a:prstGeom prst="straightConnector1">
            <a:avLst/>
          </a:prstGeom>
          <a:ln w="9360">
            <a:solidFill>
              <a:srgbClr val="347fd8"/>
            </a:solidFill>
            <a:miter/>
            <a:tailEnd len="med" type="arrow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Како ублажавамо проблеме са којима се сусрећемо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357200"/>
            <a:ext cx="865980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 u="sng">
                <a:solidFill>
                  <a:srgbClr val="000000"/>
                </a:solidFill>
                <a:uFillTx/>
                <a:latin typeface="Calibri"/>
              </a:rPr>
              <a:t>Лоша информисанос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Усмјеравати младе да траже такве информације које ће им при доношењу одлуке о будућем занимању омогућити да поставе не само краткорочни циљ, већ и дугороч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Подстицати их да трагају за инфорамцијама са тржишта рада, захтјевима појединих занимања, условима образовања, могућностима стицања посебних знања и вјештина у оквиру одабраног занимања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 u="sng">
                <a:solidFill>
                  <a:srgbClr val="000000"/>
                </a:solidFill>
                <a:uFillTx/>
                <a:latin typeface="Calibri"/>
              </a:rPr>
              <a:t>Избор најпопуларнијег занимањ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Младе информишемо о потребама на тржишту рада, усмјеравамо их да размотре услове запошљавања или самозапошљавања у оквиру одабраног занимања, па тек након тога њихову пажњу усмјеравамо на углед занимањ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700" spc="-1" strike="noStrike" u="sng">
                <a:solidFill>
                  <a:srgbClr val="000000"/>
                </a:solidFill>
                <a:uFillTx/>
                <a:latin typeface="Calibri"/>
              </a:rPr>
              <a:t>Утицај вршњак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Подстичемо младе да размотре узроке поводљивости и спремности жртвовања сопстених жеља и способности у циљу “одржавања другарства”. Школовање траје четири године, а занимање које је средство прихода, бавит ћемо се наредних 30-40 годи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Најчешће стрампутице младих у избору заним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Diagram 6" descr=""/>
          <p:cNvPicPr/>
          <p:nvPr/>
        </p:nvPicPr>
        <p:blipFill>
          <a:blip r:embed="rId1"/>
          <a:stretch/>
        </p:blipFill>
        <p:spPr>
          <a:xfrm>
            <a:off x="281160" y="1189080"/>
            <a:ext cx="8508960" cy="534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7:25:40Z</dcterms:created>
  <dc:creator>ax</dc:creator>
  <dc:description/>
  <dc:language>en-US</dc:language>
  <cp:lastModifiedBy>OS Kozarska Djeca</cp:lastModifiedBy>
  <dcterms:modified xsi:type="dcterms:W3CDTF">2017-10-19T07:07:58Z</dcterms:modified>
  <cp:revision>51</cp:revision>
  <dc:subject/>
  <dc:title>Slide 1</dc:title>
</cp:coreProperties>
</file>