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7F7-03DA-4F69-BEEE-837F0D29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D8D-2092-4D86-A237-5CBBB936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87F-834B-43D8-808E-03BDDA7B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0CF-513B-4ABA-A136-18D4F536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1B13-B8DA-4CF0-9D74-9800B20B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9A66-9D2A-4AC6-88F2-3023A70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A5F3-C3BA-4183-8913-025FD273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39D5-AEB0-4F52-849B-B7FF1D45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E9BD-4ADF-4D21-B401-BA57AD1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2D8B-30BC-4C0A-9D54-56ADE44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AE74-3B17-4B22-B874-F1D8E412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23A-3822-4786-A596-8684B3A6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C7E6-8B1A-4B01-87A1-1289E1EB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58A1-6B8E-4C1C-BBFC-1AFE8A0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916C-8159-4E7B-8E23-CA4F2FD4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EC1D-4C87-4E7E-AAFA-6047955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52FF-B134-4272-B2DA-01DF385C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F94B-110C-4413-8B05-74847189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D0D6-EB92-4629-8003-2DE68D00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2210-AAAA-42C5-83B1-5288FABF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F3FE-B4C6-4307-9900-E103838C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58F9-7EFC-45A6-BE1F-0642B2D9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89B-BF9A-46F5-BE17-4B14D797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92AB-9031-4967-BDEF-21C1A2D4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C9CB-E4BB-49DE-AA25-61F3E643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BE79-B55F-4A52-8BFA-DF652EC4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6BD8-2141-4920-9F36-6F4448D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2205-FED9-4908-86CB-7B0D2DB4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74B2-FF64-4C42-BB89-7172B42A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5567-13AC-47BC-B7D4-9D2B4069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554C-F785-4349-B423-6C7E087A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869E-9F63-428C-9B91-F35F4FAA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9192-AB69-4F81-A991-2F027077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36C-9F49-4E7F-B6BE-F258DC10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86C5-9291-4BC4-B7CB-A64B476F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B9683-CA7D-4876-BECA-85D11308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9222-CDB5-4156-8106-A3872BE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EF5EA-8DB2-4632-BF78-12E28F95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CA349-37E1-408B-BFAB-3D8DC8B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4F97-68F1-46DD-85FC-A457A968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DDF1-190A-4281-952A-3B28B2E0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0415-5432-47E5-9D84-F18B4242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7FBE-103E-476F-8661-1C202DDA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6CC8D-90EA-4316-8124-FED5D9A3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DE8-601A-44A4-9DED-9DA93B44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20B5-B39E-48DA-9CAD-505B417D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DFE11-8501-4A1B-82AC-3DB4154E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079A6-DEDF-473E-8DF9-3E9F4456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D4BE-BA96-415E-B7DE-81C92BAC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47DA-0C71-49F6-8310-C4F29DB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E4395-8D23-43DF-A0EE-38B5E2B3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E8934-1AF0-4B5B-970C-F032C51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BE7D-4552-4870-9D42-B7211E4A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87EB-2E29-4295-B7E1-EBCC25A0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71E2F-1727-4B46-88C7-BABC3500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ADF-20FB-4748-9609-7D924229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7510-C37A-400B-AAA7-5F9D3E6F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CFC1-2BA0-46F0-A15E-F674D416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EEA0-023B-4A56-B45E-5CF4B971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B137-BC72-45C8-BF04-6CCA695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40F9-AC71-401F-A096-A4AE3B36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A3E3C-5CF0-4D70-9B3D-7E088176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8D1D2-476D-41B6-8953-44F7572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536BC-FBA8-46AE-9969-F98C699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1C2F6-0FE8-4BB6-9600-1FF8CE0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A805-3B1D-4D0D-AD86-18AEA994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40F-E067-47D2-A9D9-0685C95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2EE96-FDD0-43F7-A681-88E2F778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F15B-C756-4CB5-9DB6-FFBCB5F9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03F51-DE6F-4F3C-B530-81214AA3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F20E-F50E-42A8-ABA0-415468EE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2CD18-1C99-4E26-892D-9EABC49E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73B75-8323-4112-9C3F-7391B44A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E59A2-0A72-4451-9127-3667ED7A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9E051-F9C6-4996-B4E8-751C7F0A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8CEDD-9016-4E7E-83C0-B04AD18D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4230A-6580-42CA-ACFF-6E40A0D0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7DD-71CA-429F-A379-C4B80461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CDE8A-0F6F-40FB-B357-9A87349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AB02-9E49-4EE7-B370-7F51BB83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4F6BB-5298-4AE4-9B19-537907F0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A2BB4-2818-4E64-B77D-A4345801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4F61-F653-4424-93CE-6E725F5C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7CCB-2929-4696-9F3D-3A9EE506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26AC4-B62C-4CBD-B009-CF30E234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84C4-7D03-4216-BEE3-DADAFFD6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1918D-441B-4C9F-8526-3B844821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4504F-3B51-4B22-819D-16822CFD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CDE-9799-468C-A485-CBA8C83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1379D-FA1C-4CF2-A4F3-93B0A10C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525A8-8C0E-4B8F-9E1F-A5B220E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327F3-ECD5-4E43-9D1C-1D8CCC42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3FCD-220B-4097-9910-5E54B880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E5F76-D971-4225-8264-0329D01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2707-C73F-4F1F-8C94-3B13F724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EC1E2-9981-4A5D-85C5-96162914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68BA-E55D-40DC-B006-43D19237D4FC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A6E-63A4-41BA-935E-FE38EE6398CF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2D9-DEA0-4763-A333-8B15AB3FA8D9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3754-3501-4AE2-A8B2-4E495CE69686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A384-B007-4A33-89F9-5C00D91615D4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8576-E760-4C83-BACF-E7C2F6C1458F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4D3-04BF-44A0-BE60-449A9B594290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80D6-0786-4573-93E4-A56ACE98A991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99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Mrzovoljni i zabrinut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Bolno doživljavaju svaku povredu i uvred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Gfrickaju nokte , uvću kosu ...na taj način daju oduška vojoj napet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Bolje uče sam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Ništa im nije dovoljno dobro i praved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kreti su usklađeni, bolja koordinacija pokre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Isprobavaju svoje gran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Lako se zamaraj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Često se povređuj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ole takmičenj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Svjesni su se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Nestrpljivi, brižni i uznemire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Žale se na neprav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Uočavaju nedosljednost i nesavršenost odrasli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Često su namrgođeni i zlovolj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ole da pregovaraj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Opisuju i objašnjavaj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Zainteresovani su za igre riječi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nekad se vrate na “bebeći” gov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reuveličavaj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Ulaze u doba negativizma – “mrzim”, “ne mogu”, “kako da ne”, “ dosadno mi je”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Vrijedni su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Samokritič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Intelektualno radozna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Nestrpljivo “tragaju” za objašnjenjima – npr.zašto se nešto desi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nosni su na obavljeni zadata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klanjaju pažnju detalji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Često mijenjaju interesovanj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Budite strpljivi i pažljivi prema nji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Redovno sarađujte sa učiteljki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Ne žurite sa kritikama i kazn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mozite im da odaberu knjige za čit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Ne štedite na pohval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mozite im u izboru hobij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kušajte da se dogovorite oko kućnih obavez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700" spc="-1" strike="noStrike">
                <a:solidFill>
                  <a:srgbClr val="000000"/>
                </a:solidFill>
                <a:latin typeface="Lucida Sans Unicode"/>
              </a:rPr>
              <a:t>Potrudite se da ispoštujete dogovo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08:15:16Z</dcterms:created>
  <dc:creator>OS Kozarska Djeca</dc:creator>
  <dc:description/>
  <dc:language>en-US</dc:language>
  <cp:lastModifiedBy>OS Kozarska Djeca</cp:lastModifiedBy>
  <dcterms:modified xsi:type="dcterms:W3CDTF">2017-10-09T10:57:51Z</dcterms:modified>
  <cp:revision>3</cp:revision>
  <dc:subject/>
  <dc:title>UZRASNE KARAKTERISTIKE DEVETOGODIŠNJAKA</dc:title>
</cp:coreProperties>
</file>