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1E2-10AC-4097-A70E-FB7FDB89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878-E385-4528-8368-2E55B632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D8B-63C5-4B62-9AF9-CC584675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E92-07EE-45CD-A080-341CA51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8A1-4A3F-4C6C-9F2E-9234B87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6F1-E932-4BC0-9AF7-177B9569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BDD-4E37-4CAD-88FB-9CE157B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EBB-89EA-499E-B816-04D992E0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720-1841-4B76-B553-8B5767D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889-BF24-48AE-B37C-D7DED72A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847-7363-427B-9394-C45240E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A11-1432-49BE-8BA8-00467A3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6EE-941F-4FA1-8CAA-91A669A0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9EC-1D51-4965-952F-9A6D9FD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E47A-BE23-4228-B724-EEA0DEF6439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0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9c4839"/>
                </a:solidFill>
                <a:latin typeface="Calibri"/>
              </a:rPr>
              <a:t>Uloga</a:t>
            </a:r>
            <a:r>
              <a:rPr b="0" lang="sr-BA" sz="4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4200" spc="-1" strike="noStrike">
                <a:solidFill>
                  <a:srgbClr val="9c4839"/>
                </a:solidFill>
                <a:latin typeface="Calibri"/>
              </a:rPr>
              <a:t>roditelja</a:t>
            </a:r>
            <a:r>
              <a:rPr b="0" lang="sr-BA" sz="4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4200" spc="-1" strike="noStrike">
                <a:solidFill>
                  <a:srgbClr val="9c4839"/>
                </a:solidFill>
                <a:latin typeface="Calibri"/>
              </a:rPr>
              <a:t>u</a:t>
            </a:r>
            <a:r>
              <a:rPr b="0" lang="sr-BA" sz="4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4200" spc="-1" strike="noStrike">
                <a:solidFill>
                  <a:srgbClr val="9c4839"/>
                </a:solidFill>
                <a:latin typeface="Calibri"/>
              </a:rPr>
              <a:t>radu</a:t>
            </a:r>
            <a:r>
              <a:rPr b="0" lang="sr-BA" sz="4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4200" spc="-1" strike="noStrike">
                <a:solidFill>
                  <a:srgbClr val="9c4839"/>
                </a:solidFill>
                <a:latin typeface="Calibri"/>
              </a:rPr>
              <a:t>ško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81280" y="2362320"/>
            <a:ext cx="5105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  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I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na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kraju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gdje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vidite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sebe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šta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očekujete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9c4839"/>
                </a:solidFill>
                <a:latin typeface="Calibri"/>
              </a:rPr>
              <a:t>od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0" lang="sr-Latn-BA" sz="3200" spc="-1" strike="noStrike">
                <a:solidFill>
                  <a:srgbClr val="9c4839"/>
                </a:solidFill>
                <a:latin typeface="Calibri"/>
              </a:rPr>
              <a:t>škole / nastavnika</a:t>
            </a: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nn\Desktop\psiholog\Microsoft Clip Organizer\j0439536.jpg"/>
          <p:cNvPicPr/>
          <p:nvPr/>
        </p:nvPicPr>
        <p:blipFill>
          <a:blip r:embed="rId1"/>
          <a:stretch/>
        </p:blipFill>
        <p:spPr>
          <a:xfrm>
            <a:off x="225360" y="298440"/>
            <a:ext cx="38959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3045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JECA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ČE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ONO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OŽIVLJAVAJU</a:t>
            </a:r>
            <a:br>
              <a:rPr sz="2000"/>
            </a:b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ritiko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s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va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asil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tuć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raho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i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brinuti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milošć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m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b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žalijeva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smijava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rami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ljubomoro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vist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ido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sjecaj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rivn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hrabriva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mopouzdanj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tolerancij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rpljenj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hvalam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ijeni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ihvaća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ljuba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obrava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olje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mog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b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izna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obr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ma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ilj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lje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elikodušnos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šten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avednošc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sto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stin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avd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igurnošc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jer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b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b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ijateljstvo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č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vijet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mjest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oje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godn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je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mirom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aš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ć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je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pokojn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čim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živ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aš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orothy La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No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Kad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onovno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og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odgajat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oj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rstim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upir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rstom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spravlj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jim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ez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uspostavlj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kinu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ogled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at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ac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ogled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jeg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obrinu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znam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ud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talo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š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zlet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ušt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zmajev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rest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zigravat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ozbiljnost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ozbiljno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gr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Trč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kroz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olj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led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zvijezd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rli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uk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R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trog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uno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u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tog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riznav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ajpri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u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radi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amopouzdan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kasni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kuću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oučaval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jubav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prem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oć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moć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jubavi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68580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KADA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BIH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ONOVO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OGLA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DGAJATI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1" lang="sr-BA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br>
              <a:rPr sz="1400"/>
            </a:br>
            <a:r>
              <a:rPr b="0" lang="sr-BA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ane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Looman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"Full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Esste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head"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1294920"/>
            <a:ext cx="6858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rod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v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juč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j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k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ji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t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živ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vako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kols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ob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„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e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brazovat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rod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dgajat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 -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ž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nog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akv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dje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eal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o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žnij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už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jete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ptimal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sl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zvo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Zašt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važn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uključen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itelj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brazovanj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jvažni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gajatel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jveć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govorn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vo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pred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n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zn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c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rak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iv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gocentriz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ramežljiv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št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ruštven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o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n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ras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b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no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jeloživotn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n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zo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ješavan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oble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aradnj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jedništv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ilja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č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jec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ak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stan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članovi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jednic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560" y="9144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spje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akog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kvi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egov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gućn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tencija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il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oj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e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eži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kvi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ruštve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enošen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nan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rijedn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la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enerac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ig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ć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ak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jedinc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i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smjere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spje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nik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juč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ažn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znav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egov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sobi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ak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lab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ra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tere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ebn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tre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eg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ičn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o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smjere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id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oditel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jvažni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artne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j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prav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oditel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o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jbol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znaj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ije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09680" y="259092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9c4839"/>
                </a:solidFill>
                <a:latin typeface="Calibri"/>
              </a:rPr>
              <a:t>   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U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čemu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se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ogleda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parnerstvo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roditelja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i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škole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,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kakvu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dobrobit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imaju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učenici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,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roditelji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, </a:t>
            </a:r>
            <a:r>
              <a:rPr b="1" lang="sr-Latn-CS" sz="3600" spc="-1" strike="noStrike">
                <a:solidFill>
                  <a:srgbClr val="9c4839"/>
                </a:solidFill>
                <a:latin typeface="Calibri"/>
              </a:rPr>
              <a:t>škola</a:t>
            </a:r>
            <a:r>
              <a:rPr b="1" lang="sr-BA" sz="3600" spc="-1" strike="noStrike">
                <a:solidFill>
                  <a:srgbClr val="9c4839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8440" y="755640"/>
            <a:ext cx="4432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4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če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varn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rediš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razovn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ce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n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i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iž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ol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n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dovn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spunjav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ave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ost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stav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vij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zitivn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ocijal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v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našanj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rijentaci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udućn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češć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ir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klad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i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pacitetim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akš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hvać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jes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d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lasti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dentit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mopoštov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mostaln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odic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rasl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k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govara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razi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šlje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ličiti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ski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ijelim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akš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epozn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dovoljav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eb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tre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4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roditel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ač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mopouzd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gurn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užan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moć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n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uć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ol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ormisan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n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ga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i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iž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zitivni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lik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či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stavnik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l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prino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valitetnij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d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tre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ol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važav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rh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oljitk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dršk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spunjavan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s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mo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umijevan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razovn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nog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čeku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rtner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dionic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sivn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matrač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sk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ivo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g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4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nastav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ro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b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n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i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sutn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m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varn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mo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ak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nos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ompetenci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razov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ač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fesionaln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ro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važav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ličito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od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jete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je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odic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biv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i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vezni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ješavan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blem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eškoć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ro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iz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br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ompromi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čem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ra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vnoprav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prječavajuć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ko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rustracije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iž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zitivni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lik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či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jihov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umijeva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ložen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ežin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svjetn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dnika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aj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tivirani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dovoljni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lom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tiž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eć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vjere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oditel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školu</a:t>
            </a:r>
            <a:r>
              <a:rPr b="0" lang="sr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6:37:47Z</dcterms:created>
  <dc:creator>nn</dc:creator>
  <dc:description/>
  <dc:language>en-US</dc:language>
  <cp:lastModifiedBy>OS Kozarska Djeca</cp:lastModifiedBy>
  <dcterms:modified xsi:type="dcterms:W3CDTF">2017-10-17T07:52:54Z</dcterms:modified>
  <cp:revision>29</cp:revision>
  <dc:subject/>
  <dc:title>PRESENTATION  NAME</dc:title>
</cp:coreProperties>
</file>