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AEF-DBBD-439F-A229-1A0637D5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2ED-88B5-494B-A320-CA767C6E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BF0-5711-4F6E-8D84-6D9FDC75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7C1-AB03-4DD2-9E16-A97B76D4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2253-8B8F-4FFA-941C-F5A1EF04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5C12-E3DF-4203-BAC8-3B855D28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7C1C-A0CF-40F2-AF4D-84DB81BB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9232-B5D7-4889-B1B5-E5803768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BF0C-DDF3-4422-97EF-F785A32A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DEA2-5F06-461B-BA11-C86C4949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4E4A-BDC4-49A1-ACEF-4737915D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4EB-A377-4A8A-B73D-4C81EFBE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396E-2E89-42C5-812D-76D66300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A888-6541-423E-9D34-A32BFBF5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08E5-8FE0-4211-9ED1-873D63E4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B435-E386-4A32-B609-251D93B6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2549-A808-4493-B8EF-778629E0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22DE1-E271-4DBD-93F4-7CED8835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42BF0-37F7-426F-A593-3904C62A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5378-7DE6-4A39-98B3-568EA61D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2C9F7-170C-42C6-B4B6-9356DF33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8CFA-0AB0-4322-8873-D0942278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7AD-9431-49C1-8B4F-A343662D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B2397-B84E-4786-B4B0-D2C084A1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761A8-FB28-48E3-A0F9-84321D91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9DF06-4253-4E71-9746-C890563F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016A5-01BB-4A0E-A89E-AA6A9C0F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5247A-6534-4B59-851A-DE4BE81B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45138-BFFC-4D2F-B3F2-C22CC391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6B41C-F4CC-4FA1-9431-0767F681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752-0D96-48C9-A6A4-CDCCA846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E6B-24F3-4A50-A48D-76A0595D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EBF3-E3BE-4557-9FF5-2473540C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45E-C064-4115-9635-74D8AA58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F8E-ABEA-45E0-A452-D0D4B4AB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C96-9268-426C-9DB5-2BDF05F0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prstGeom prst="pi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prstGeom prst="pi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dddddd"/>
                </a:solidFill>
                <a:latin typeface="AvantGarde Bk BT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dddddd"/>
                </a:solidFill>
                <a:latin typeface="AvantGarde Bk BT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vantGarde Bk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vantGarde Bk BT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3A36-86BE-4080-B2B7-3E9187B73A1F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vantGarde Bk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vantGarde Bk B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F30F-ADD0-491D-8D72-FF0BC31FC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6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107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08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09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10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11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12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13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14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15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16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17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18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19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20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21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22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23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24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  <p:sp>
            <p:nvSpPr>
              <p:cNvPr id="125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dddddd"/>
                  </a:solidFill>
                  <a:latin typeface="AvantGarde Bk BT"/>
                </a:endParaRPr>
              </a:p>
            </p:txBody>
          </p:sp>
        </p:grpSp>
        <p:sp>
          <p:nvSpPr>
            <p:cNvPr id="126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dddddd"/>
                </a:solidFill>
                <a:latin typeface="AvantGarde Bk BT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dddddd"/>
                </a:solidFill>
                <a:latin typeface="AvantGarde Bk BT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vantGarde Bk B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vantGarde Bk B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9D63-B6CA-4C9D-B1B6-0346201268C7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19836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Georgia"/>
              </a:rPr>
              <a:t>Kako pomoći djetetu u učenju i pisanju domaćih zadaća</a:t>
            </a:r>
            <a:endParaRPr b="0" lang="en-US" sz="48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7"/>
          <p:cNvSpPr/>
          <p:nvPr/>
        </p:nvSpPr>
        <p:spPr>
          <a:xfrm>
            <a:off x="1332000" y="4005360"/>
            <a:ext cx="4176720" cy="28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vantGarde Bk B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8728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mozite djetetu da nauči kvalitetno organizirati učenje. Svaki dan s njim</a:t>
            </a:r>
            <a:r>
              <a:rPr b="1" lang="hr-HR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egledajte bilježnice kako biste dobili uvid šta se radilo u školi. Zatim zajedno napravite plan za rješavanje domaće zadaće. Dijete koje sudjeluje u stvaranju svoga dnevnog rasporeda spremnije ga je i ostvariti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Danas ću: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Ručati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Napisati zadać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Učiti prirod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Pogledati film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Ponoviti prirod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5800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Organizovanju vremena pomažu i tablice u koje dijete svaki dan upisuje “+” kada je obavilo svoje dnevne obaveze. Na taj način, nakon sedam dana, dijete i roditelj imaju uvid u dnevnu rutinu djeteta te mogu zajedno osmišljavati bolju organizaciju vremena.</a:t>
            </a:r>
            <a:endParaRPr b="0" lang="en-US" sz="26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143000" y="2895480"/>
          <a:ext cx="7345440" cy="3740400"/>
        </p:xfrm>
        <a:graphic>
          <a:graphicData uri="http://schemas.openxmlformats.org/drawingml/2006/table">
            <a:tbl>
              <a:tblPr/>
              <a:tblGrid>
                <a:gridCol w="2314440"/>
                <a:gridCol w="1581120"/>
                <a:gridCol w="1365480"/>
                <a:gridCol w="208440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daća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itanje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atika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edjeljak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orak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ijeda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tvrtak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ak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ta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jelja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dddd"/>
                        </a:solidFill>
                        <a:latin typeface="AvantGarde Bk BT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73240" y="476280"/>
            <a:ext cx="766584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čite svoje dijete kako učiti. Formula koja se pokazala uspješnom i koju primjenjuju najuspješniji ljudi diljem svijeta glasi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očitaj letimično (starija djeca mogu pročitati samo uvod ili sažetak teksta kako bi stekla uvid u osnovnu ideju gradiva)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itaj (dijete postavlja pitanja o riječima ili cijelinama koje mu nisu jasne)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očitaj pažljiv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ocijeni što je bitno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epričaj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novi naučen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73240" y="228600"/>
            <a:ext cx="76658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Nikad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nemojte umjesto djeteta pročitati lekciju, zapisati ili mu prepričati sažetak i dati mu da to nauči. Najdragocijeniji je dio procesa učenja rad na razumijevanju gradiva i odvajanje bitnoga od nebitnog. Ako dijete uči po sažecima koje ste Vi napravili, učit će mehanički, gradivo će brzo zaboravljati, a kada mu učitelj postavi pitanje na drugačiji način nego Vi, neće znati odgovoriti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mogućite djetetu da uči i izvan kuće i škole. Uputite ga na slobodne aktivnosti, likovne radionice i dr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hvalite svaki djetetov uspjeh, a pogotovo trud i</a:t>
            </a:r>
            <a:r>
              <a:rPr b="1" lang="hr-HR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apredak. Važnije je da je dijete spremno uložiti napor da bi riješilo zadatak i da je napredovalo, nego kakvu je ocjenu dobilo. Ocjena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najviše zavisi o načinu učenj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, ali zavisi malo i o sreći, težini gradiva, kriteriju i raspoloženju učitelja i drugim faktorima nad kojima dijete nema kontrolu. Hoće li dijete izvršavati zadatke ili ne, i kako će to činiti, zavisi od njega, a mi smo tu da ga podstaknemo na to i da ga naučimo kako to treba činiti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8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173240" y="476280"/>
            <a:ext cx="76658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 zaboravite da djeca uče imitiranjem važnih ljudi, najčešće roditelja. Posmatrajući roditelje i učitelje, dijete uči šta cijeniti, kako se ponašati i šta raditi. Zato, ako roditelji čitaju, igraju edukativne igre, raspravljaju o raznim idejama, dogovaraju se i sl. i vrednuju znanje i djeca će činiti ist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98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82964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100" spc="-1" strike="noStrike">
                <a:solidFill>
                  <a:srgbClr val="ff0000"/>
                </a:solidFill>
                <a:latin typeface="Arial"/>
              </a:rPr>
              <a:t>Nekoliko tehnika koje pomažu u učenju:</a:t>
            </a:r>
            <a:endParaRPr b="0" lang="en-US" sz="31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836640"/>
            <a:ext cx="77724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Podcrtavanje bitnih činjenica, ideja ili detalja (pomozite djetetu da uči razlikovati bitne od nebitnih činjenica te da one bitne posebno označava kako bi ih lakše pamtilo).</a:t>
            </a:r>
            <a:endParaRPr b="0" lang="en-US" sz="27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Sastavljanje pitanja (kada dijete nauči postavljati pitanja iz sadržaja koji uči i odgovarati na njih, učenje će postati zabavnije i aktivnije, a dijete će razlikovati bitno od nebitnoga).</a:t>
            </a:r>
            <a:endParaRPr b="0" lang="en-US" sz="27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Sažimanje (dijete prepisuje samo bitne dijelove iz teksta).</a:t>
            </a:r>
            <a:endParaRPr b="0" lang="en-US" sz="27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Vođenje bilježaka (dijete svojim riječima prepričava sadržaj koji uči i na taj način poboljšava njegovo razumijevanje).</a:t>
            </a:r>
            <a:endParaRPr b="0" lang="en-US" sz="27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98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98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00"/>
                </a:solidFill>
                <a:latin typeface="Arial"/>
              </a:rPr>
              <a:t>Pomoć u pisanju domaćih zadaća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97" name="Picture 5" descr="line"/>
          <p:cNvPicPr/>
          <p:nvPr/>
        </p:nvPicPr>
        <p:blipFill>
          <a:blip r:embed="rId1"/>
          <a:stretch/>
        </p:blipFill>
        <p:spPr>
          <a:xfrm>
            <a:off x="3016080" y="3743280"/>
            <a:ext cx="4086360" cy="5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43000" y="152280"/>
            <a:ext cx="77724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isanje je domaćih zadaća, </a:t>
            </a:r>
            <a:r>
              <a:rPr b="1" lang="hr-HR" sz="2800" spc="-1" strike="noStrike">
                <a:solidFill>
                  <a:srgbClr val="ff5050"/>
                </a:solidFill>
                <a:latin typeface="Arial"/>
              </a:rPr>
              <a:t>čest uzrok neslaganju između djece i roditelja.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jeca tu aktivnost često ne vole i izbjegavaju je. Jako ih je važno, od početka školovanja, navikavati da je to njihova obveza i da je moraju redovito i kvalitetno izvršavati, pa i onda kada im se ne da. 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jetetu kojemu je to potrebno, svakako treba pomoći u pisanju domaćih zadaća, ali na način da mu se objasni ono što mu nije jasno, ukaže na pogreške i podstakne ga  da ih samo ispravi. </a:t>
            </a:r>
            <a:r>
              <a:rPr b="1" i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Nikako nemojte umjesto njega rješavati zadatke, jer mu time šaljete poruku da to ono samo ne može i navikavate ga da neko drugi radi umjesto njeg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98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98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73240" y="4568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ije nužno, a ni dobro, neprekidno sjediti uz dijete dok uči ili piše zadaću. Važno je da ono zna da ste mu na raspolaganju i da Vam se može obratiti za pomoć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mojte se nametati u onim zadacima u kojima to nije potrebno. Djetetu je ponekad potrebno samo pregledati zadaću kako biste mu pružili osjećaj sigurnosti da je dobro izvršilo svoje obavez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 zaboravite: kod djeteta treba razvijati stav da je ono odgovorno za izvršavanje svojih obaveza, a Vi ste odgovorni da mu po potrebi u tome i pomognete, ne i da to činite umjesto njeg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98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98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98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333000"/>
            <a:ext cx="7772400" cy="126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Pitanja koja roditelji obično postavljaju o učenju i pisanju domaćih zadaća: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71" name="Picture 4" descr="line"/>
          <p:cNvPicPr/>
          <p:nvPr/>
        </p:nvPicPr>
        <p:blipFill>
          <a:blip r:embed="rId1"/>
          <a:stretch/>
        </p:blipFill>
        <p:spPr>
          <a:xfrm rot="2663400">
            <a:off x="4787640" y="3762360"/>
            <a:ext cx="4157640" cy="550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59058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rebam li pomagati djetetu u pisanju zadaće?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rebam li učiti 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djetetom i do kojeg razreda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Zašto moje dijete nema više zadaće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Zašto moje dijete ima tako puno zadaće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reba li moje dijete učiti s prijateljima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9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228600"/>
            <a:ext cx="77724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Čemu služe domaće zadaće?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8789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Zadaća djetetu omogućava da ponovi i uvježba ono što je učilo u školi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se pripremi za sljedeći radni dan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detaljnije prouči sadržaj koji se obrađivao u školi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znanja iz različitih područja objedini u jednoj zadaći (npr. nekom sastavu ili projektu)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se nauči koristiti literaturom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se nauči samostalnosti u radu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stekne samodisciplinu i osjećaj odgovornosti.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Roditelji se kroz zadaću mogu upoznati sa školskim aktivnostima. Oni su svjesni većine ovih stvari.  Problem je što djeca nisu!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9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98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98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98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98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98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98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98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98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Koja je prava količina zadaće?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oličina zadaće treba zavisiti o djetetovoj dobi i sposobnostim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d 2.-4. razreda: do 20 minuta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d 5.-7. razreda: od 20 do 40 minuta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d 8.-9. razreda: do 2 sata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mojte mu zadavati dodatne zadaće, dovoljno ih je zadala učiteljica ili učitelj. Ono mora imati vremena i za igru i zabav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9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98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98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898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98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98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A sada još nekoliko savjeta...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ako biste izbjegli nesporazume s djetetom, i zakašnjele reakcije na loše ocjene na početku školske godine, dobro je dogovoriti se s njim kada će se pisati domaća zadaća (po dolasku iz škole, nakon ručka, nakon odmora, nakon slobodnih aktivnosti i sl.). Budite uporni u provođenju svoga dogovor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trebno je da dijete piše domaću zadaću i uči uvijek u isto vrijeme u danu. Tako troši manje vremena na pripremu za učenje. To mu omogućava da uvijek ima dovoljno vremena za pisanje domaće zadaće, ali i za igru i zabav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98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98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98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17324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avjetujte svomu djetetu da prvo rješava zadaću koja je najteža i najobimnij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abavite djetetu blokić u kojemu će pisati svoje obveze za sljedeći dan. Tako se može riješiti problem zaboravnosti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bro je biti u kontaktu s drugom djecom iz djetetova odjela i s njihovim roditeljima. Tako ćete moći povremeno provjeriti s drugima što dijete ima za zadać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gasite televizor i radio dok dijete piše zadać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A odmor?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 ZABORAVITE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a bi dijete uspješno učilo, treba se dobro osjećati. Gladno, umorno, žalosno i ljutito dijete pažnju usmjerava na “signale neugode” iz organizma i ne može se usmjeriti na učenj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Ako je dijete žalosno ili ljuto (dobilo je slabu ocjenu, posvađalo se s prijateljem i sl.) najprije popričajte s njim o onome što ga muči, dopustite mu barem pola sata da “izbaci” negativne emocije, a onda inzistirajte da se prihvati posl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9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98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98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98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17324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ada dođe iz škole, dijete se najprije treba odmoriti. Dok je u školi, ono sjedi nekoliko sati po 45 minuta. To je za njega napor i umara ga. Osim toga, u školi mora učiti i rješavati različite zadatke koji traže psihičko naprezanje. Mozak se umara dok radi, a i djetetovo tijelo, onda kad mora duže vremena sjediti. Odmoran mozak brže razumije i pamti, a umorno tijelo ometa mozak u njegovom rad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 nakon određenog vremena koje je provelo u rješavanju zadaće i učenju, svakom je djetetu potreban odmor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98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98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rijeme maksimalnog rada zavisi o uzrastu i osobinama djeteta. Posmatrajte ponašanje djeteta dok piše domaću zadaću ili uči. Kada se počne jače, nego obično, vrpoljiti  na stolici, okretati se na sve strane, zijevati, ljutiti se i griješiti, to je najbolji znak da treba napraviti pauzu, jer će u suprotnom učenje biti mučenj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 slučaju je psihičkog naprezanja, najbolji odmor onaj uz laganu fizičku aktivnost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98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98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0000"/>
                </a:solidFill>
                <a:latin typeface="Arial"/>
              </a:rPr>
              <a:t>Pomoć u učenju</a:t>
            </a: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74" name="Picture 5" descr="line"/>
          <p:cNvPicPr/>
          <p:nvPr/>
        </p:nvPicPr>
        <p:blipFill>
          <a:blip r:embed="rId1"/>
          <a:stretch/>
        </p:blipFill>
        <p:spPr>
          <a:xfrm>
            <a:off x="3016080" y="3743280"/>
            <a:ext cx="4086360" cy="5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Prostor za učenje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491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tručnjaci preporučuju da djeca uvijek uče i pišu zadaće na istom mjestu. Samo sjedenje na mjestu, na kojem je dijete naviklo učiti, stvara psihološku spremnost za rad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jesto za pisanje domaćih zadaća ne mora biti raskošno niti posebno uređeno. Ipak, posto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šte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preporuke o izgledu prostora za učenje i pisanje zadaća: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77" name="Picture 4" descr="ucenje za stolom"/>
          <p:cNvPicPr/>
          <p:nvPr/>
        </p:nvPicPr>
        <p:blipFill>
          <a:blip r:embed="rId1"/>
          <a:stretch/>
        </p:blipFill>
        <p:spPr>
          <a:xfrm>
            <a:off x="6300720" y="1981080"/>
            <a:ext cx="244152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bullet"/>
          <p:cNvPicPr/>
          <p:nvPr/>
        </p:nvPicPr>
        <p:blipFill>
          <a:blip r:embed="rId1"/>
          <a:stretch/>
        </p:blipFill>
        <p:spPr>
          <a:xfrm>
            <a:off x="4267080" y="228600"/>
            <a:ext cx="1938600" cy="7621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eka to bude dovoljno velika radna površina na koju će dopirati dovoljno svjetla. Svjetiljka neka bude smještena sa lijeve strane kod dešnjaka odnosno, sa desne kod ljevaka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vo mjesto ne treba biti samo prostor za pisanje zadaće, već i prostor na kojemu će Vaše dijete držati svoje knjige, pisaći pribor i druge potrepštine za školu (olovke, bojice, ljepilo, škare, spajalice, papiri)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 djecu mlađe dobi, prostor za pisanje zadaće i učenje može biti uređen i u prostoriji koju dijele i drugi ukućani, ali u tom slučaju djetetu, dok uči i radi, trebate osigurati mir i tišinu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16000" y="476280"/>
            <a:ext cx="7494480" cy="56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dealno je da se radni stol za nešto starije dijete nalazi u sobi djeteta jer se pisanjem zadaća i učenjem na odvojenom mjestu ono počinje osamostaljivati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bro je da se na stolu nalazi kalendar kako bi dijete lakše moglo organizovati vrijeme koje mu stoji na raspolaganju za učenje pojedinih predmet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a zid možete staviti pločicu na koju će dijete lijepiti razne papiriće-podsjetnik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5050"/>
                </a:solidFill>
                <a:latin typeface="Arial"/>
              </a:rPr>
              <a:t>Pomoć  u učenju</a:t>
            </a:r>
            <a:endParaRPr b="0" lang="en-US" sz="48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82" name="Picture 5" descr="line"/>
          <p:cNvPicPr/>
          <p:nvPr/>
        </p:nvPicPr>
        <p:blipFill>
          <a:blip r:embed="rId1"/>
          <a:stretch/>
        </p:blipFill>
        <p:spPr>
          <a:xfrm>
            <a:off x="3016080" y="3743280"/>
            <a:ext cx="4086360" cy="5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0000" y="456840"/>
            <a:ext cx="7974000" cy="6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Nekoliko “formula” za uspješno učenje: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bjasnite djetetu šta tačno očekujete od njega što se tiče učenja. Neka Vaša očekivanja budu dovoljno visoka, ali realna s obzirom na djetetove sposobnosti (npr. “Očekujem od tebe da redovno pišeš domaću zadaću.”)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bjasnite mu i zašto je to važno za njega i zašto je učenje korisno. Djeca, kao i odrasli ljudi, bolje i radije rade kada u tomu vide smisa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1430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ao i kod pisanja domaće zadaće, i u učenju je potrebna dnevna rutina. Dakle, dijete treba učiti uvijek u odprilike isto doba dana (nakon ručka, nakon odmora, i sl.). Time učenje postaje navika koja omogućava i lakše pamćenje materijal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5:09:32Z</dcterms:created>
  <dc:creator>Sanja&amp;Željka</dc:creator>
  <dc:description/>
  <dc:language>en-US</dc:language>
  <cp:lastModifiedBy>OS Kozarska Djeca</cp:lastModifiedBy>
  <dcterms:modified xsi:type="dcterms:W3CDTF">2017-10-11T08:17:09Z</dcterms:modified>
  <cp:revision>134</cp:revision>
  <dc:subject/>
  <dc:title>Pubertet i adolescencija</dc:title>
</cp:coreProperties>
</file>