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A0DC-D679-4173-82A0-F7C3A0A8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872-B08A-4E6B-8121-DA6F063C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1EA-6A04-4EE6-B8B1-841F246D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D7E-0100-4D3F-A844-E0141F1C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A509-4F87-4DFB-96D9-F387ADBD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EC7C-5D14-4960-90A4-8CDEFBC7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306F-2E1A-4974-8C4D-CC48E77D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6B6B-5D9B-4722-920D-98293D0C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DC5A-D4E5-4C38-8F1B-A6DC6B19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DFB7-85C8-498A-95E3-4ACBF74A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6E07-856C-4C93-9E01-A2CB6C59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176-6EEC-4EE9-9030-6525FD3E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3D6B-5F41-4860-B911-2FA96571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D600-BE9B-42DF-AA0C-DA87E720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985E-6FEA-41C7-A9C0-DF53C245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52F9-8BC5-42E3-AE77-CF35D488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7398-96B8-4DB6-9CA6-1D135BE4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7AE08-D3E4-4179-96A7-25BA2D28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92C98-F7B1-444D-906E-A6D61C1F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7082F-6AA3-443B-902E-CF68800E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F11D6-7731-4DBA-821D-7886214E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C728-4B40-447A-822B-EAF52828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ADD-12D4-4627-A35A-B0D7AA64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FDABE-1765-4AF7-A81D-47216953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510C0-7679-4C31-9CE6-697C9306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A7A0E-582B-4A99-A285-8F2743D2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AD77A-8043-45D7-AC08-EE3B515D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BEE37-5FB5-425C-82BD-BEDC23DF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FF8FD-C5DA-4C4F-9885-47AA3D47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7C92-0316-4939-AC67-3596109B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4CD93-7559-43A7-AECE-1AF8444F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01037-1552-49CE-8A85-8BD749A8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2EEDB-553D-43CE-8466-6C15667E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2EA3-2C9B-40E9-815D-5945537B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B2534-CFB7-428E-A9B6-4D03E1FA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F7682-E82D-4706-B90A-AEE49E93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2CACC-3733-4121-AB2A-E0FAAB7F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27CD2-9876-42BD-83F0-1BCD6F50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22E92-B04E-4DF0-B17B-20FA20ED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3F89E-60EF-43D5-A2A0-200C224F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8BDAC-207F-4CF3-BCE1-D8B5F479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B5379-3B52-40BF-948D-7907248E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A3D9F-223E-470D-98A7-763C6C9C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40A52-AAF9-4F70-9859-41DDC99D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B6E-297B-4BF2-B2D8-E4C6E408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0B35B-6358-404A-97F0-CAC7E039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08C84-60E5-4B23-80B1-F0C00C24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7F2B0-48F8-4980-8F44-A8AAB455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B3EC2-A043-47E4-9C07-2B823369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84172-FB5D-4C38-A5D6-CD8734DF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E8D13-8D18-4FD4-8DDB-DAD77826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D66B6-C624-414B-9A74-94B4F660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D3114-0E52-43D2-88C6-F5638565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1F44B-7058-4BFE-A64C-3E60C07E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80ED4-4E5B-4C7E-893D-76DCE1FC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F4B-314B-4C70-AFF4-80FA91D7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B9529-28C3-415E-AD4E-8255C776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FA067-E544-45D3-B5BE-04C34849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EC381-9D1B-4177-ABC4-DE367866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FCF56-6586-4EB6-9380-20F086B2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305A3-5F02-4FFB-AEA5-08F248C2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F6296-00F0-49A7-8DDE-C0952D18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5830A-ACD6-4E57-AC99-216D3B60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A31BA-7496-4669-8F9C-E2E7C062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B7E51-D085-4AB1-8717-D54B15E1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05ACE-DBAC-463D-B553-B08F99B6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F31-2D7C-4F8A-90E1-C2880997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7DF94-F40A-4A88-B633-7B7D8402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5C85D-E6E1-4A11-B75D-A7023B14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A8611-72B4-43DE-A036-B5B5C201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6AAAC-B00B-46FA-940B-26135A6A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DD4C7-8378-4E1E-A182-33C73832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BD256-7EAB-4781-B7F8-0ADE6377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CC030-ED5D-482F-83E5-6690EC20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FF224-AB6C-4FF2-8A37-3511C47D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82E61-802D-4F88-9A81-09D13BA3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A7AAD-0FE0-4326-A57F-82D69910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C30F-148E-40AC-B188-7141E463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8905C-EE03-4B81-896A-6EBE9842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E5890-9832-4AE9-B5E1-262B0DE8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E7D66-45EA-4A19-8ECA-E397E1B4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4CE7D-AD44-4E34-9747-BF7ACAC5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9A246-4C0E-499B-B1C6-19E2194C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00A-A7A7-4D58-8A24-2910BC41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5bc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8BD4-4A81-4ED8-85B8-4ED0EEB61761}" type="slidenum">
              <a:rPr b="0" lang="sr-Latn-CS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5bc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424E-3935-4FE4-AB9E-A83023E49B3C}" type="slidenum">
              <a:rPr b="0" lang="sr-Latn-CS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5bc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F57E-14AB-4DD5-8D00-D12EE686B709}" type="slidenum">
              <a:rPr b="0" lang="sr-Latn-CS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5bc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0FE9-642D-4EA6-AE77-3D123F336630}" type="slidenum">
              <a:rPr b="0" lang="sr-Latn-CS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5bc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2D04-EBB1-4772-9C35-D59A47956E73}" type="slidenum">
              <a:rPr b="0" lang="sr-Latn-CS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5bc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7514-FF2D-434D-8EE5-A17ABF3E3C90}" type="slidenum">
              <a:rPr b="0" lang="sr-Latn-CS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5bc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0455-D796-4CAB-8C39-DE684234EA96}" type="slidenum">
              <a:rPr b="0" lang="sr-Latn-CS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300" spc="-1" strike="noStrike">
                <a:solidFill>
                  <a:srgbClr val="006b8d"/>
                </a:solidFill>
                <a:latin typeface="Gill Sans MT"/>
              </a:rPr>
              <a:t>Prisutnost nasilja u školi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142880" y="4857480"/>
            <a:ext cx="362916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3e56"/>
                </a:solidFill>
                <a:latin typeface="Gill Sans MT"/>
              </a:rPr>
              <a:t>Rezultati istraživ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900" spc="-1" strike="noStrike">
                <a:solidFill>
                  <a:srgbClr val="006b8d"/>
                </a:solidFill>
                <a:latin typeface="Gill Sans MT"/>
              </a:rPr>
              <a:t>Kako učenici reaguju na doživljeno nasilje</a:t>
            </a:r>
            <a:endParaRPr b="0" lang="en-US" sz="39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Većina učenika se ne plaži da bi mogli biti žrtve nasilja u školi (64,4%)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Pri doživljaju nasilja najčešće su ljuti 27.1% i uplašeni 17%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Kada dožive nasilje učenici najčešće uzvrate na isti način (39.9%)ili traže pomoć odraslih (30%)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Postoji statistički značajna razlika u reakcijama na nasilje s obzirom na pol ispitanika- dječaci uzvraćaju (51.4%), a djevojčice traže pomoć (42.7%)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Tako</a:t>
            </a:r>
            <a:r>
              <a:rPr b="0" lang="vi-VN" sz="2500" spc="-1" strike="noStrike">
                <a:solidFill>
                  <a:srgbClr val="000000"/>
                </a:solidFill>
                <a:latin typeface="Tahoma"/>
              </a:rPr>
              <a:t>đ</a:t>
            </a: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e postoje statistički značajne razlike u reakcijama učenika na nasilje s obzirom na uzrast, naime učenici viših razreda u većem procentu uzvraćaju na isti način, dok učenici nižih razreda traže pomoć odraslih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300" spc="-1" strike="noStrike">
                <a:solidFill>
                  <a:srgbClr val="006b8d"/>
                </a:solidFill>
                <a:latin typeface="Gill Sans MT"/>
              </a:rPr>
              <a:t>Prijavljuju li učenici nasilje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37.6% učenika nikad , a 13.8%  rijetko,  dok 27.7% ispitanika uvijek obavijeste roditelje da su doživjeli nasilj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ostoji statistički značajna razlika me</a:t>
            </a:r>
            <a:r>
              <a:rPr b="0" lang="vi-VN" sz="3200" spc="-1" strike="noStrike">
                <a:solidFill>
                  <a:srgbClr val="000000"/>
                </a:solidFill>
                <a:latin typeface="Tahoma"/>
              </a:rPr>
              <a:t>đ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 učenicima o informisanju roditelja da su doživjeli nasilje, naime 48.6% dječaka nikada ne kaže roditeljima, a 39% djevojčica uvijek obavijesti roditelj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300" spc="-1" strike="noStrike">
                <a:solidFill>
                  <a:srgbClr val="006b8d"/>
                </a:solidFill>
                <a:latin typeface="Gill Sans MT"/>
              </a:rPr>
              <a:t>Reakcije roditelja na nasilje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Ukoliko su roditelji informisani o počinjenom nasilju najčešće , njih 62% - preduzmu mjere sa razrednikom u školi ( u većem procentu 72% roditelji djevojčica)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Veći procenat učenika (33%) nikad ne informiše razrednika o doživljenom nasilju, dok samo 20.7% učenika uvijek obavijesti razrednike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Doživljeno nasilje najčešće prećute učenici nižih razreda čak njih 50-56%, dok 30% odnosno 33% učenika sedmog/šestog razreda informiše razrednike o doživljenom nasilju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Informisanje razrednika se tako</a:t>
            </a:r>
            <a:r>
              <a:rPr b="0" lang="vi-VN" sz="2500" spc="-1" strike="noStrike">
                <a:solidFill>
                  <a:srgbClr val="000000"/>
                </a:solidFill>
                <a:latin typeface="Tahoma"/>
              </a:rPr>
              <a:t>đ</a:t>
            </a: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e razlikuje s obzirom na pol učenika (33.3% dječaci – nikad, a 25.6% djevojčica - uvijek)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300" spc="-1" strike="noStrike">
                <a:solidFill>
                  <a:srgbClr val="006b8d"/>
                </a:solidFill>
                <a:latin typeface="Gill Sans MT"/>
              </a:rPr>
              <a:t>Reakcije odjeljenjskih starješin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azredne starješine , ako su informisane o doživljenom nasilju, preduzimaju adekvatne mjere u školi, misli 64.9% učenik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eakcije razrednika se ne razlikuju s obzirom na uzrast i pol učen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sr-Latn-CS" sz="3900" spc="-1" strike="noStrike">
                <a:solidFill>
                  <a:srgbClr val="006b8d"/>
                </a:solidFill>
                <a:latin typeface="Gill Sans MT"/>
              </a:rPr>
              <a:t>CILJ</a:t>
            </a:r>
            <a:r>
              <a:rPr b="1" lang="sr-CS" sz="3900" spc="-1" strike="noStrike">
                <a:solidFill>
                  <a:srgbClr val="006b8d"/>
                </a:solidFill>
                <a:latin typeface="Corbel"/>
              </a:rPr>
              <a:t> </a:t>
            </a:r>
            <a:r>
              <a:rPr b="1" lang="sr-Latn-CS" sz="3900" spc="-1" strike="noStrike">
                <a:solidFill>
                  <a:srgbClr val="006b8d"/>
                </a:solidFill>
                <a:latin typeface="Gill Sans MT"/>
              </a:rPr>
              <a:t>ISTRAŽIVANJA</a:t>
            </a:r>
            <a:r>
              <a:rPr b="1" lang="sr-CS" sz="3900" spc="-1" strike="noStrike">
                <a:solidFill>
                  <a:srgbClr val="006b8d"/>
                </a:solidFill>
                <a:latin typeface="Corbel"/>
              </a:rPr>
              <a:t>:</a:t>
            </a:r>
            <a:br>
              <a:rPr sz="3900"/>
            </a:br>
            <a:r>
              <a:rPr b="0" lang="sr-CS" sz="3900" spc="-1" strike="noStrike">
                <a:solidFill>
                  <a:srgbClr val="006b8d"/>
                </a:solidFill>
                <a:latin typeface="Corbel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snovni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cilj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straživanj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je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bio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tvrditi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risutnost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blike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mjere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ankcionisanj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vršnjačkog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silj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školi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utem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straživanj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dobiti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odatke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ostojanju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silj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me</a:t>
            </a:r>
            <a:r>
              <a:rPr b="0" lang="vi-VN" sz="3200" spc="-1" strike="noStrike">
                <a:solidFill>
                  <a:srgbClr val="000000"/>
                </a:solidFill>
                <a:latin typeface="Tahoma"/>
              </a:rPr>
              <a:t>đ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vršnjacim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školi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koji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blici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silj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u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rem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mišljenju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čenik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jčešće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risutni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ko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u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jčešće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žrtve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silj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ko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očinioci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kao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tvrditi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mjere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kažnjavanj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očinioc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sr-Latn-CS" sz="3900" spc="-1" strike="noStrike">
                <a:solidFill>
                  <a:srgbClr val="006b8d"/>
                </a:solidFill>
                <a:latin typeface="Gill Sans MT"/>
              </a:rPr>
              <a:t>UZORAK</a:t>
            </a:r>
            <a:br>
              <a:rPr sz="3900"/>
            </a:br>
            <a:endParaRPr b="0" lang="en-US" sz="39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285560" y="12139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spitivanjem su obuhvaćeni učenici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snovne škole od četvrtog do dvetog razred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 Uzorak ispitanika je slučaja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kupno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188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spitan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Struktura uzor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285920" y="4071960"/>
          <a:ext cx="6524640" cy="741240"/>
        </p:xfrm>
        <a:graphic>
          <a:graphicData uri="http://schemas.openxmlformats.org/drawingml/2006/table">
            <a:tbl>
              <a:tblPr/>
              <a:tblGrid>
                <a:gridCol w="931680"/>
                <a:gridCol w="932040"/>
                <a:gridCol w="931680"/>
                <a:gridCol w="933480"/>
                <a:gridCol w="932040"/>
                <a:gridCol w="931680"/>
                <a:gridCol w="932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az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četvr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e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še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ed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os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eve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B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B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B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B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B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B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B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1643040" y="5214960"/>
          <a:ext cx="6095880" cy="741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uški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žen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B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B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B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900" spc="-1" strike="noStrike">
                <a:solidFill>
                  <a:srgbClr val="006b8d"/>
                </a:solidFill>
                <a:latin typeface="Gill Sans MT"/>
              </a:rPr>
              <a:t>Odnosi sa drugarima i informisanost o nasilju</a:t>
            </a:r>
            <a:endParaRPr b="0" lang="en-US" sz="39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Većina učenika se dobro slaže sa vršnjacima (95,2%) 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a drugarima se povremeno sva</a:t>
            </a: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đ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aju učenici petog razreda (12.5%). Nema statistički značajnih razlika u odnosima sa vršnjacima s obzirom na pol i uzrast učen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 pojavi vršnjačkog nasilja većina učenika je informisana 55,3%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300" spc="-1" strike="noStrike">
                <a:solidFill>
                  <a:srgbClr val="006b8d"/>
                </a:solidFill>
                <a:latin typeface="Gill Sans MT"/>
              </a:rPr>
              <a:t>Doživljaj nasilj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Gill Sans MT"/>
              </a:rPr>
              <a:t>Prema izjavi  učenika njih 51.1% nije doživjelo nasilje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Gill Sans MT"/>
              </a:rPr>
              <a:t>Učenici koji su doživjeli nasilje, bili su žrtve nasilja vršnjaka 21.3% i starijih učenika 14.9%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Gill Sans MT"/>
              </a:rPr>
              <a:t>Nasilje su u najvećem procentu doživjeli učenici šestog razreda ( 45.8% od vršnjaka i 20.8% od starijih učenika), dok su učenici četvrtog razreda najčešće nasilje doživjeli od starijih učenika 32 %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Gill Sans MT"/>
              </a:rPr>
              <a:t>Dječaci su u nešto većem procentu u odnosu na djevojčice doživjeli nasilje 21.9% - dječaci/19.5% djevojčice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300" spc="-1" strike="noStrike">
                <a:solidFill>
                  <a:srgbClr val="006b8d"/>
                </a:solidFill>
                <a:latin typeface="Gill Sans MT"/>
              </a:rPr>
              <a:t>Prisutnost nasilja u školi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silje nad drugom učenici najčešće vrše ako su izazvani ili iz zezanja 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(31.9%/ 26.1%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čenici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viših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azred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ešto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većem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rocentu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u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kloni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spoljavanju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silj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dnosu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čenike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ižih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azred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bzirom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ol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em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tatistički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značajnih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azlik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spoljavanju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silj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d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drugim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434960" y="785880"/>
            <a:ext cx="749952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Zlostavljanje me</a:t>
            </a:r>
            <a:r>
              <a:rPr b="0" lang="vi-VN" sz="2500" spc="-1" strike="noStrike">
                <a:solidFill>
                  <a:srgbClr val="000000"/>
                </a:solidFill>
                <a:latin typeface="Tahoma"/>
              </a:rPr>
              <a:t>đ</a:t>
            </a: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u vršnjacima u školi je prisutno</a:t>
            </a:r>
            <a:r>
              <a:rPr b="0" lang="sr-CS" sz="2500" spc="-1" strike="noStrike">
                <a:solidFill>
                  <a:srgbClr val="000000"/>
                </a:solidFill>
                <a:latin typeface="Corbel"/>
              </a:rPr>
              <a:t> , </a:t>
            </a: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prema</a:t>
            </a:r>
            <a:r>
              <a:rPr b="0" lang="sr-C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mišljenju</a:t>
            </a:r>
            <a:r>
              <a:rPr b="0" lang="sr-C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učenika</a:t>
            </a:r>
            <a:r>
              <a:rPr b="0" lang="sr-CS" sz="2500" spc="-1" strike="noStrike">
                <a:solidFill>
                  <a:srgbClr val="000000"/>
                </a:solidFill>
                <a:latin typeface="Corbel"/>
              </a:rPr>
              <a:t> :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ponekad</a:t>
            </a:r>
            <a:r>
              <a:rPr b="0" lang="sr-CS" sz="2500" spc="-1" strike="noStrike">
                <a:solidFill>
                  <a:srgbClr val="000000"/>
                </a:solidFill>
                <a:latin typeface="Corbel"/>
              </a:rPr>
              <a:t> 42 %,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ne</a:t>
            </a:r>
            <a:r>
              <a:rPr b="0" lang="sr-C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znam</a:t>
            </a:r>
            <a:r>
              <a:rPr b="0" lang="sr-CS" sz="2500" spc="-1" strike="noStrike">
                <a:solidFill>
                  <a:srgbClr val="000000"/>
                </a:solidFill>
                <a:latin typeface="Corbel"/>
              </a:rPr>
              <a:t> 22%,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često</a:t>
            </a:r>
            <a:r>
              <a:rPr b="0" lang="sr-CS" sz="2500" spc="-1" strike="noStrike">
                <a:solidFill>
                  <a:srgbClr val="000000"/>
                </a:solidFill>
                <a:latin typeface="Corbel"/>
              </a:rPr>
              <a:t> 19.1%,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nikad</a:t>
            </a:r>
            <a:r>
              <a:rPr b="0" lang="sr-CS" sz="2500" spc="-1" strike="noStrike">
                <a:solidFill>
                  <a:srgbClr val="000000"/>
                </a:solidFill>
                <a:latin typeface="Corbel"/>
              </a:rPr>
              <a:t> 16%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Postoji</a:t>
            </a:r>
            <a:r>
              <a:rPr b="0" lang="sr-C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statistički</a:t>
            </a:r>
            <a:r>
              <a:rPr b="0" lang="sr-C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značajna</a:t>
            </a:r>
            <a:r>
              <a:rPr b="0" lang="sr-C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razlika</a:t>
            </a:r>
            <a:r>
              <a:rPr b="0" lang="sr-CS" sz="25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između</a:t>
            </a:r>
            <a:r>
              <a:rPr b="0" lang="sr-C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mišljenja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učenika o prisutnosti vršnjačkog nasilja u školi s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obzirom na uzrast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Prema mišljenju učenika viših razreda nasilje je u školi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ponekad </a:t>
            </a:r>
            <a:r>
              <a:rPr b="0" lang="sr-CS" sz="2500" spc="-1" strike="noStrike">
                <a:solidFill>
                  <a:srgbClr val="000000"/>
                </a:solidFill>
                <a:latin typeface="Corbel"/>
              </a:rPr>
              <a:t>(45.8%-53%) </a:t>
            </a: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prisutno , dok veći procenat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učenika  nižih razreda navodi da nasilje nije prisutno u školi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orbel"/>
              </a:rPr>
              <a:t>(44%)</a:t>
            </a:r>
            <a:r>
              <a:rPr b="0" lang="sr-Latn-CS" sz="25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300" spc="-1" strike="noStrike">
                <a:solidFill>
                  <a:srgbClr val="006b8d"/>
                </a:solidFill>
                <a:latin typeface="Gill Sans MT"/>
              </a:rPr>
              <a:t>Reakcije učenika na nasilje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Pojavu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nasilja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me</a:t>
            </a:r>
            <a:r>
              <a:rPr b="0" lang="vi-VN" sz="3000" spc="-1" strike="noStrike">
                <a:solidFill>
                  <a:srgbClr val="000000"/>
                </a:solidFill>
                <a:latin typeface="Tahoma"/>
              </a:rPr>
              <a:t>đ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vršnjacima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učenici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ponekad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ili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gotvo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uvijek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pokušavaju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zaustaviti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(24.5%</a:t>
            </a:r>
            <a:r>
              <a:rPr b="0" lang="sr-Latn-BA" sz="3000" spc="-1" strike="noStrike">
                <a:solidFill>
                  <a:srgbClr val="000000"/>
                </a:solidFill>
                <a:latin typeface="Gill Sans MT"/>
              </a:rPr>
              <a:t> ili 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28.7%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Kada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vide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nasilje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većina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učenika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42.0%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prijavi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dežurnom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nastavniku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ili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brani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žrtvu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38.8%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Dječaci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češće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brane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žrtvu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djevojčice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nasilje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prijavljuju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dežurnom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nastavniku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Žrtvu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nasilja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češće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brane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učenici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devetog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četvrtog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razreda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dok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učenici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ostalih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razreda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obavijeste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dežurnog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nastavnika</a:t>
            </a:r>
            <a:r>
              <a:rPr b="0" lang="sr-CS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300" spc="-1" strike="noStrike">
                <a:solidFill>
                  <a:srgbClr val="006b8d"/>
                </a:solidFill>
                <a:latin typeface="Gill Sans MT"/>
              </a:rPr>
              <a:t>Prisutni oblici nasilj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rem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mišljenju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čenik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školi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u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jviše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ristni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blici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silja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fizičko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36%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emocionalno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20,7%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fizičko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ocijalno</a:t>
            </a: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16,4%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09:54:58Z</dcterms:created>
  <dc:creator>OS Kozarska Djeca</dc:creator>
  <dc:description/>
  <dc:language>en-US</dc:language>
  <cp:lastModifiedBy>OS Kozarska Djeca</cp:lastModifiedBy>
  <dcterms:modified xsi:type="dcterms:W3CDTF">2017-10-17T11:03:57Z</dcterms:modified>
  <cp:revision>7</cp:revision>
  <dc:subject/>
  <dc:title>Prisutnost nasilja u školi</dc:title>
</cp:coreProperties>
</file>