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C15A-C586-444C-AC5B-C7D8E9AE1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1C86-3CCC-40C3-9E67-59F1A824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9D03-0103-4643-975F-086D47DFC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3D8F-C094-4596-B7FF-97423A6B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E8DB-872D-4349-8012-ADAF65558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FD64-C86E-4F4D-9927-5A559371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AC99-D9AC-4C84-AECE-7AE15126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5FF5-BB5D-47B2-BC52-05D759AB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E3F7-608D-48B7-9D66-80826C5C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2361-C8DF-48D5-B026-1DEB9927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7A05-5D40-4DB9-862E-2333FCB2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4028-2F95-4E2A-B9B0-A2B741BD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0C45-BC7A-459B-ABF7-1AE5CDC1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59F0-EF85-4FC5-9AFF-96442CFA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3BBD-CA68-4A45-97C6-A9BDB3E5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B189-B02F-4D92-81BC-C046956BE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A86A-8F75-4141-A19C-2808019E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B0EEB-96A1-457E-BBBB-37BDA223B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6C25D-EF89-49B6-8916-0D70C248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629B6-EBA3-4983-9D2A-963584E0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B3849-63CF-4F79-A9E8-1EC43B06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1E0D3-31C0-4DCC-9AF5-5F7CD58F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E35B-F49E-4502-80FB-43A4E6F8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C5753-5BEF-4C09-AD15-3C607F3C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26D3B-F36D-4CD2-88FF-16662807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69F33-1CB6-4E91-A5F1-E106B2FE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1DB11-29A9-4316-A095-149C0E26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89D1F-FD91-47D9-8D84-9B445B8B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EAB71-0F72-4130-80BD-6B0455687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D4D73-46F4-4E49-9CB6-61A6C70A6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B07BB-68B3-4391-B5C3-458BA2D83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302FF-3045-4643-950F-C6B42039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36954-FD00-483D-B365-5BBF5A3E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D06A-6D1B-45A2-8615-17542A22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B70F4-40F3-448B-886F-7841D65B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9A897-028F-4031-A3C1-B8185B39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E98ED-AC01-4602-8B9A-036EAE8F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71384-7739-45C7-8198-AD903BAA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F7316-73E5-424E-BAF6-AB9C634C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4D596-8BF1-4CD3-B385-70271BF8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49029-6E29-4159-9964-A1F3E353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971A8-CBDA-4EE4-8856-96A63A152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047EB-022B-4542-AB08-AC9B5B457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C0F1B-574D-48E3-B1BB-EFDF409CE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ED73-F1B7-4ED6-BB53-6FDAEA6A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9D73F-6B70-4AB1-9708-B2C20DA3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FDA9C-6B65-49F3-A72D-2EAF0D13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36F0C-4710-4DC1-BEDF-F5BFBD59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74EA4-E36C-4E3C-BEF0-EA355DCE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961ED-7DDC-4DEF-98A8-6DBFD102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04194-EDC1-4848-86CB-737059D8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6E8A1-C99A-4EDD-8083-0536AD4A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1516B-9B50-4FAF-B33D-3B0F9562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62145-74C4-43E2-9493-8D2AF7D4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3E75D-E42E-48EB-836A-4A14235A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D894-50C9-48F7-ADB3-BA9BDDE4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C7507-6004-4FB0-8E17-50B017738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0C888-A606-4398-B0D4-9830F3387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87AAC-3D96-4943-96E7-C142861F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B705A-8AD1-481A-B8BA-EBA7413E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9EF62-47C7-4D37-82B9-32A97C89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26709-14C7-4BC2-800E-8475F58E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59D4E-5824-4812-9DDE-C19DE11C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49A85-E56A-4AF2-B7B1-11183477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16927-B49F-473F-B933-6240304A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9E8D5-BFFC-4B1E-91F2-363DB191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6BE0-ACDD-4DC5-B03A-66742BA2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7FC39-D9B7-4710-82C5-042BFAC0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79EEF-67BC-49FC-9F60-1F045805E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9E591-38A4-47D2-8968-0DA716CAA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047EF-F78E-48FA-A424-0836C1A33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ACFE2-8016-4E58-8BE5-2C7E2F58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C378B-B2E0-41CD-9803-5AD1DF51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7DA65-D909-41E0-82DF-83CA5734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9FE97-C4B7-4089-B3BE-8E4F14A4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63580-60B1-4F27-A54C-F0F98CD3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AB9EE-C51B-44BA-9F49-96824A55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C8F6-3C33-4DA9-B8CA-2B009947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45AC2-579E-45CB-B029-6CC9F3A7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C5E30-FA32-4FCE-92F9-6E5305DB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AAA59-680C-4E36-BD38-6B0BDCAD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C7E44-061C-46DD-8D18-40F17A7A1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29534-A2BB-4990-A341-ADB5C129C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AE62-005D-4230-B345-B7795105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8f8f8">
              <a:alpha val="33000"/>
            </a:srgbClr>
          </a:solidFill>
          <a:ln cap="rnd" w="324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cecec"/>
            </a:solidFill>
            <a:miter/>
          </a:ln>
          <a:effectLst>
            <a:outerShdw dist="12600" dir="5400000" blurRad="0" rotWithShape="0">
              <a:srgbClr val="9a9a9a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6666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68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a9a9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53C7-2B29-442F-9DE7-B8BFEDE76562}" type="slidenum">
              <a:rPr b="0" lang="sr-Latn-CS" sz="1200" spc="-1" strike="noStrike">
                <a:solidFill>
                  <a:srgbClr val="9a9a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56565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8f8f8">
              <a:alpha val="33000"/>
            </a:srgbClr>
          </a:solidFill>
          <a:ln cap="rnd" w="324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cecec"/>
            </a:solidFill>
            <a:miter/>
          </a:ln>
          <a:effectLst>
            <a:outerShdw dist="12600" dir="5400000" blurRad="0" rotWithShape="0">
              <a:srgbClr val="9a9a9a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56565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e1307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6666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68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a9a9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62E8-9206-497D-AD4B-79EDA37F73D7}" type="slidenum">
              <a:rPr b="0" lang="sr-Latn-CS" sz="1200" spc="-1" strike="noStrike">
                <a:solidFill>
                  <a:srgbClr val="9a9a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56565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e1307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6666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68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a9a9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30AE-6DE0-45BF-B919-52B2C9426E91}" type="slidenum">
              <a:rPr b="0" lang="sr-Latn-CS" sz="1200" spc="-1" strike="noStrike">
                <a:solidFill>
                  <a:srgbClr val="9a9a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6666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68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a9a9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F6E3-5A92-4316-9309-98C4C5578A29}" type="slidenum">
              <a:rPr b="0" lang="sr-Latn-CS" sz="1200" spc="-1" strike="noStrike">
                <a:solidFill>
                  <a:srgbClr val="9a9a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56565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6666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68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a9a9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CB7D-C1A8-44E2-A6EC-036C915AFF50}" type="slidenum">
              <a:rPr b="0" lang="sr-Latn-CS" sz="1200" spc="-1" strike="noStrike">
                <a:solidFill>
                  <a:srgbClr val="9a9a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6666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68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a9a9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F58C-C8BF-45D6-8B8C-C49D2581C40D}" type="slidenum">
              <a:rPr b="0" lang="sr-Latn-CS" sz="1200" spc="-1" strike="noStrike">
                <a:solidFill>
                  <a:srgbClr val="9a9a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8c8c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2d2d2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6666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68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a9a9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E64B-1E5C-499C-A859-92C1FA18633B}" type="slidenum">
              <a:rPr b="0" lang="sr-Latn-CS" sz="1200" spc="-1" strike="noStrike">
                <a:solidFill>
                  <a:srgbClr val="9a9a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71400" y="164304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4300" spc="-1" strike="noStrike">
                <a:solidFill>
                  <a:srgbClr val="666666"/>
                </a:solidFill>
                <a:latin typeface="Gill Sans MT"/>
              </a:rPr>
              <a:t>UZRASNE KARAKTERISTIKE ČETRNAESTOGODIŠNJAKA</a:t>
            </a: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4300" spc="-1" strike="noStrike">
                <a:solidFill>
                  <a:srgbClr val="666666"/>
                </a:solidFill>
                <a:latin typeface="Gill Sans MT"/>
              </a:rPr>
              <a:t>“</a:t>
            </a:r>
            <a:r>
              <a:rPr b="0" lang="sr-Latn-BA" sz="4300" spc="-1" strike="noStrike">
                <a:solidFill>
                  <a:srgbClr val="666666"/>
                </a:solidFill>
                <a:latin typeface="Gill Sans MT"/>
              </a:rPr>
              <a:t>VRIJEDNE BUKADŽIJE”</a:t>
            </a: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Gill Sans MT"/>
              </a:rPr>
              <a:t>Dječaci “vise”pred ogledalima ; ulaze u puberte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Gill Sans MT"/>
              </a:rPr>
              <a:t>Počinju da se udaljavaju od roditelja i nastavn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Gill Sans MT"/>
              </a:rPr>
              <a:t>Izazivanje autoriteta odrasli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Gill Sans MT"/>
              </a:rPr>
              <a:t>Žele da bude po njihovom, da budu slobodn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4300" spc="-1" strike="noStrike">
                <a:solidFill>
                  <a:srgbClr val="666666"/>
                </a:solidFill>
                <a:latin typeface="Gill Sans MT"/>
              </a:rPr>
              <a:t>FIZIČKI RAZVOJ</a:t>
            </a: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3000" spc="-1" strike="noStrike">
                <a:solidFill>
                  <a:srgbClr val="000000"/>
                </a:solidFill>
                <a:latin typeface="Gill Sans MT"/>
              </a:rPr>
              <a:t>Energija na visokom nivou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3000" spc="-1" strike="noStrike">
                <a:solidFill>
                  <a:srgbClr val="000000"/>
                </a:solidFill>
                <a:latin typeface="Gill Sans MT"/>
              </a:rPr>
              <a:t>Bučni su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3000" spc="-1" strike="noStrike">
                <a:solidFill>
                  <a:srgbClr val="000000"/>
                </a:solidFill>
                <a:latin typeface="Gill Sans MT"/>
              </a:rPr>
              <a:t>Korištenej droge i alkohola može u velikoj mjeri uticati n azdravlj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3000" spc="-1" strike="noStrike">
                <a:solidFill>
                  <a:srgbClr val="000000"/>
                </a:solidFill>
                <a:latin typeface="Gill Sans MT"/>
              </a:rPr>
              <a:t>Djevojčice su skoro skroz razvijene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3000" spc="-1" strike="noStrike">
                <a:solidFill>
                  <a:srgbClr val="000000"/>
                </a:solidFill>
                <a:latin typeface="Gill Sans MT"/>
              </a:rPr>
              <a:t>Kod dječaka razvoj još traj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3000" spc="-1" strike="noStrike">
                <a:solidFill>
                  <a:srgbClr val="000000"/>
                </a:solidFill>
                <a:latin typeface="Gill Sans MT"/>
              </a:rPr>
              <a:t>Velika potreba za fizičkim vježbama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3000" spc="-1" strike="noStrike">
                <a:solidFill>
                  <a:srgbClr val="000000"/>
                </a:solidFill>
                <a:latin typeface="Gill Sans MT"/>
              </a:rPr>
              <a:t>Neprekidno jedu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3000" spc="-1" strike="noStrike">
                <a:solidFill>
                  <a:srgbClr val="000000"/>
                </a:solidFill>
                <a:latin typeface="Gill Sans MT"/>
              </a:rPr>
              <a:t>Ne sjede uspravno niti se drže “pravilno” u školskim klupama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4300" spc="-1" strike="noStrike">
                <a:solidFill>
                  <a:srgbClr val="666666"/>
                </a:solidFill>
                <a:latin typeface="Gill Sans MT"/>
              </a:rPr>
              <a:t>SOCIJALNI RAZVOJ</a:t>
            </a: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Gill Sans MT"/>
              </a:rPr>
              <a:t>Vole da budu veoma zaposlen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Gill Sans MT"/>
              </a:rPr>
              <a:t>Prilično se nazire odrasla osoba u nji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Gill Sans MT"/>
              </a:rPr>
              <a:t>Neprijatno im je da budu viđeni u društvu roditelj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Gill Sans MT"/>
              </a:rPr>
              <a:t>Smetaju im prigovori odrasli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Gill Sans MT"/>
              </a:rPr>
              <a:t>Kod kuće “gnjavatori”, a u školi zvijez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Gill Sans MT"/>
              </a:rPr>
              <a:t>Podlegnu uticaju vršnjaka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Gill Sans MT"/>
              </a:rPr>
              <a:t>Duhoviti i kreativn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4300" spc="-1" strike="noStrike">
                <a:solidFill>
                  <a:srgbClr val="666666"/>
                </a:solidFill>
                <a:latin typeface="Gill Sans MT"/>
              </a:rPr>
              <a:t>RAZVOJ GOVORA</a:t>
            </a: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Gill Sans MT"/>
              </a:rPr>
              <a:t>Žargon vršnja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Gill Sans MT"/>
              </a:rPr>
              <a:t>Učestvuju u grupnim rasprava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Gill Sans MT"/>
              </a:rPr>
              <a:t>Zanim ih značenje riječi, proširuju svoj riječni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4300" spc="-1" strike="noStrike">
                <a:solidFill>
                  <a:srgbClr val="666666"/>
                </a:solidFill>
                <a:latin typeface="Gill Sans MT"/>
              </a:rPr>
              <a:t>SAZNAJNI RAZVOJ</a:t>
            </a: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Gill Sans MT"/>
              </a:rPr>
              <a:t>Povećana sposobnost rasuđivanj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Gill Sans MT"/>
              </a:rPr>
              <a:t>Spremnost da priznaju grešku i isprave j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Gill Sans MT"/>
              </a:rPr>
              <a:t>Zanima ih tehnologij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Gill Sans MT"/>
              </a:rPr>
              <a:t>Uče u grupama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Gill Sans MT"/>
              </a:rPr>
              <a:t>Lako zapadaju u dosadu ( smaranje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Gill Sans MT"/>
              </a:rPr>
              <a:t>Vole da poprave svoj ra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4300" spc="-1" strike="noStrike">
                <a:solidFill>
                  <a:srgbClr val="666666"/>
                </a:solidFill>
                <a:latin typeface="Gill Sans MT"/>
              </a:rPr>
              <a:t>SAVJETI ZA RODITELJE</a:t>
            </a:r>
            <a:endParaRPr b="0" lang="en-US" sz="4300" spc="-1" strike="noStrike">
              <a:solidFill>
                <a:srgbClr val="666666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Gill Sans MT"/>
              </a:rPr>
              <a:t>Potrebni su vam : strpljenje, razumijevanje, dosljednost i istrajnos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sr-Latn-BA" sz="3200" spc="-1" strike="noStrike">
                <a:solidFill>
                  <a:srgbClr val="000000"/>
                </a:solidFill>
                <a:latin typeface="Gill Sans MT"/>
              </a:rPr>
              <a:t>Spustite loptu” pri pojavi svađa i sukob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Gill Sans MT"/>
              </a:rPr>
              <a:t>Žele da je sve po njihovom , a vi ne bi trebali ispunjavati sve njihove želj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Gill Sans MT"/>
              </a:rPr>
              <a:t>Željni svega što je “IN” , a nesvjesni posljedica , mogu donjeti katastrofalne odluk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9T09:10:27Z</dcterms:created>
  <dc:creator>OS Kozarska Djeca</dc:creator>
  <dc:description/>
  <dc:language>en-US</dc:language>
  <cp:lastModifiedBy>OS Kozarska Djeca</cp:lastModifiedBy>
  <dcterms:modified xsi:type="dcterms:W3CDTF">2017-10-09T09:43:25Z</dcterms:modified>
  <cp:revision>3</cp:revision>
  <dc:subject/>
  <dc:title>UZRASNE KARAKTERISTIKE ČETRNAESTOGODIŠNJAKA</dc:title>
</cp:coreProperties>
</file>