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789-9559-41E7-A74F-22366B7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965-E00F-4A5E-9F42-9FD71842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B9B-E018-4054-83AE-5CACBF48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E3D-3ED5-4834-888D-12176BBA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DC27-675B-4077-9796-035355FB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877-35BD-4DD7-8432-0699857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FC38-8C14-46F1-8595-7F91BE0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CE33-22EB-4695-A647-D101537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C88-8B14-41BA-8A74-805272D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0861-0A72-46DB-8450-DCE6A522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F19D-E034-4DE9-B515-687480C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ABC-070E-4EC4-8CE3-ED788D9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04E-9495-40D9-8B57-93664EFE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1034-F072-495C-8B08-114E530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865-4A24-435D-9618-4E11D018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D9E3-529F-479B-B2E9-BDCDA9B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5A5B-F8CA-4C22-9D0F-6A491C43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76E5-2298-401B-99C9-A2DE1F22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D4D1-BCC7-44FE-9F5A-C8A1591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E34C-AFBB-4914-AF41-75883E9C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59D0-0D0C-403E-8CB3-4387C06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808E-843B-44A5-8738-1A7F572B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27E-7546-45EE-9B6C-64A8B5B3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AF37-FA3A-4A0A-AA8B-6D4EF3AE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4070-359B-46B1-87EA-376FC88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85E8-DFD9-41FA-8B85-0898AAE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C251-E852-4BAA-9CA9-7961121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4393-E5EA-4CCA-A28B-A928A194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45C0-4AC6-4095-B037-D4149685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A73C-0A13-44A6-9525-76F2A07E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6F78-8B27-499A-B25D-D5F1E26B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2DC8-6FE3-44FE-869A-D878F9D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005C-99C9-432B-8198-7293152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9FB-4405-440E-9CB2-B8BA8794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475E-5403-4923-8DF2-5CDC85D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A7CC-FAC7-4393-B6CA-EF8C6B2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9CC1-3901-4641-B89F-2215092C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441B-723A-49F1-A5CB-C9BD122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54D1-13E0-4970-B05B-D20351A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2842-37AF-4169-BA8F-D819073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3D93-8D88-4C27-AB09-BFEF515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5FCE-6BBD-48FD-A38E-AF0FE06A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C556-92F6-4A21-B39E-EB7B50A2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4396-42AD-439C-B527-28786BDC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0B9-4DA2-4311-9382-D5CC10F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1278-E60F-41F7-B9CE-F799802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1CD5-69C7-4FB1-A434-CB4EF49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1079-6100-4610-BC4B-8148AFF3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B6D7-BF66-4EB3-8D55-C110C7B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1A0B7-B645-436D-B629-5C8AB9E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3BD7F-8426-4B64-9810-5C1786F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EDAB-A03B-4BD8-9980-29942A5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88B4-DF77-4E6D-A16D-B091568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A4CB-3CC0-4AC5-A16C-44DCD72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E7BF-2C66-4596-B5B5-DCD1F52E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017-12FF-400B-A012-3E34CA5D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D6D3-1560-4C6A-A3CD-A8B75093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64EB-EC45-49F3-B761-13446C6E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C4DD-F3DC-42D5-920C-D0220BDE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BE8AF-047D-4BFB-A8DE-EDAF6AF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AA95-B650-4CC3-BBDC-995AAF24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B36BE-F64A-4E76-A0A6-9CE6B66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4924-C25D-44BA-BC6A-00C9B45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03CF-8EA9-40AF-91D8-7F99240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6EC1-0ADB-45AA-B106-D0AF054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820E0-47F4-4829-ABD8-872745E9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59F-130A-4818-AE7F-6EE1AEF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C4F9C-A17E-46B9-BF37-B04B0958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BC05-C80F-4BD7-B5A3-7CB2D1ED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013B-64D8-4F41-BBE7-896E1B13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812C-0EF2-4545-8BCB-72DF5B4D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9737-C742-40B0-A421-562CFF05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DC39D-E402-44CF-BB2D-183F80B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BDB6-3C2A-4078-9F8B-1864565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EEE2-FD75-4419-B64B-BD4D8376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0FAA-9F53-4B8F-BF73-6EB5E516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1AB4-60BA-4270-9012-752D423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7AB-2C4F-4336-AA27-E5F328F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C472-1B17-4087-B2AC-20601D0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6D32-8653-41B9-90E8-7147498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5E95-757F-4B46-826D-CF37E0E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04CF8-601B-4CF7-900F-5CE13289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CCEC-E092-4476-B594-066388C2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53B9B-A9CD-4571-8022-F1D0BBD7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9F3C-782D-4B9F-8671-5393911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7DE0-14C1-45CE-8C41-B448EEB4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A315-7C40-4882-B164-25D6A97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486F-3503-47C3-900A-D4B54CA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CD4-DC93-4043-8D78-4697550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3B7E1-8245-4071-B05A-F7F840C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7B78-73B5-4F67-9B8A-F036C12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1ABB8-9ADE-4B7F-8C4E-5307B26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12689-4BBE-4FFE-B3E4-26636E2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D5D9-AC28-4587-928E-36C4F692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B82C-4C1D-4331-B11B-EBBE7D78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346B-236F-4A2E-8D99-B17F6B4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C18-7D73-47CE-A90F-6C0A7598EBC2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3E8D-0FE9-4AE7-862E-0B74013867EC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1F8-3DDF-4B8B-A503-A136B18707E9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09F-BE83-498B-A590-594A8E48FF16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57AB-F7A0-4F06-907F-679CFFD3BFD6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47C0-D4DF-4952-BEBE-95E30D86C06F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F6D8-1B11-4431-BCC1-CE533AB9A34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E1A9-6118-4B48-9591-244F2FC73AE8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esto “crkavaju od dosade” ( povrijeđeni su žele da ih odrasli primjete i shvate kao mlade lju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Ulaze u svijet odrasli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OBA  - privatan pros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annastavne aktivnosti su jako važne , treba ih “nametnuti” jer smanjuju pojavu depresivnih faza, povučenosti , zaključavanja u svoju sobu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elika fizička energi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roblemi sa kož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95% djevojčica je dostiglo visinu odrasle djevojke ( većina je dobila menstruaciju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Kod dječaka dolazi do promjene glasa , rast u odnosu na djevojčice zaosta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Dječaci su nespretniji a djevojčice okretnij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Dugotrajno čitanje i umni rad mogu izazvati glavobolje i zam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Urednost se vidi na njima, ali ne i u njihovom prostoru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Ogledalo im je i najbolji i najgori prijatelj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Vole da se osame kod kuć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Često im drugi povrijede osjećanja, ali i oni znaju da povrijede tuđ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Kada su “zli” znači da su uplašeni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Preosjetljivi su , na ivici provale bije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Bliskost u prijateljstvu – važna je djevojčicam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Zainteresovanost za spor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Dječaci “dangube” u grupam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Podložni su pritisku vršnjaka (oblačenje, ponašanje..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Osnovna perokupacija – muzik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Humor uz dosta ironij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100" spc="-1" strike="noStrike">
                <a:solidFill>
                  <a:srgbClr val="000000"/>
                </a:solidFill>
                <a:latin typeface="Lucida Sans Unicode"/>
              </a:rPr>
              <a:t>Znaju biti prosti i grubi jedni prema drugim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a pitanja odraslih – kratki odgov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Govore “uličnim” jezik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Teške riječi povišenim tonov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Koriste prostačke izra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Oprezno pristupaju teškim intelektualnim zadacim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Žele da budu korisni drugima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Ispoljavaju zainteresovanost z apojedine predmete ( što najčešće zavfisi od predmetnog nastavnika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Boje se da vode dnevnik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Kratki, redovni domaći zadaci im pomažu u razvijanju radnih navik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Samokritični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Žele da vide svrhu učenja ( zašto nešto moraju da uč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Pripremite se na snažne i jake promjene raspoloženj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Imaće zahtjeve o pravima, ali im treba nametnuti i odgovornosti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Često se povlače u sebe i osjećaju se bezvrijedno – obratite pažnju ako to traje duži vremenski perio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Naučite ih da savjete ne traže od vršnjaka , već od va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Ne pokazujte pred djetetom nesigurnost i st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500" spc="-1" strike="noStrike">
                <a:solidFill>
                  <a:srgbClr val="000000"/>
                </a:solidFill>
                <a:latin typeface="Lucida Sans Unicode"/>
              </a:rPr>
              <a:t>Obratite pažnju na promjene u oblačenju , muzici koju sluša..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08:49:46Z</dcterms:created>
  <dc:creator>OS Kozarska Djeca</dc:creator>
  <dc:description/>
  <dc:language>en-US</dc:language>
  <cp:lastModifiedBy>OS Kozarska Djeca</cp:lastModifiedBy>
  <dcterms:modified xsi:type="dcterms:W3CDTF">2017-10-09T11:00:33Z</dcterms:modified>
  <cp:revision>4</cp:revision>
  <dc:subject/>
  <dc:title>UZRASNE KARAKTERISTIKE TRINAESTOGODIŠNJAKA</dc:title>
</cp:coreProperties>
</file>