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D15-126B-41F8-9082-ADD15046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605-1690-4396-BB21-2FBC441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6A0-F38E-4F8E-84FB-29639146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AE7-0D56-4B84-83FE-BE3294C8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ADEB-0A57-47C5-A32C-9A4823C6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5E86-E6CF-49E9-9270-84A02888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2F60-085C-45ED-961B-E07BF155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4FE8-B34C-4048-960B-53F19043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151C-CD15-454A-B7D3-33E1FDD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4E23-9ADB-4BA7-938F-801C6221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9140-98E2-42DD-9D9C-55767BA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33A-507A-4F86-BF60-5399983F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F595-88AF-4BC2-8E39-AAC508A2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1842-102F-48B4-B90D-2DE0A87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B772-33D6-4073-B046-29AC8934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2A9F-079E-423D-BA3B-4C9CDE13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570D-6D33-48ED-BFF3-7949B54C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C87B-7071-447D-9CAB-89A2CA89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2ABB-BEEA-435F-8A14-0BADF19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52DC-D1BA-40FA-88FC-E104FAA7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C79E-4909-4C7F-AA6F-ED4CA20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0F9F-D19D-4F2A-BF2A-29C1D23C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0E4-E827-4488-94FD-50B6DEB7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7A711-56D6-4E39-B044-A416AA9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0ABA-A7ED-4E29-9348-BCF8AF3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1EE1-B5C0-486E-BFB8-875C60E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C1A1-830F-4710-B0E0-1B084324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E0D4-9A6A-49A1-9D86-63971FD9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39F6-2CC5-46BA-8B36-50005430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2229-6CD7-44CD-A032-C2FD029F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9B19B-62FC-4257-AF2F-6D90FBDD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88BB-DE78-4BFD-92EE-7D7AB584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41C6-8C80-44A3-A7CE-599BB003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871-60E4-4799-AFAE-6A76368D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000D-0C89-4BE3-8FA3-9B85293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9F98-451C-43A5-BBF9-724E7E27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BCEE-9AD9-42FD-B8E5-4AE362B5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4C02-F3C6-4ED2-B482-984D908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DA237-D009-4FD6-ABB0-B3B3D2A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8E5E-2CDC-4FCC-8B79-2F88777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ED31-565A-4585-B4A1-FBCC5626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4DD3-EFE5-4917-976F-E6EEA98B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6721-0C33-407C-AFEB-E703674F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AA36-CA48-4741-8CDB-0D4765DC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12F-F3AE-43EC-895F-D3CA0F07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5C8B2-C07C-4A0A-B63D-9E1D31E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01771-D76F-4CF1-B967-178E7A22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31BA-A8A9-4A7E-8B35-C1F69C92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EC474-17C6-49CD-9E52-6603B5EB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741B-202A-4210-8839-9B7DFA5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41B1-5206-4385-83FD-1B82979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28E3-E360-467F-BAC1-1A98AA6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A3FF0-3543-4D22-8047-DF0864B7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17A86-6D91-407E-80F0-F74B0F6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3DAD-FC3E-4FCD-83FE-4A0504FF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2E8-031E-466C-81E6-E2E55D8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F0957-DCB9-4039-8F19-1226A5BB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5F38-A0A6-448F-8EA2-6A71AB96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D5B5-260C-4C32-B4EB-CB90F94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71BE-6229-4810-BA28-A07065E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EE972-206E-4CE4-A747-DD30EF49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9838A-11C5-4675-ABA7-2421773C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A35A-B3D8-477D-BD0F-78E8D1B0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D75B-5685-4FF9-B650-D4DCCBBB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C97BD-2780-4D56-B8DC-CFE8CCA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0E4F6-020A-4C36-8EAB-A7A5F6B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3CB-EC9D-4772-92F8-88700B6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7E6A-0F17-4496-8A40-90A679E3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73B42-F66F-4C51-BC95-F22B3308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240FC-1643-4654-A4A4-EC7807D9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443D-482D-4ABB-B3C8-7D19AAC0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5DA81-666F-476B-9895-4B7C709D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4501D-FD69-4D9E-8DC4-557290E7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F054-F299-42DF-AD57-B0E08A0B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CB9E4-634A-4302-9AA8-24140198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C723B-159B-48B1-A20B-EB88A774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01B20-CF5D-457B-95CF-59897611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03A-D076-47F9-AE61-4FBC6F8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B569E-3B36-42BF-8156-C105CBA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1346D-9C34-4D08-8E00-64C34667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82EB-0823-4C30-88EF-C600A22A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047A-EE21-4E4B-867B-FB2C8343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78107-C84A-40E1-86E4-902FB3CD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FE0-1125-43EE-AE20-6A1C795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B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CF78-20C5-429A-B640-D6798B09DB96}" type="slidenum">
              <a:rPr b="0" lang="sr-Latn-B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B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ABE8-E064-427A-8C22-0C0E28AE039C}" type="slidenum">
              <a:rPr b="0" lang="sr-Latn-B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B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1AF-CE62-4CF1-AAC9-A797FC8549C7}" type="slidenum">
              <a:rPr b="0" lang="sr-Latn-B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B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E5E-5279-4FDA-97F5-B465831A4FBB}" type="slidenum">
              <a:rPr b="0" lang="sr-Latn-B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B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B3C-B3B9-4E86-BF0D-2C89FAF94F13}" type="slidenum">
              <a:rPr b="0" lang="sr-Latn-B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B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ECEE-114D-4997-AC24-8803522F83A6}" type="slidenum">
              <a:rPr b="0" lang="sr-Latn-B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B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13CB-3DEA-4AF0-B240-37EF1D30AFD7}" type="slidenum">
              <a:rPr b="0" lang="sr-Latn-B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041560" y="1639800"/>
            <a:ext cx="6529320" cy="25113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637f26"/>
                </a:solidFill>
                <a:latin typeface="Gill Sans MT"/>
              </a:rPr>
              <a:t>Informa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Jednom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li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iše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ut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edmič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Termin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naprijed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dre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tvorenost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tavnik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ijalog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cim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jihovim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odi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irekt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ita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nteres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oditel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vrh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predov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tvar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ogućnost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odatnih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jašnje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vrh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boljša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avovremen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ješav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sporazu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moć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sob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o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jupućeni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t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dosta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bol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aće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predov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sključenost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rivog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enos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nformaci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sporazu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tvar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aradničkih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dnos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uodgovornost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drav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valitetn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drast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00"/>
                </a:solidFill>
                <a:latin typeface="Gill Sans MT"/>
              </a:rPr>
              <a:t>zA</a:t>
            </a:r>
            <a:r>
              <a:rPr b="0" lang="hr-HR" sz="43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ffff00"/>
                </a:solidFill>
                <a:latin typeface="Gill Sans MT"/>
              </a:rPr>
              <a:t>KRAJ</a:t>
            </a:r>
            <a:r>
              <a:rPr b="0" lang="hr-HR" sz="4300" spc="-1" strike="noStrike">
                <a:solidFill>
                  <a:srgbClr val="ffff00"/>
                </a:solidFill>
                <a:latin typeface="Gill Sans MT"/>
              </a:rPr>
              <a:t>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sustaj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državaj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edov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ontak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om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rati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ažnj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lastit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čekiva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hrabri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g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hvali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čak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al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spjeh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ritikuj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am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naš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jegov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ličnost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Hvalit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ože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naš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sobnost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/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ličnost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72314"/>
                </a:solidFill>
                <a:latin typeface="Comic Sans MS"/>
              </a:rPr>
              <a:t>ŠTA</a:t>
            </a:r>
            <a:r>
              <a:rPr b="0" lang="hr-HR" sz="2800" spc="-1" strike="noStrike">
                <a:solidFill>
                  <a:srgbClr val="572314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572314"/>
                </a:solidFill>
                <a:latin typeface="Comic Sans MS"/>
              </a:rPr>
              <a:t>SVAKO</a:t>
            </a:r>
            <a:r>
              <a:rPr b="0" lang="hr-HR" sz="2800" spc="-1" strike="noStrike">
                <a:solidFill>
                  <a:srgbClr val="572314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572314"/>
                </a:solidFill>
                <a:latin typeface="Comic Sans MS"/>
              </a:rPr>
              <a:t>DIJETE</a:t>
            </a:r>
            <a:r>
              <a:rPr b="0" lang="hr-HR" sz="2800" spc="-1" strike="noStrike">
                <a:solidFill>
                  <a:srgbClr val="572314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572314"/>
                </a:solidFill>
                <a:latin typeface="Comic Sans MS"/>
              </a:rPr>
              <a:t>TREB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Content Placeholder 3" descr="kids"/>
          <p:cNvPicPr/>
          <p:nvPr/>
        </p:nvPicPr>
        <p:blipFill>
          <a:blip r:embed="rId1"/>
          <a:stretch/>
        </p:blipFill>
        <p:spPr>
          <a:xfrm>
            <a:off x="3279600" y="239544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2d050"/>
                </a:solidFill>
                <a:latin typeface="Comic Sans MS"/>
              </a:rPr>
              <a:t>LJUBAV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sjetit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oljen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želj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kom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nač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izmjern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u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ljudim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al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og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t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ga</a:t>
            </a:r>
            <a:r>
              <a:rPr b="0" lang="vi-VN" sz="2800" spc="-1" strike="noStrike">
                <a:solidFill>
                  <a:srgbClr val="000000"/>
                </a:solidFill>
                <a:latin typeface="Comic Sans MS"/>
              </a:rPr>
              <a:t>đ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4" descr="love1"/>
          <p:cNvPicPr/>
          <p:nvPr/>
        </p:nvPicPr>
        <p:blipFill>
          <a:blip r:embed="rId1"/>
          <a:stretch/>
        </p:blipFill>
        <p:spPr>
          <a:xfrm>
            <a:off x="5843520" y="2641680"/>
            <a:ext cx="2524320" cy="2428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22223"/>
                </a:solidFill>
                <a:latin typeface="Comic Sans MS"/>
              </a:rPr>
              <a:t>SIGURNOST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6" name="Content Placeholder 4" descr="zagrljaj1"/>
          <p:cNvPicPr/>
          <p:nvPr/>
        </p:nvPicPr>
        <p:blipFill>
          <a:blip r:embed="rId1"/>
          <a:stretch/>
        </p:blipFill>
        <p:spPr>
          <a:xfrm>
            <a:off x="1568520" y="2427120"/>
            <a:ext cx="3390840" cy="2857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nat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m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igurn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jes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oditelj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vijek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vi-VN" sz="2800" spc="-1" strike="noStrike">
                <a:solidFill>
                  <a:srgbClr val="000000"/>
                </a:solidFill>
                <a:latin typeface="Comic Sans MS"/>
              </a:rPr>
              <a:t>đ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riz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toj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jest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dj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pa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p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plit dir="in" orient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NAKLONOST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jerovat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i</a:t>
            </a:r>
            <a:r>
              <a:rPr b="0" lang="vi-VN" sz="2800" spc="-1" strike="noStrike">
                <a:solidFill>
                  <a:srgbClr val="000000"/>
                </a:solidFill>
                <a:latin typeface="Comic Sans MS"/>
              </a:rPr>
              <a:t>đ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baš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akv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v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pa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vijek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bezuslov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vijek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hvaćen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d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dobra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Content Placeholder 4" descr="love2"/>
          <p:cNvPicPr/>
          <p:nvPr/>
        </p:nvPicPr>
        <p:blipFill>
          <a:blip r:embed="rId1"/>
          <a:stretch/>
        </p:blipFill>
        <p:spPr>
          <a:xfrm>
            <a:off x="5276880" y="24843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2d050"/>
                </a:solidFill>
                <a:latin typeface="Comic Sans MS"/>
              </a:rPr>
              <a:t>KONTROL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Content Placeholder 4" descr="roditelj i dijete 1"/>
          <p:cNvPicPr/>
          <p:nvPr/>
        </p:nvPicPr>
        <p:blipFill>
          <a:blip r:embed="rId1"/>
          <a:stretch/>
        </p:blipFill>
        <p:spPr>
          <a:xfrm>
            <a:off x="1434960" y="2484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zna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postoj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granic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šta</a:t>
            </a:r>
            <a:r>
              <a:rPr b="0" lang="sr-BA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opušte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mor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rža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tih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gran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nij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opušten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povrijedi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eb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rug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k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lju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b0f0"/>
                </a:solidFill>
                <a:latin typeface="Comic Sans MS"/>
              </a:rPr>
              <a:t>VOĐEN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t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jateljsk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moć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o</a:t>
            </a:r>
            <a:r>
              <a:rPr b="0" lang="vi-VN" sz="2800" spc="-1" strike="noStrike">
                <a:solidFill>
                  <a:srgbClr val="000000"/>
                </a:solidFill>
                <a:latin typeface="Comic Sans MS"/>
              </a:rPr>
              <a:t>đ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nj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našat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draslog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j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ojim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rom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kazuj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sit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rugi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Content Placeholder 4" descr="medo4"/>
          <p:cNvPicPr/>
          <p:nvPr/>
        </p:nvPicPr>
        <p:blipFill>
          <a:blip r:embed="rId1"/>
          <a:stretch/>
        </p:blipFill>
        <p:spPr>
          <a:xfrm>
            <a:off x="5276880" y="2930400"/>
            <a:ext cx="3657600" cy="18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030a0"/>
                </a:solidFill>
                <a:latin typeface="Comic Sans MS"/>
              </a:rPr>
              <a:t>NEZAVISNOST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8" name="Content Placeholder 4" descr="igra"/>
          <p:cNvPicPr/>
          <p:nvPr/>
        </p:nvPicPr>
        <p:blipFill>
          <a:blip r:embed="rId1"/>
          <a:stretch/>
        </p:blipFill>
        <p:spPr>
          <a:xfrm>
            <a:off x="1434960" y="2168640"/>
            <a:ext cx="3657600" cy="3375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na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ć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i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hrabren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kušajim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ovih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var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ć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i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držan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porim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dra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vjerenj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oj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posobnos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il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moodgovor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b050"/>
                </a:solidFill>
                <a:latin typeface="Gill Sans MT"/>
              </a:rPr>
              <a:t>Istraživanja</a:t>
            </a:r>
            <a:r>
              <a:rPr b="0" lang="hr-HR" sz="4300" spc="-1" strike="noStrike">
                <a:solidFill>
                  <a:srgbClr val="00b050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00b050"/>
                </a:solidFill>
                <a:latin typeface="Gill Sans MT"/>
              </a:rPr>
              <a:t>pokazuju</a:t>
            </a:r>
            <a:r>
              <a:rPr b="0" lang="hr-HR" sz="4300" spc="-1" strike="noStrike">
                <a:solidFill>
                  <a:srgbClr val="00b050"/>
                </a:solidFill>
                <a:latin typeface="Gill Sans MT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2214360"/>
            <a:ext cx="6400800" cy="3423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Prelazak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iz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razredne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u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predmetnu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nastavu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kod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izvjesnog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broj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učenik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izaziv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strah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,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nesigurnost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,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neugodu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i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stres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Razdoblje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predpuberte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Želj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z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samostalnošću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i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zavisnost</a:t>
            </a:r>
            <a:r>
              <a:rPr b="0" lang="sr-Latn-BA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o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odraslim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(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prvenstveno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roditeljim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i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nastavnicima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600" spc="-1" strike="noStrike">
                <a:solidFill>
                  <a:srgbClr val="00b0f0"/>
                </a:solidFill>
                <a:latin typeface="Corbel"/>
              </a:rPr>
              <a:t>4.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Važan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uticaj</a:t>
            </a:r>
            <a:r>
              <a:rPr b="0" lang="hr-HR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7030a0"/>
                </a:solidFill>
                <a:latin typeface="Gill Sans MT"/>
              </a:rPr>
              <a:t>vršnja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aae76"/>
                </a:solidFill>
                <a:latin typeface="Comic Sans MS"/>
              </a:rPr>
              <a:t>ZAŠTIT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osjeti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ć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g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čuva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povrije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đ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iv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ć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nek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bi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uz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njeg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kad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uoč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nepoznatim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zastrašujućim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ituacij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Content Placeholder 4" descr="happy-family"/>
          <p:cNvPicPr/>
          <p:nvPr/>
        </p:nvPicPr>
        <p:blipFill>
          <a:blip r:embed="rId1"/>
          <a:stretch/>
        </p:blipFill>
        <p:spPr>
          <a:xfrm>
            <a:off x="5276880" y="2494080"/>
            <a:ext cx="3657600" cy="2724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b050"/>
                </a:solidFill>
                <a:latin typeface="Comic Sans MS"/>
              </a:rPr>
              <a:t>VJER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4" name="Content Placeholder 4" descr="love3"/>
          <p:cNvPicPr/>
          <p:nvPr/>
        </p:nvPicPr>
        <p:blipFill>
          <a:blip r:embed="rId1"/>
          <a:stretch/>
        </p:blipFill>
        <p:spPr>
          <a:xfrm>
            <a:off x="1434960" y="202716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vak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dijet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treb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ima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kup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moralnih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tandard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kojim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ć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živje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vjeru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human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vrijednosti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ka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što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u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ljubaznost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hrabrost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poštenje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pravda</a:t>
            </a: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85960" y="642960"/>
            <a:ext cx="6672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Vama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i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Vašem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djetetu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našem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učeniku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želim</a:t>
            </a:r>
            <a:r>
              <a:rPr b="0" i="1" lang="sr-BA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srećan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i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uspješan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prelaz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u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predmetnu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sr-Latn-CS" sz="3600" spc="-1" strike="noStrike">
                <a:solidFill>
                  <a:srgbClr val="990099"/>
                </a:solidFill>
                <a:latin typeface="Comic Sans MS"/>
              </a:rPr>
              <a:t>nastavu</a:t>
            </a:r>
            <a:r>
              <a:rPr b="0" i="1" lang="hr-HR" sz="3600" spc="-1" strike="noStrike">
                <a:solidFill>
                  <a:srgbClr val="990099"/>
                </a:solidFill>
                <a:latin typeface="Comic Sans MS"/>
              </a:rPr>
              <a:t> !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r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b050"/>
                </a:solidFill>
                <a:latin typeface="Gill Sans MT"/>
              </a:rPr>
              <a:t>P</a:t>
            </a:r>
            <a:r>
              <a:rPr b="0" lang="sr-Latn-BA" sz="4300" spc="-1" strike="noStrike">
                <a:solidFill>
                  <a:srgbClr val="00b050"/>
                </a:solidFill>
                <a:latin typeface="Gill Sans MT"/>
              </a:rPr>
              <a:t>romjen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iješ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z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iš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zrednih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djelje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elazak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z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dručnih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atičn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iš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ofesora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tav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abinetska 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t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tarij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c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iš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už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boravak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459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aae76"/>
                </a:solidFill>
                <a:latin typeface="Gill Sans MT"/>
              </a:rPr>
              <a:t>DUŽI</a:t>
            </a:r>
            <a:r>
              <a:rPr b="0" lang="hr-HR" sz="3200" spc="-1" strike="noStrike">
                <a:solidFill>
                  <a:srgbClr val="faae76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faae76"/>
                </a:solidFill>
                <a:latin typeface="Gill Sans MT"/>
              </a:rPr>
              <a:t>BORAVAK</a:t>
            </a:r>
            <a:r>
              <a:rPr b="0" lang="hr-HR" sz="3200" spc="-1" strike="noStrike">
                <a:solidFill>
                  <a:srgbClr val="faae76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faae76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faae76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faae76"/>
                </a:solidFill>
                <a:latin typeface="Gill Sans MT"/>
              </a:rPr>
              <a:t>ŠKOLI</a:t>
            </a:r>
            <a:r>
              <a:rPr b="0" lang="hr-HR" sz="3200" spc="-1" strike="noStrike">
                <a:solidFill>
                  <a:srgbClr val="faae76"/>
                </a:solidFill>
                <a:latin typeface="Gill Sans MT"/>
              </a:rPr>
              <a:t>- </a:t>
            </a:r>
            <a:r>
              <a:rPr b="0" lang="sr-Latn-CS" sz="3200" spc="-1" strike="noStrike">
                <a:solidFill>
                  <a:srgbClr val="faae76"/>
                </a:solidFill>
                <a:latin typeface="Gill Sans MT"/>
              </a:rPr>
              <a:t>PUTOVANJE</a:t>
            </a:r>
            <a:r>
              <a:rPr b="0" lang="hr-HR" sz="3200" spc="-1" strike="noStrike">
                <a:solidFill>
                  <a:srgbClr val="faae76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faae76"/>
                </a:solidFill>
                <a:latin typeface="Gill Sans MT"/>
              </a:rPr>
              <a:t>DO</a:t>
            </a:r>
            <a:r>
              <a:rPr b="0" lang="hr-HR" sz="3200" spc="-1" strike="noStrike">
                <a:solidFill>
                  <a:srgbClr val="faae76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faae76"/>
                </a:solidFill>
                <a:latin typeface="Gill Sans MT"/>
              </a:rPr>
              <a:t>ŠKO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većan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bro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časo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pterećenost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opunskom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odatnom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tavom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ekcij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avil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naša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skom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autobus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c58d01"/>
                </a:solidFill>
                <a:latin typeface="Gill Sans MT"/>
              </a:rPr>
              <a:t>Više</a:t>
            </a:r>
            <a:r>
              <a:rPr b="0" lang="hr-HR" sz="4300" spc="-1" strike="noStrike">
                <a:solidFill>
                  <a:srgbClr val="c58d01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c58d01"/>
                </a:solidFill>
                <a:latin typeface="Gill Sans MT"/>
              </a:rPr>
              <a:t>uč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pecifič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teškoć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o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og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javit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labij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spjeh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j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nat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omje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tav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rem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j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kol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opš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ll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202560" y="427320"/>
            <a:ext cx="3821760" cy="8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Z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uspjeh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BA" sz="3900" spc="-1" strike="noStrike">
                <a:solidFill>
                  <a:srgbClr val="572314"/>
                </a:solidFill>
                <a:latin typeface="Corbel"/>
              </a:rPr>
              <a:t>6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razred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važan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je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odnos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9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7480440" cy="4449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e17b7c"/>
                </a:solidFill>
                <a:latin typeface="Gill Sans MT"/>
              </a:rPr>
              <a:t>Za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e17b7c"/>
                </a:solidFill>
                <a:latin typeface="Gill Sans MT"/>
              </a:rPr>
              <a:t>uspjeh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e17b7c"/>
                </a:solidFill>
                <a:latin typeface="Gill Sans MT"/>
              </a:rPr>
              <a:t>učenika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e17b7c"/>
                </a:solidFill>
                <a:latin typeface="Gill Sans MT"/>
              </a:rPr>
              <a:t>u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r>
              <a:rPr b="0" lang="sr-BA" sz="4300" spc="-1" strike="noStrike">
                <a:solidFill>
                  <a:srgbClr val="e17b7c"/>
                </a:solidFill>
                <a:latin typeface="Corbel"/>
              </a:rPr>
              <a:t>6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.</a:t>
            </a:r>
            <a:r>
              <a:rPr b="0" lang="sr-Latn-CS" sz="4300" spc="-1" strike="noStrike">
                <a:solidFill>
                  <a:srgbClr val="e17b7c"/>
                </a:solidFill>
                <a:latin typeface="Gill Sans MT"/>
              </a:rPr>
              <a:t>r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. </a:t>
            </a:r>
            <a:r>
              <a:rPr b="0" lang="sr-Latn-CS" sz="4300" spc="-1" strike="noStrike">
                <a:solidFill>
                  <a:srgbClr val="e17b7c"/>
                </a:solidFill>
                <a:latin typeface="Gill Sans MT"/>
              </a:rPr>
              <a:t>važne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e17b7c"/>
                </a:solidFill>
                <a:latin typeface="Gill Sans MT"/>
              </a:rPr>
              <a:t>su</a:t>
            </a:r>
            <a:r>
              <a:rPr b="0" lang="hr-HR" sz="4300" spc="-1" strike="noStrike">
                <a:solidFill>
                  <a:srgbClr val="e17b7c"/>
                </a:solidFill>
                <a:latin typeface="Gill Sans MT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ov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posobnos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na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ješti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svoje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tokom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zred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sta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otivisanost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z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d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vi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Gradiv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ož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učit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bez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edovnog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navlja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c00000"/>
                </a:solidFill>
                <a:latin typeface="Gill Sans MT"/>
              </a:rPr>
              <a:t>Roditelji</a:t>
            </a:r>
            <a:r>
              <a:rPr b="0" lang="hr-HR" sz="39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c00000"/>
                </a:solidFill>
                <a:latin typeface="Gill Sans MT"/>
              </a:rPr>
              <a:t>na</a:t>
            </a:r>
            <a:r>
              <a:rPr b="0" lang="hr-HR" sz="39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c00000"/>
                </a:solidFill>
                <a:latin typeface="Gill Sans MT"/>
              </a:rPr>
              <a:t>početku</a:t>
            </a:r>
            <a:r>
              <a:rPr b="0" lang="hr-HR" sz="39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sr-BA" sz="3900" spc="-1" strike="noStrike">
                <a:solidFill>
                  <a:srgbClr val="c00000"/>
                </a:solidFill>
                <a:latin typeface="Corbel"/>
              </a:rPr>
              <a:t>6</a:t>
            </a:r>
            <a:r>
              <a:rPr b="0" lang="hr-HR" sz="3900" spc="-1" strike="noStrike">
                <a:solidFill>
                  <a:srgbClr val="c00000"/>
                </a:solidFill>
                <a:latin typeface="Gill Sans MT"/>
              </a:rPr>
              <a:t>.</a:t>
            </a:r>
            <a:r>
              <a:rPr b="0" lang="sr-Latn-CS" sz="3900" spc="-1" strike="noStrike">
                <a:solidFill>
                  <a:srgbClr val="c00000"/>
                </a:solidFill>
                <a:latin typeface="Gill Sans MT"/>
              </a:rPr>
              <a:t>razreda</a:t>
            </a:r>
            <a:r>
              <a:rPr b="0" lang="hr-HR" sz="39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sr-Latn-CS" sz="3900" spc="-1" strike="noStrike">
                <a:solidFill>
                  <a:srgbClr val="c00000"/>
                </a:solidFill>
                <a:latin typeface="Gill Sans MT"/>
              </a:rPr>
              <a:t>trebaju</a:t>
            </a:r>
            <a:r>
              <a:rPr b="0" lang="hr-HR" sz="3900" spc="-1" strike="noStrike">
                <a:solidFill>
                  <a:srgbClr val="c00000"/>
                </a:solidFill>
                <a:latin typeface="Gill Sans MT"/>
              </a:rPr>
              <a:t> 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omoć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jetet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rganizovat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spored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a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rijem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lobodn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rije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ta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čin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ije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vikav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d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dre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en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vrijem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tvar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vik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osljednost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ad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edovno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nformisati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spjehu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Roditelj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</a:t>
            </a: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razredni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edovn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nformisa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spjeh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učenika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oditeljsk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Redovn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olažen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informac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isme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avijest</a:t>
            </a: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putem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štampanog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brasca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azneno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disciplinskim</a:t>
            </a:r>
            <a:r>
              <a:rPr b="0" lang="sr-B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jer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20:17:59Z</dcterms:created>
  <dc:creator>korisnik</dc:creator>
  <dc:description/>
  <dc:language>en-US</dc:language>
  <cp:lastModifiedBy>OS Kozarska Djeca</cp:lastModifiedBy>
  <dcterms:modified xsi:type="dcterms:W3CDTF">2017-10-11T08:59:48Z</dcterms:modified>
  <cp:revision>15</cp:revision>
  <dc:subject/>
  <dc:title>Истраживања показују:</dc:title>
</cp:coreProperties>
</file>