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62D-1CA4-4212-9AF5-438D872F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647-AD31-4333-8B70-5963645F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8DF-1867-4C1D-AF9E-71FDEF66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BD4-2D6B-40D0-B88A-C530E6C1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797B-D691-47E3-8587-A7B857F4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3557-1B73-4386-8293-B43AAD62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C1EA-191A-4704-A759-6D154F55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1EFF-5725-4652-90EB-F3E6B2AF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5493-702B-4D51-93D3-0902D6E1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180D-8294-4686-AF3D-F3309F02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8FB5-3C55-460B-B94B-DD79D3EA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3E1-7586-41C9-85B4-F40D54B2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F84A-D4E4-47F6-81B8-A3BC02E7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3B19-E086-4E65-80D0-F07956F5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32A3-4A2F-479F-A9CA-161E75FB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4EBB-C55C-483B-BBFC-6374C3A0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61EB-E491-42B6-B4A2-E1973CEE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EE6-9885-4CD5-A577-EBBF13A5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E32-15A3-4B97-8E87-61CBCB70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723-55D9-42C1-AF72-CCB4484E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80D-6480-44EA-99C7-B572C800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A70-F62C-48BA-B443-0AA93EFA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3CE-D743-4BBB-AEF0-694FC238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0D6-D97E-4EB3-95D8-2E8D066E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647A-3880-4CBA-AF78-E643EBE55B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2FBF-4B22-4AB2-8A06-2947A66622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sr-Latn-CS" sz="4400" spc="-1" strike="noStrike">
                <a:solidFill>
                  <a:srgbClr val="714b25"/>
                </a:solidFill>
                <a:latin typeface="Arial"/>
              </a:rPr>
              <a:t>ZNAČAJ</a:t>
            </a:r>
            <a:r>
              <a:rPr b="0" i="1" lang="sr-CS" sz="4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4400" spc="-1" strike="noStrike">
                <a:solidFill>
                  <a:srgbClr val="714b25"/>
                </a:solidFill>
                <a:latin typeface="Arial"/>
              </a:rPr>
              <a:t>PORODICE</a:t>
            </a:r>
            <a:r>
              <a:rPr b="0" i="1" lang="sr-CS" sz="4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4400" spc="-1" strike="noStrike">
                <a:solidFill>
                  <a:srgbClr val="714b25"/>
                </a:solidFill>
                <a:latin typeface="Arial"/>
              </a:rPr>
              <a:t>ZA</a:t>
            </a:r>
            <a:r>
              <a:rPr b="0" i="1" lang="sr-CS" sz="4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4400" spc="-1" strike="noStrike">
                <a:solidFill>
                  <a:srgbClr val="714b25"/>
                </a:solidFill>
                <a:latin typeface="Arial"/>
              </a:rPr>
              <a:t>VASPITANJE</a:t>
            </a:r>
            <a:r>
              <a:rPr b="0" i="1" lang="sr-CS" sz="4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4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i="1" lang="sr-CS" sz="4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4400" spc="-1" strike="noStrike">
                <a:solidFill>
                  <a:srgbClr val="714b25"/>
                </a:solidFill>
                <a:latin typeface="Arial"/>
              </a:rPr>
              <a:t>USPJEH</a:t>
            </a:r>
            <a:r>
              <a:rPr b="0" i="1" lang="sr-CS" sz="4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4400" spc="-1" strike="noStrike">
                <a:solidFill>
                  <a:srgbClr val="714b25"/>
                </a:solidFill>
                <a:latin typeface="Arial"/>
              </a:rPr>
              <a:t>U</a:t>
            </a:r>
            <a:r>
              <a:rPr b="0" i="1" lang="sr-CS" sz="4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4400" spc="-1" strike="noStrike">
                <a:solidFill>
                  <a:srgbClr val="714b25"/>
                </a:solidFill>
                <a:latin typeface="Arial"/>
              </a:rPr>
              <a:t>ŠKOLI</a:t>
            </a:r>
            <a:r>
              <a:rPr b="0" i="1" lang="bs-Cyrl-BA" sz="4400" spc="-1" strike="noStrike">
                <a:solidFill>
                  <a:srgbClr val="714b25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i="1" lang="bs-Cyrl-BA" sz="2000" spc="-1" strike="noStrike">
                <a:solidFill>
                  <a:srgbClr val="714b25"/>
                </a:solidFill>
                <a:latin typeface="Times New Roman"/>
              </a:rPr>
              <a:t>	</a:t>
            </a:r>
            <a:r>
              <a:rPr b="0" i="1" lang="bs-Cyrl-BA" sz="2000" spc="-1" strike="noStrike">
                <a:solidFill>
                  <a:srgbClr val="714b25"/>
                </a:solidFill>
                <a:latin typeface="Times New Roman"/>
              </a:rPr>
              <a:t>	</a:t>
            </a:r>
            <a:r>
              <a:rPr b="0" i="1" lang="bs-Cyrl-BA" sz="2000" spc="-1" strike="noStrike">
                <a:solidFill>
                  <a:srgbClr val="714b25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i="1" lang="bs-Cyrl-BA" sz="2000" spc="-1" strike="noStrike">
                <a:solidFill>
                  <a:srgbClr val="714b25"/>
                </a:solidFill>
                <a:latin typeface="Times New Roman"/>
              </a:rPr>
              <a:t>	</a:t>
            </a:r>
            <a:r>
              <a:rPr b="0" i="1" lang="bs-Cyrl-BA" sz="2000" spc="-1" strike="noStrike">
                <a:solidFill>
                  <a:srgbClr val="714b25"/>
                </a:solidFill>
                <a:latin typeface="Times New Roman"/>
              </a:rPr>
              <a:t>	</a:t>
            </a:r>
            <a:r>
              <a:rPr b="0" i="1" lang="bs-Cyrl-BA" sz="2000" spc="-1" strike="noStrike">
                <a:solidFill>
                  <a:srgbClr val="714b25"/>
                </a:solidFill>
                <a:latin typeface="Times New Roman"/>
              </a:rPr>
              <a:t>	</a:t>
            </a:r>
            <a:r>
              <a:rPr b="0" i="1" lang="bs-Cyrl-BA" sz="2000" spc="-1" strike="noStrike">
                <a:solidFill>
                  <a:srgbClr val="714b25"/>
                </a:solidFill>
                <a:latin typeface="Times New Roman"/>
              </a:rPr>
              <a:t>	</a:t>
            </a:r>
            <a:r>
              <a:rPr b="0" i="1" lang="bs-Cyrl-BA" sz="2000" spc="-1" strike="noStrike">
                <a:solidFill>
                  <a:srgbClr val="714b25"/>
                </a:solidFill>
                <a:latin typeface="Times New Roman"/>
              </a:rPr>
              <a:t>	</a:t>
            </a:r>
            <a:r>
              <a:rPr b="0" i="1" lang="bs-Cyrl-BA" sz="2000" spc="-1" strike="noStrike">
                <a:solidFill>
                  <a:srgbClr val="714b25"/>
                </a:solidFill>
                <a:latin typeface="Times New Roman"/>
              </a:rPr>
              <a:t>	</a:t>
            </a:r>
            <a:br>
              <a:rPr sz="2800"/>
            </a:br>
            <a:br>
              <a:rPr sz="6000"/>
            </a:br>
            <a:r>
              <a:rPr b="0" lang="bs-Cyrl-BA" sz="2400" spc="-1" strike="noStrike">
                <a:solidFill>
                  <a:srgbClr val="714b25"/>
                </a:solidFill>
                <a:latin typeface="Times New Roman"/>
              </a:rPr>
              <a:t>	</a:t>
            </a:r>
            <a:r>
              <a:rPr b="0" lang="bs-Cyrl-BA" sz="2400" spc="-1" strike="noStrike">
                <a:solidFill>
                  <a:srgbClr val="714b25"/>
                </a:solidFill>
                <a:latin typeface="Times New Roman"/>
              </a:rPr>
              <a:t>	</a:t>
            </a:r>
            <a:r>
              <a:rPr b="0" lang="bs-Cyrl-BA" sz="2400" spc="-1" strike="noStrike">
                <a:solidFill>
                  <a:srgbClr val="714b25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y181172741727107.jpg"/>
          <p:cNvPicPr/>
          <p:nvPr/>
        </p:nvPicPr>
        <p:blipFill>
          <a:blip r:embed="rId1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54381c"/>
                </a:solidFill>
                <a:latin typeface="comic"/>
              </a:rPr>
              <a:t>Stil</a:t>
            </a:r>
            <a:r>
              <a:rPr b="0" i="1" lang="bs-Cyrl-BA" sz="32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3200" spc="-1" strike="noStrike">
                <a:solidFill>
                  <a:srgbClr val="54381c"/>
                </a:solidFill>
                <a:latin typeface="comic"/>
              </a:rPr>
              <a:t>roditeljskog</a:t>
            </a:r>
            <a:r>
              <a:rPr b="0" i="1" lang="bs-Cyrl-BA" sz="32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3200" spc="-1" strike="noStrike">
                <a:solidFill>
                  <a:srgbClr val="54381c"/>
                </a:solidFill>
                <a:latin typeface="comic"/>
              </a:rPr>
              <a:t>ponašanja</a:t>
            </a:r>
            <a:r>
              <a:rPr b="0" i="1" lang="bs-Cyrl-BA" sz="32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3200" spc="-1" strike="noStrike">
                <a:solidFill>
                  <a:srgbClr val="54381c"/>
                </a:solidFill>
                <a:latin typeface="comic"/>
              </a:rPr>
              <a:t>prema</a:t>
            </a:r>
            <a:r>
              <a:rPr b="0" i="1" lang="bs-Cyrl-BA" sz="32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3200" spc="-1" strike="noStrike">
                <a:solidFill>
                  <a:srgbClr val="54381c"/>
                </a:solidFill>
                <a:latin typeface="comic"/>
              </a:rPr>
              <a:t>djetetu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C:\Documents and Settings\INDY\My Documents\My Pictures\Microsoft Clip Organizer\j0439607.png"/>
          <p:cNvPicPr/>
          <p:nvPr/>
        </p:nvPicPr>
        <p:blipFill>
          <a:blip r:embed="rId1"/>
          <a:stretch/>
        </p:blipFill>
        <p:spPr>
          <a:xfrm>
            <a:off x="762120" y="5181480"/>
            <a:ext cx="4038480" cy="121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9140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U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autoritarnom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stilu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vaspitanje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se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vrši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pomoću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zabrana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kaz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Pažnja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roditelja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je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usmjerena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na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postupke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djece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a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ne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na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pobude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motive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njihovih</a:t>
            </a:r>
            <a:r>
              <a:rPr b="0" lang="bs-Cyrl-BA" sz="20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714b25"/>
                </a:solidFill>
                <a:latin typeface="Arial"/>
              </a:rPr>
              <a:t>postup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utoritarnim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rodicam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om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načajn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poštovanje</a:t>
            </a:r>
            <a:r>
              <a:rPr b="0" i="1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autoriteta</a:t>
            </a:r>
            <a:r>
              <a:rPr b="0" i="1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odraslih</a:t>
            </a:r>
            <a:r>
              <a:rPr b="0" i="1" lang="bs-Cyrl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rad</a:t>
            </a:r>
            <a:r>
              <a:rPr b="0" i="1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rogo</a:t>
            </a:r>
            <a:r>
              <a:rPr b="0" i="1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pridržavanje</a:t>
            </a:r>
            <a:r>
              <a:rPr b="0" i="1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pravila</a:t>
            </a:r>
            <a:r>
              <a:rPr b="0" i="1" lang="bs-Cyrl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čuvanje</a:t>
            </a:r>
            <a:r>
              <a:rPr b="0" i="1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reda</a:t>
            </a:r>
            <a:r>
              <a:rPr b="0" i="1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INDY\My Documents\My Pictures\Microsoft Clip Organizer\j0439463.jpg"/>
          <p:cNvPicPr/>
          <p:nvPr/>
        </p:nvPicPr>
        <p:blipFill>
          <a:blip r:embed="rId2"/>
          <a:stretch/>
        </p:blipFill>
        <p:spPr>
          <a:xfrm>
            <a:off x="6019920" y="2362320"/>
            <a:ext cx="281916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47960" y="160020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mokratsk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ip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likuj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im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jedničk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iž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tič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egov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jednako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jećaj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govornim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stan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škoć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akv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t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g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jetet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rodic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kol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ruštvenoj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redin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j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utoritet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d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jec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snivaj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sobnom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znavanj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štovanj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umijevanj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 u="sng">
                <a:solidFill>
                  <a:srgbClr val="714b25"/>
                </a:solidFill>
                <a:uFillTx/>
                <a:latin typeface="comic"/>
              </a:rPr>
              <a:t>Stihijni</a:t>
            </a:r>
            <a:r>
              <a:rPr b="1" i="1" lang="bs-Cyrl-BA" sz="3600" spc="-1" strike="noStrike" u="sng">
                <a:solidFill>
                  <a:srgbClr val="714b25"/>
                </a:solidFill>
                <a:uFillTx/>
                <a:latin typeface="comic"/>
              </a:rPr>
              <a:t> </a:t>
            </a:r>
            <a:r>
              <a:rPr b="1" i="1" lang="sr-Latn-CS" sz="3600" spc="-1" strike="noStrike" u="sng">
                <a:solidFill>
                  <a:srgbClr val="714b25"/>
                </a:solidFill>
                <a:uFillTx/>
                <a:latin typeface="comic"/>
              </a:rPr>
              <a:t>stil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2" descr="C:\Documents and Settings\INDY\My Documents\My Pictures\Microsoft Clip Organizer\j0422793.jpg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647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dostatak</a:t>
            </a:r>
            <a:r>
              <a:rPr b="0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puštenost</a:t>
            </a:r>
            <a:r>
              <a:rPr b="0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uč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dagoška</a:t>
            </a:r>
            <a:r>
              <a:rPr b="0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s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Ovakav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odnos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rema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djeci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ogleda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ignorisanju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uzraslih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mogućnosti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vastitanika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ostalih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uslova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kao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zapostavljanju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ekih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glavnih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vaspit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Veoma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štetna</a:t>
            </a:r>
            <a:r>
              <a:rPr b="0" i="1" lang="bs-Cyrl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o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714b25"/>
                </a:solidFill>
                <a:latin typeface="comic"/>
              </a:rPr>
              <a:t>Primjena</a:t>
            </a:r>
            <a:r>
              <a:rPr b="0" i="1" lang="bs-Cyrl-BA" sz="40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4000" spc="-1" strike="noStrike">
                <a:solidFill>
                  <a:srgbClr val="714b25"/>
                </a:solidFill>
                <a:latin typeface="comic"/>
              </a:rPr>
              <a:t>vaspitnih</a:t>
            </a:r>
            <a:r>
              <a:rPr b="0" i="1" lang="bs-Cyrl-BA" sz="40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4000" spc="-1" strike="noStrike">
                <a:solidFill>
                  <a:srgbClr val="714b25"/>
                </a:solidFill>
                <a:latin typeface="comic"/>
              </a:rPr>
              <a:t>mjer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0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timulativn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mjer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	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pohvala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nagrada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podrška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obećanje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odobrenje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savjetovanje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ohval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lu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bol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kod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c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koj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živ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labijim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materijalnim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slovim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kod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žensk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c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osebn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ntrovertn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INDY\My Documents\My Pictures\Microsoft Clip Organizer\j0439520.jpg"/>
          <p:cNvPicPr/>
          <p:nvPr/>
        </p:nvPicPr>
        <p:blipFill>
          <a:blip r:embed="rId1"/>
          <a:stretch/>
        </p:blipFill>
        <p:spPr>
          <a:xfrm>
            <a:off x="5257800" y="4734000"/>
            <a:ext cx="3429000" cy="1895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Represivn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mj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714b25"/>
                </a:solidFill>
                <a:latin typeface="Arial"/>
              </a:rPr>
              <a:t>primjedba</a:t>
            </a:r>
            <a:r>
              <a:rPr b="0" i="1" lang="bs-Cyrl-BA" sz="20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i="1" lang="sr-Latn-CS" sz="2000" spc="-1" strike="noStrike">
                <a:solidFill>
                  <a:srgbClr val="714b25"/>
                </a:solidFill>
                <a:latin typeface="Arial"/>
              </a:rPr>
              <a:t>opomena</a:t>
            </a:r>
            <a:r>
              <a:rPr b="0" i="1" lang="bs-Cyrl-BA" sz="20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i="1" lang="sr-Latn-CS" sz="2000" spc="-1" strike="noStrike">
                <a:solidFill>
                  <a:srgbClr val="714b25"/>
                </a:solidFill>
                <a:latin typeface="Arial"/>
              </a:rPr>
              <a:t>pokuda</a:t>
            </a:r>
            <a:r>
              <a:rPr b="0" i="1" lang="bs-Cyrl-BA" sz="20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i="1" lang="sr-Latn-CS" sz="2000" spc="-1" strike="noStrike">
                <a:solidFill>
                  <a:srgbClr val="714b25"/>
                </a:solidFill>
                <a:latin typeface="Arial"/>
              </a:rPr>
              <a:t>zabrana</a:t>
            </a:r>
            <a:r>
              <a:rPr b="0" i="1" lang="bs-Cyrl-BA" sz="20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i="1" lang="sr-Latn-CS" sz="2000" spc="-1" strike="noStrike">
                <a:solidFill>
                  <a:srgbClr val="714b25"/>
                </a:solidFill>
                <a:latin typeface="Arial"/>
              </a:rPr>
              <a:t>ograničenja</a:t>
            </a:r>
            <a:r>
              <a:rPr b="0" i="1" lang="bs-Cyrl-BA" sz="20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i="1" lang="sr-Latn-CS" sz="2000" spc="-1" strike="noStrike">
                <a:solidFill>
                  <a:srgbClr val="714b25"/>
                </a:solidFill>
                <a:latin typeface="Arial"/>
              </a:rPr>
              <a:t>kazna</a:t>
            </a:r>
            <a:r>
              <a:rPr b="0" i="1" lang="bs-Cyrl-BA" sz="2000" spc="-1" strike="noStrike">
                <a:solidFill>
                  <a:srgbClr val="714b25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Ku</a:t>
            </a:r>
            <a:r>
              <a:rPr b="0" lang="vi-VN" sz="2400" spc="-1" strike="noStrike">
                <a:solidFill>
                  <a:srgbClr val="714b25"/>
                </a:solidFill>
                <a:latin typeface="Arial"/>
              </a:rPr>
              <a:t>đ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en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m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već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efekat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kod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vrl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nteligentn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c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kod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lijen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c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ebno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kstravertne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j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:\Documents and Settings\INDY\My Documents\My Pictures\Microsoft Clip Organizer\j0439523.jpg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714b25"/>
                </a:solidFill>
                <a:latin typeface="comic"/>
              </a:rPr>
              <a:t>Abeceda</a:t>
            </a:r>
            <a:r>
              <a:rPr b="0" i="1" lang="bs-Cyrl-BA" sz="40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4000" spc="-1" strike="noStrike">
                <a:solidFill>
                  <a:srgbClr val="714b25"/>
                </a:solidFill>
                <a:latin typeface="comic"/>
              </a:rPr>
              <a:t>vaspitnih</a:t>
            </a:r>
            <a:r>
              <a:rPr b="0" i="1" lang="bs-Cyrl-BA" sz="40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4000" spc="-1" strike="noStrike">
                <a:solidFill>
                  <a:srgbClr val="714b25"/>
                </a:solidFill>
                <a:latin typeface="comic"/>
              </a:rPr>
              <a:t>mjer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14400" y="205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poručuje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aksi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izanj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aspitanj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oje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jece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državaju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ar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v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om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ačajn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rimjenjivati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timulativne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aspitne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jere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ono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što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uradilo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o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raktikovati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obrazlaganje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azne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ko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oditelj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ocijeni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azna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otrebna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jer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ora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azumjeti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ostupak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oditelja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oj</a:t>
            </a:r>
            <a:r>
              <a:rPr b="0" i="1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tu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714b25"/>
                </a:solidFill>
                <a:latin typeface="Arial"/>
              </a:rPr>
              <a:t>	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Nije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nam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bio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cilj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učiti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Vas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da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budete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bolji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roditelji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	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cilj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nam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je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naučiti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našu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djecu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da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sutra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postanu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bolji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714b25"/>
                </a:solidFill>
                <a:latin typeface="Arial"/>
              </a:rPr>
              <a:t>roditelji</a:t>
            </a:r>
            <a:r>
              <a:rPr b="0" i="1" lang="bs-Cyrl-BA" sz="2800" spc="-1" strike="noStrike">
                <a:solidFill>
                  <a:srgbClr val="714b25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714b25"/>
                </a:solidFill>
                <a:latin typeface="Arial"/>
              </a:rPr>
              <a:t>	</a:t>
            </a:r>
            <a:r>
              <a:rPr b="0" lang="bs-Cyrl-BA" sz="2800" spc="-1" strike="noStrike">
                <a:solidFill>
                  <a:srgbClr val="714b25"/>
                </a:solidFill>
                <a:latin typeface="Arial"/>
              </a:rPr>
              <a:t>	</a:t>
            </a:r>
            <a:r>
              <a:rPr b="0" lang="bs-Cyrl-BA" sz="2800" spc="-1" strike="noStrike">
                <a:solidFill>
                  <a:srgbClr val="714b25"/>
                </a:solidFill>
                <a:latin typeface="Arial"/>
              </a:rPr>
              <a:t>	</a:t>
            </a:r>
            <a:r>
              <a:rPr b="0" lang="bs-Cyrl-BA" sz="2800" spc="-1" strike="noStrike">
                <a:solidFill>
                  <a:srgbClr val="714b25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714b25"/>
                </a:solidFill>
                <a:latin typeface="Arial"/>
              </a:rPr>
              <a:t>HVALA</a:t>
            </a:r>
            <a:r>
              <a:rPr b="0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714b25"/>
                </a:solidFill>
                <a:latin typeface="Arial"/>
              </a:rPr>
              <a:t>NA</a:t>
            </a:r>
            <a:r>
              <a:rPr b="0" lang="bs-Cyrl-BA" sz="28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714b25"/>
                </a:solidFill>
                <a:latin typeface="Arial"/>
              </a:rPr>
              <a:t>PAŽNJI</a:t>
            </a:r>
            <a:r>
              <a:rPr b="0" lang="bs-Cyrl-BA" sz="2800" spc="-1" strike="noStrike">
                <a:solidFill>
                  <a:srgbClr val="714b25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Documents and Settings\INDY\My Documents\My Pictures\Microsoft Clip Organizer\j0439417.jpg"/>
          <p:cNvPicPr/>
          <p:nvPr/>
        </p:nvPicPr>
        <p:blipFill>
          <a:blip r:embed="rId1"/>
          <a:stretch/>
        </p:blipFill>
        <p:spPr>
          <a:xfrm>
            <a:off x="1371600" y="3581280"/>
            <a:ext cx="6629400" cy="23623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Uslovi</a:t>
            </a:r>
            <a:r>
              <a:rPr b="0" i="1" lang="bs-Cyrl-B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porodičnog</a:t>
            </a:r>
            <a:r>
              <a:rPr b="0" i="1" lang="bs-Cyrl-B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život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Picture 4" descr="C:\Documents and Settings\INDY\My Documents\My Pictures\Microsoft Clip Organizer\j0439469.jpg"/>
          <p:cNvPicPr/>
          <p:nvPr/>
        </p:nvPicPr>
        <p:blipFill>
          <a:blip r:embed="rId1"/>
          <a:stretch/>
        </p:blipFill>
        <p:spPr>
          <a:xfrm>
            <a:off x="762120" y="15238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lovi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e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b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ezbjedi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uštvo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Socijalna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sigurnost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i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zašt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Osnovne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uslove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za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uspješno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škol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Zdravu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zabavu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i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razonodu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za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Zdravstvenu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i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drugu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"/>
              </a:rPr>
              <a:t>zaštitu</a:t>
            </a:r>
            <a:r>
              <a:rPr b="0" lang="bs-Cyrl-BA" sz="2400" spc="-1" strike="noStrike">
                <a:solidFill>
                  <a:srgbClr val="000000"/>
                </a:solidFill>
                <a:latin typeface="comic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49568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lovi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e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b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ezbijede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bs-Cyrl-B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ophodn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slov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ug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ro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slov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smetano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ha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j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st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ophodn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edagošk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mo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moć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d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čenju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d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uć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iš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eresovanja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im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ruž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j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vod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obodno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ijem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bs-Cyrl-B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b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7621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Uslovi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porodi</a:t>
            </a:r>
            <a:r>
              <a:rPr b="0" i="1" lang="sr-Latn-BA" sz="2400" spc="-1" strike="noStrike">
                <a:solidFill>
                  <a:srgbClr val="54381c"/>
                </a:solidFill>
                <a:latin typeface="comic"/>
              </a:rPr>
              <a:t>Č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nog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Života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br>
              <a:rPr sz="2400"/>
            </a:b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predstavljaju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jedan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od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mnogobrojnih</a:t>
            </a:r>
            <a:br>
              <a:rPr sz="2400"/>
            </a:b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Činilaca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od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kojih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zavisi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br>
              <a:rPr sz="2400"/>
            </a:b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razvoj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liČnosti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,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a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time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i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br>
              <a:rPr sz="2400"/>
            </a:b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postignuĆe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djece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u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školskom</a:t>
            </a:r>
            <a:r>
              <a:rPr b="0" i="1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br>
              <a:rPr sz="2400"/>
            </a:br>
            <a:r>
              <a:rPr b="0" i="1" lang="sr-Latn-CS" sz="2400" spc="-1" strike="noStrike">
                <a:solidFill>
                  <a:srgbClr val="54381c"/>
                </a:solidFill>
                <a:latin typeface="comic"/>
              </a:rPr>
              <a:t>učenju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U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uslove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porodičnog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Života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ubrajamo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bs-BA" sz="2400" spc="-1" strike="noStrike">
                <a:solidFill>
                  <a:srgbClr val="54381c"/>
                </a:solidFill>
                <a:latin typeface="comic"/>
              </a:rPr>
              <a:t>Socio-ekonomski status poro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Strukturu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poro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Ponašanje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roditelja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prema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dj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Odnose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koji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vladaju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me</a:t>
            </a:r>
            <a:r>
              <a:rPr b="0" lang="vi-VN" sz="2400" spc="-1" strike="noStrike">
                <a:solidFill>
                  <a:srgbClr val="54381c"/>
                </a:solidFill>
                <a:latin typeface="comic"/>
              </a:rPr>
              <a:t>đ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u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članovima</a:t>
            </a:r>
            <a:r>
              <a:rPr b="0" lang="bs-Cyrl-BA" sz="24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2400" spc="-1" strike="noStrike">
                <a:solidFill>
                  <a:srgbClr val="54381c"/>
                </a:solidFill>
                <a:latin typeface="comic"/>
              </a:rPr>
              <a:t>poro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INDY\My Documents\My Pictures\Microsoft Clip Organizer\j0439541.jpg"/>
          <p:cNvPicPr/>
          <p:nvPr/>
        </p:nvPicPr>
        <p:blipFill>
          <a:blip r:embed="rId1"/>
          <a:stretch/>
        </p:blipFill>
        <p:spPr>
          <a:xfrm>
            <a:off x="6858000" y="838080"/>
            <a:ext cx="1981080" cy="2514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54381c"/>
                </a:solidFill>
                <a:latin typeface="Garamond"/>
              </a:rPr>
              <a:t>Socio</a:t>
            </a:r>
            <a:r>
              <a:rPr b="1" i="1" lang="bs-Cyrl-BA" sz="4000" spc="-1" strike="noStrike">
                <a:solidFill>
                  <a:srgbClr val="54381c"/>
                </a:solidFill>
                <a:latin typeface="Garamond"/>
              </a:rPr>
              <a:t>-</a:t>
            </a:r>
            <a:r>
              <a:rPr b="1" i="1" lang="sr-Latn-CS" sz="4000" spc="-1" strike="noStrike">
                <a:solidFill>
                  <a:srgbClr val="54381c"/>
                </a:solidFill>
                <a:latin typeface="Garamond"/>
              </a:rPr>
              <a:t>ekonomski</a:t>
            </a:r>
            <a:r>
              <a:rPr b="1" i="1" lang="bs-Cyrl-BA" sz="40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4000" spc="-1" strike="noStrike">
                <a:solidFill>
                  <a:srgbClr val="54381c"/>
                </a:solidFill>
                <a:latin typeface="Garamond"/>
              </a:rPr>
              <a:t>status</a:t>
            </a:r>
            <a:r>
              <a:rPr b="1" i="1" lang="bs-Cyrl-BA" sz="40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4000" spc="-1" strike="noStrike">
                <a:solidFill>
                  <a:srgbClr val="54381c"/>
                </a:solidFill>
                <a:latin typeface="Garamond"/>
              </a:rPr>
              <a:t>porodic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2" descr="C:\Documents and Settings\INDY\My Documents\My Pictures\Microsoft Clip Organizer\j0439480.jpg"/>
          <p:cNvPicPr/>
          <p:nvPr/>
        </p:nvPicPr>
        <p:blipFill>
          <a:blip r:embed="rId1"/>
          <a:stretch/>
        </p:blipFill>
        <p:spPr>
          <a:xfrm>
            <a:off x="5181480" y="4419720"/>
            <a:ext cx="3276720" cy="141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91440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Obrazovni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nivo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roditelja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 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Djec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n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uč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samo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šk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Dijet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rodic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mož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dobit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objašnjenj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jednog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dijel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stvarnost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koj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g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okružuj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rodic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mož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usmjerit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nteres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djec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odre</a:t>
            </a:r>
            <a:r>
              <a:rPr b="0" lang="vi-VN" sz="1800" spc="-1" strike="noStrike">
                <a:solidFill>
                  <a:srgbClr val="714b25"/>
                </a:solidFill>
                <a:latin typeface="Garamond"/>
              </a:rPr>
              <a:t>đ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enom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ravc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(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umjetnost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Materijalne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prilike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poro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*   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Mog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bit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vod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z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nastajanj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različitih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asocijalnih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jav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stvaranj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negativn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atmosfer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rodic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Stambene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prilike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poro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* </a:t>
            </a:r>
            <a:r>
              <a:rPr b="0" i="1" lang="bs-Cyrl-BA" sz="1800" spc="-1" strike="noStrike">
                <a:solidFill>
                  <a:srgbClr val="714b25"/>
                </a:solidFill>
                <a:latin typeface="Garamond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Veći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stan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nosi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sa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sobom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veću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mogućnost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da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učenik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bude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odvojen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od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buke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galame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koja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se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stvara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njegovom</a:t>
            </a:r>
            <a:r>
              <a:rPr b="0" lang="bs-Cyrl-B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do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Uslovi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za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rad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* 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Obezbje</a:t>
            </a:r>
            <a:r>
              <a:rPr b="0" lang="vi-VN" sz="1800" spc="-1" strike="noStrike">
                <a:solidFill>
                  <a:srgbClr val="714b25"/>
                </a:solidFill>
                <a:latin typeface="Garamond"/>
              </a:rPr>
              <a:t>đ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vanjem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radnog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mjest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tišin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daj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s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odgovarajuć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značaj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rad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učenik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stič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ravo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d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roditelj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zahtjevaj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od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djetet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d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savjesno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spunjav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svoj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školsk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oba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330033"/>
                </a:solidFill>
                <a:latin typeface="Garamond"/>
              </a:rPr>
              <a:t>Struktura</a:t>
            </a:r>
            <a:r>
              <a:rPr b="1" i="1" lang="bs-Cyrl-BA" sz="4000" spc="-1" strike="noStrike">
                <a:solidFill>
                  <a:srgbClr val="330033"/>
                </a:solidFill>
                <a:latin typeface="Garamond"/>
              </a:rPr>
              <a:t> </a:t>
            </a:r>
            <a:r>
              <a:rPr b="1" i="1" lang="sr-Latn-CS" sz="4000" spc="-1" strike="noStrike">
                <a:solidFill>
                  <a:srgbClr val="330033"/>
                </a:solidFill>
                <a:latin typeface="Garamond"/>
              </a:rPr>
              <a:t>porodic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04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Brojnost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poro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Cjelovitost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deficijentna</a:t>
            </a:r>
            <a:r>
              <a:rPr b="0" i="1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714b25"/>
                </a:solidFill>
                <a:latin typeface="Arial"/>
              </a:rPr>
              <a:t>poro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Cjelovit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rodic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j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on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rodic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koj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redstavlj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skladn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tpun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zajednic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koj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n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ziskuj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sebn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socijaln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brig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sta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rodic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kojoj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su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remećen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odnos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l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nedostaj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jedan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l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ob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roditelj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nazivamo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deficijent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Vaspitn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roblemi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djece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iz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nepotpunih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714b25"/>
                </a:solidFill>
                <a:latin typeface="Garamond"/>
              </a:rPr>
              <a:t>porodica</a:t>
            </a:r>
            <a:r>
              <a:rPr b="0" lang="bs-Cyrl-BA" sz="1800" spc="-1" strike="noStrike">
                <a:solidFill>
                  <a:srgbClr val="714b25"/>
                </a:solidFill>
                <a:latin typeface="Garamon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Djeca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se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osjećaju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usamljeno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i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nedovoljno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zaštić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Ne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postoji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mogućnost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identifikacije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djece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sa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roditelj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Teškoće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u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prilago</a:t>
            </a:r>
            <a:r>
              <a:rPr b="1" i="1" lang="vi-VN" sz="1800" spc="-1" strike="noStrike">
                <a:solidFill>
                  <a:srgbClr val="54381c"/>
                </a:solidFill>
                <a:latin typeface="Garamond"/>
              </a:rPr>
              <a:t>đ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avanju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sa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vršnja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Smanjenja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mogućnost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ranog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usvajanja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modela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uspješnog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u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Pojava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asociajlnog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ponaš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Bježanje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od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škole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i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negativan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stav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prema</a:t>
            </a:r>
            <a:r>
              <a:rPr b="1" i="1" lang="bs-Cyrl-BA" sz="1800" spc="-1" strike="noStrike">
                <a:solidFill>
                  <a:srgbClr val="54381c"/>
                </a:solidFill>
                <a:latin typeface="Garamond"/>
              </a:rPr>
              <a:t> </a:t>
            </a:r>
            <a:r>
              <a:rPr b="1" i="1" lang="sr-Latn-CS" sz="1800" spc="-1" strike="noStrike">
                <a:solidFill>
                  <a:srgbClr val="54381c"/>
                </a:solidFill>
                <a:latin typeface="Garamond"/>
              </a:rPr>
              <a:t>uče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Živjeti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sa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roditeljem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koji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je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srećan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i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emocionalno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zdrav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za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djecu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je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zdravija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sredina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i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bolje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iskustvo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,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nego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živjeti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u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porodici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gdje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su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prisutne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stalne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sva</a:t>
            </a:r>
            <a:r>
              <a:rPr b="0" lang="vi-VN" sz="1800" spc="-1" strike="noStrike">
                <a:solidFill>
                  <a:srgbClr val="a600a6"/>
                </a:solidFill>
                <a:latin typeface="Garamond"/>
              </a:rPr>
              <a:t>đ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e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i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nezadovoljstvo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roditelja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zajedničkim</a:t>
            </a:r>
            <a:r>
              <a:rPr b="0" lang="bs-Cyrl-BA" sz="1800" spc="-1" strike="noStrike">
                <a:solidFill>
                  <a:srgbClr val="a600a6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Garamond"/>
              </a:rPr>
              <a:t>živo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66294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Cyrl-BA" sz="1800" spc="-1" strike="noStrike">
                <a:solidFill>
                  <a:srgbClr val="330033"/>
                </a:solidFill>
                <a:latin typeface="comic"/>
              </a:rPr>
              <a:t>“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POSTATI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RODITELJ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” 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stvar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je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br>
              <a:rPr sz="2000"/>
            </a:b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ličnog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izbora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svakog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pojedinca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, </a:t>
            </a:r>
            <a:br>
              <a:rPr sz="2000"/>
            </a:b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“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OSTATI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RODITELJ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” 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stvar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je</a:t>
            </a:r>
            <a:br>
              <a:rPr sz="2000"/>
            </a:b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ličnog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ulaganja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u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unapre</a:t>
            </a:r>
            <a:r>
              <a:rPr b="0" i="1" lang="sr-Latn-BA" sz="2000" spc="-1" strike="noStrike">
                <a:solidFill>
                  <a:srgbClr val="330033"/>
                </a:solidFill>
                <a:latin typeface="comic"/>
              </a:rPr>
              <a:t>Đ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ivanje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br>
              <a:rPr sz="2000"/>
            </a:b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roditeljskog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ponašanja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i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to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br>
              <a:rPr sz="2000"/>
            </a:b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tokom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Čitavog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br>
              <a:rPr sz="2000"/>
            </a:b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Čovjekovog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 </a:t>
            </a:r>
            <a:r>
              <a:rPr b="0" i="1" lang="sr-Latn-CS" sz="2000" spc="-1" strike="noStrike">
                <a:solidFill>
                  <a:srgbClr val="330033"/>
                </a:solidFill>
                <a:latin typeface="comic"/>
              </a:rPr>
              <a:t>života</a:t>
            </a:r>
            <a:r>
              <a:rPr b="0" i="1" lang="bs-Cyrl-BA" sz="2000" spc="-1" strike="noStrike">
                <a:solidFill>
                  <a:srgbClr val="330033"/>
                </a:solidFill>
                <a:latin typeface="comic"/>
              </a:rPr>
              <a:t>!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54381c"/>
                </a:solidFill>
                <a:latin typeface="comic"/>
              </a:rPr>
              <a:t>Ponašanje</a:t>
            </a:r>
            <a:r>
              <a:rPr b="0" lang="bs-Cyrl-BA" sz="16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1600" spc="-1" strike="noStrike">
                <a:solidFill>
                  <a:srgbClr val="54381c"/>
                </a:solidFill>
                <a:latin typeface="comic"/>
              </a:rPr>
              <a:t>roditelja</a:t>
            </a:r>
            <a:r>
              <a:rPr b="0" lang="bs-Cyrl-BA" sz="16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1600" spc="-1" strike="noStrike">
                <a:solidFill>
                  <a:srgbClr val="54381c"/>
                </a:solidFill>
                <a:latin typeface="comic"/>
              </a:rPr>
              <a:t>prema</a:t>
            </a:r>
            <a:r>
              <a:rPr b="0" lang="bs-Cyrl-BA" sz="16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1600" spc="-1" strike="noStrike">
                <a:solidFill>
                  <a:srgbClr val="54381c"/>
                </a:solidFill>
                <a:latin typeface="comic"/>
              </a:rPr>
              <a:t>djeci</a:t>
            </a:r>
            <a:r>
              <a:rPr b="0" lang="bs-Cyrl-BA" sz="1600" spc="-1" strike="noStrike">
                <a:solidFill>
                  <a:srgbClr val="54381c"/>
                </a:solidFill>
                <a:latin typeface="comic"/>
              </a:rPr>
              <a:t> </a:t>
            </a:r>
            <a:r>
              <a:rPr b="0" lang="sr-Latn-CS" sz="1600" spc="-1" strike="noStrike">
                <a:solidFill>
                  <a:srgbClr val="54381c"/>
                </a:solidFill>
                <a:latin typeface="comic"/>
              </a:rPr>
              <a:t>obuhvata</a:t>
            </a:r>
            <a:r>
              <a:rPr b="0" lang="bs-Cyrl-BA" sz="1600" spc="-1" strike="noStrike">
                <a:solidFill>
                  <a:srgbClr val="54381c"/>
                </a:solidFill>
                <a:latin typeface="comic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Uvid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u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ocjene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koje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dijete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postiže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u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šk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Uvid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u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učenje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i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izradu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domaćih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zadata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Uvid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u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način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korištenja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slobodnog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vremena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djet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Stil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roditeljskog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ponašanja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prema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djet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Primjena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vaspitnih</a:t>
            </a:r>
            <a:r>
              <a:rPr b="0" i="1" lang="bs-Cyrl-BA" sz="1600" spc="-1" strike="noStrike">
                <a:solidFill>
                  <a:srgbClr val="714b25"/>
                </a:solidFill>
                <a:latin typeface="comic"/>
              </a:rPr>
              <a:t> </a:t>
            </a:r>
            <a:r>
              <a:rPr b="0" i="1" lang="sr-Latn-CS" sz="1600" spc="-1" strike="noStrike">
                <a:solidFill>
                  <a:srgbClr val="714b25"/>
                </a:solidFill>
                <a:latin typeface="comic"/>
              </a:rPr>
              <a:t>mj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INDY\My Documents\My Pictures\Microsoft Clip Organizer\j0439449.jpg"/>
          <p:cNvPicPr/>
          <p:nvPr/>
        </p:nvPicPr>
        <p:blipFill>
          <a:blip r:embed="rId1"/>
          <a:stretch/>
        </p:blipFill>
        <p:spPr>
          <a:xfrm>
            <a:off x="6934320" y="380880"/>
            <a:ext cx="1898640" cy="3048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Ocjenjivan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raćen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napretk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čenik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osa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čitelj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al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roditelj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T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a600a6"/>
                </a:solidFill>
                <a:latin typeface="Arial"/>
              </a:rPr>
              <a:t>saradnja</a:t>
            </a:r>
            <a:r>
              <a:rPr b="0" lang="bs-Cyrl-BA" sz="24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a600a6"/>
                </a:solidFill>
                <a:latin typeface="Arial"/>
              </a:rPr>
              <a:t>svih</a:t>
            </a:r>
            <a:r>
              <a:rPr b="0" lang="bs-Cyrl-BA" sz="2400" spc="-1" strike="noStrike">
                <a:solidFill>
                  <a:srgbClr val="a600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Ak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roditelj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nteresuj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ridaj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važnost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škol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ocjenam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ko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c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ostiž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rimjerenom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onašanj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važnost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ć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tom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ridavat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njihov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c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št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ć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skazat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spješnom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če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79080"/>
            <a:ext cx="2438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7760" y="609120"/>
            <a:ext cx="6095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Nek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roditelj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n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vod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ovoljn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brig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čenj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zrad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omaćih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zadatak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vo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c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jer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matraj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t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čiteljev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br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rug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krajnost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roditelj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mjest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tet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rad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njegov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omać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zadat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zradom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omaćih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zadatak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Učenik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lakše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savla</a:t>
            </a:r>
            <a:r>
              <a:rPr b="0" lang="vi-VN" sz="1800" spc="-1" strike="noStrike">
                <a:solidFill>
                  <a:srgbClr val="a600a6"/>
                </a:solidFill>
                <a:latin typeface="Arial"/>
              </a:rPr>
              <a:t>đ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uje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i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usvaja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nova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zn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Neki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utvr</a:t>
            </a:r>
            <a:r>
              <a:rPr b="0" lang="vi-VN" sz="1800" spc="-1" strike="noStrike">
                <a:solidFill>
                  <a:srgbClr val="a600a6"/>
                </a:solidFill>
                <a:latin typeface="Arial"/>
              </a:rPr>
              <a:t>đ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uju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već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steč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Formira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radne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nav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Razvija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osjećanje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dužnosti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i</a:t>
            </a:r>
            <a:r>
              <a:rPr b="0" lang="bs-Cyrl-BA" sz="1800" spc="-1" strike="noStrike">
                <a:solidFill>
                  <a:srgbClr val="a600a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a600a6"/>
                </a:solidFill>
                <a:latin typeface="Arial"/>
              </a:rPr>
              <a:t>odgovo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Roditelj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treb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nauč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ijet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omać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zadatk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vakodnevn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n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vrijem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ra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ijet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očeku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razgovor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roditeljem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žel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obi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nek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od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njeg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av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438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Documents and Settings\INDY\My Documents\My Pictures\Microsoft Clip Organizer\j0439527.jpg"/>
          <p:cNvPicPr/>
          <p:nvPr/>
        </p:nvPicPr>
        <p:blipFill>
          <a:blip r:embed="rId1"/>
          <a:stretch/>
        </p:blipFill>
        <p:spPr>
          <a:xfrm>
            <a:off x="380880" y="228600"/>
            <a:ext cx="2514600" cy="6324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79080"/>
            <a:ext cx="25909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038480" y="16765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ozici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tet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lobodn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vrijem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on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vrijem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tok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an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kojem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spreplić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brojn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raznovrsn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uticaj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adržaj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ozitivn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negativ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Roditelj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maj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obavez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pomogn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jetetu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da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njihov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lobodn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vrijem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bud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što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sadržajni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osmišljenije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i</a:t>
            </a:r>
            <a:r>
              <a:rPr b="0" lang="bs-Cyrl-BA" sz="2400" spc="-1" strike="noStrike">
                <a:solidFill>
                  <a:srgbClr val="714b25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714b25"/>
                </a:solidFill>
                <a:latin typeface="Arial"/>
              </a:rPr>
              <a:t>konstruktiv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59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Documents and Settings\INDY\My Documents\My Pictures\Microsoft Clip Organizer\j0439526.jpg"/>
          <p:cNvPicPr/>
          <p:nvPr/>
        </p:nvPicPr>
        <p:blipFill>
          <a:blip r:embed="rId1"/>
          <a:stretch/>
        </p:blipFill>
        <p:spPr>
          <a:xfrm>
            <a:off x="380880" y="228600"/>
            <a:ext cx="3657600" cy="5943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17:04Z</dcterms:created>
  <dc:creator>INDY</dc:creator>
  <dc:description/>
  <dc:language>en-US</dc:language>
  <cp:lastModifiedBy>OS Kozarska Djeca</cp:lastModifiedBy>
  <dcterms:modified xsi:type="dcterms:W3CDTF">2017-10-09T11:21:28Z</dcterms:modified>
  <cp:revision>31</cp:revision>
  <dc:subject/>
  <dc:title>СЈЕДНИЦА НАСТАВНИЧКОГ ВИЈЕЋА                          28.11.2008.</dc:title>
</cp:coreProperties>
</file>