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702-DE18-4568-9631-4E0EA8D9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AA8-F4E7-4D04-ACF0-FF8C878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97B-5B37-4BF4-B799-3F49C730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0E8-B70E-40AF-927D-BBD0DB35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B75-7E21-43C7-A82A-92E45EE4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02B-0793-4406-B858-E735DE75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EBF2-2171-40F4-B88F-6953181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717-56F0-4542-A253-BB7558FB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EE62-0F98-4001-B050-D9A40322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2EB-5962-4CFA-A1FC-A6AFA8E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C5E-FFB0-448C-8FD1-BB3A124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676-F994-4DA6-8BE6-5F1232E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B85-1C7C-4FFA-9C31-992114B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3C6-6BD5-4DEA-929F-06DA718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F3A5-391D-4725-BBCB-934B13A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B69E-7A17-4A8F-96E1-840B2F56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7B4-44F1-41C3-9C4A-D868BEFF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C04-BB71-421F-9A50-FC70474F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0DE-B672-4B85-B60F-021ED09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BD0-E5C0-4929-A507-D49C373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15C-D3BE-498A-9F9E-06A01817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D0E-5EAA-4CFC-B2B3-1BF6000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B4D-09BE-4A14-AD3A-291A5E71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0C6-9034-44EE-9B53-30FAC4D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A10-C29A-4E15-8C28-29C5B27874D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22040"/>
              <a:chOff x="-3240" y="247968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91800"/>
                <a:ext cx="990720" cy="4042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50040"/>
                <a:ext cx="1003320" cy="4996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2643840"/>
                <a:ext cx="990360" cy="66780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83880"/>
                <a:ext cx="990720" cy="40464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2650320"/>
                <a:ext cx="990720" cy="66780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2780640"/>
                <a:ext cx="990720" cy="40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2691360"/>
                <a:ext cx="990360" cy="57276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E2A-E1DE-4977-A028-AE6AF4808BB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871380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НАСИЉЕ МЕЂУ ДЈЕЦОМ У ШКОЛИ</a:t>
            </a:r>
            <a:endParaRPr b="0" lang="en-US" sz="6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29" name="Picture 16" descr="bullyingpic2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Times New Roman"/>
              </a:rPr>
              <a:t>КАКО ПРЕПОЗНАТИ ДИЈЕТЕ ЖРТВУ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асиље се у школи обично догађа далеко од очију одраслих, на дворишту озван школе, у тоалету и сл.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јеца – жртва насиља често ником не говоре о проблему с којим су суочени, јер их је срам властите слабости и немогућности да се одбране или се боје пријетњи насилника; понекад се боје да ће умијешаност одрасле особе у проблем изазвати још више невољ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87280" y="3213000"/>
            <a:ext cx="7777440" cy="142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А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ко сумњате да је Ваше дијете жртв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насиља обратите пажњу н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Verdana"/>
              </a:rPr>
              <a:t>с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лиједеће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ијете долази у подераној одјећи или покиданих књига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ијете долази с модрицама и огреботинама а “не зна” како су настале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е дружи се с пријатељима из разреда нити има најбољег пријатеља.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руга дјеца га/ју не позивају на дружење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оима се несретним и тужним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ма учестале главобоље и болове у стомаку ( нарочито)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е жели ићи у школу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ма нападе лошег расположења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ијења пут којим иде у школу и из школе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ма све лошији успјех у школи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ражи више новца 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0" name="Picture 5" descr="mihye210"/>
          <p:cNvPicPr/>
          <p:nvPr/>
        </p:nvPicPr>
        <p:blipFill>
          <a:blip r:embed="rId1"/>
          <a:stretch/>
        </p:blipFill>
        <p:spPr>
          <a:xfrm>
            <a:off x="6588000" y="1916280"/>
            <a:ext cx="2330640" cy="396072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04000" cy="1287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Times New Roman"/>
              </a:rPr>
              <a:t>КАКО ПРЕПОЗНАТИ ДИЈЕТЕ НАСИЛНИКА?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1720" y="15714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ма снажну потребу за моћи и контролом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есто је физички јаче од својих жртав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ема суосјећања за бол жртве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жива у туђем болу и патњи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матра да га је жртва изазвала својим понашањем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аздражљиво је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импулсивно je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релативно je високог самопоштовањ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ије бојажљиво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ешко подноси неуспјех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његовој/њезиној породици су честе физичке казне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гресивно је и према одраслим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е придржава се школских правил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zervirano mjesto podnožja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dddddd"/>
                </a:solidFill>
                <a:latin typeface="Arial"/>
              </a:rPr>
              <a:t>Olweus, 1993; Batsche &amp; Knoff, 1994; prema: www. kidsource.com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339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ПОСЉЕДИЦЕ НАСИЉА У ШКОЛИ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9720" y="1773360"/>
            <a:ext cx="4429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ак 7%дјеце остаје код куће,барем једном мјесечно, због злостављања у школи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ртве насиља трпе изолованост од вршњака, јер се њихови суученици не желе дружити с онима који су неомиљени и злостављању, због страха да бе се исто могло догодити и њима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зложеност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сиљ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школ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вод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иског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амопоштовањ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епресиј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т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роблем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ставит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одраслој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оби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чак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60%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оних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школског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об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роцијењен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а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силниц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24.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мал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барем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једн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риминалн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јело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6" name="Picture 5" descr="bullying211"/>
          <p:cNvPicPr/>
          <p:nvPr/>
        </p:nvPicPr>
        <p:blipFill>
          <a:blip r:embed="rId1"/>
          <a:stretch/>
        </p:blipFill>
        <p:spPr>
          <a:xfrm>
            <a:off x="5508720" y="1916280"/>
            <a:ext cx="3384360" cy="43210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0" y="764640"/>
            <a:ext cx="4284720" cy="5688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учинити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Ваше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дијете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изложено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насиљу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школи</a:t>
            </a:r>
            <a:r>
              <a:rPr b="1" lang="hr-HR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003640" y="4221000"/>
            <a:ext cx="23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pic>
        <p:nvPicPr>
          <p:cNvPr id="179" name="Picture 21" descr="tearyeyeboy"/>
          <p:cNvPicPr/>
          <p:nvPr/>
        </p:nvPicPr>
        <p:blipFill>
          <a:blip r:embed="rId1"/>
          <a:stretch/>
        </p:blipFill>
        <p:spPr>
          <a:xfrm>
            <a:off x="1042920" y="836640"/>
            <a:ext cx="3456000" cy="55450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7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останит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мирен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трпљив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;</a:t>
            </a:r>
            <a:r>
              <a:rPr b="1" lang="hr-HR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80808"/>
                </a:solidFill>
                <a:latin typeface="Verdana"/>
              </a:rPr>
              <a:t>вј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руј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јетет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лушај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творе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говарај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ом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огодил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стављај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итањ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ал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чини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презно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покажит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јетету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Вам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тало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о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њег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о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тог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успјешно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ријеш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проблем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;</a:t>
            </a:r>
            <a:r>
              <a:rPr b="1" lang="hr-HR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овори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ишт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огл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већа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сјећај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трах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самљенос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јетет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аж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н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м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ав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штит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м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м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братити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охрабрит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дије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ецит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ступил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обр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братил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ам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моћ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214280" y="2214720"/>
            <a:ext cx="7561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1258920" y="5013360"/>
            <a:ext cx="7561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одузимај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икакв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‘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корак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’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риј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г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шт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том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разговарали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јететом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;</a:t>
            </a:r>
            <a:r>
              <a:rPr b="1" lang="hr-HR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одитељ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некад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бог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збуђенос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еагирај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емотивн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гл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чин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ош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горш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тањ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јетет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пр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одитељ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брачун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лостављаче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миљен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азред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руг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јец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бог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ог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жел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руж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лостављани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јетето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4" name="Picture 5" descr="bullying%202_gif"/>
          <p:cNvPicPr/>
          <p:nvPr/>
        </p:nvPicPr>
        <p:blipFill>
          <a:blip r:embed="rId1"/>
          <a:stretch/>
        </p:blipFill>
        <p:spPr>
          <a:xfrm>
            <a:off x="5651640" y="1484280"/>
            <a:ext cx="2933640" cy="37846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583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бећавај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ишт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шт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може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испунити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;</a:t>
            </a:r>
            <a:r>
              <a:rPr b="1" lang="hr-HR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пр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бећавај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јетет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иком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ће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ећ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обле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огађају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бавијести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разредницу</a:t>
            </a:r>
            <a:r>
              <a:rPr b="1" lang="hr-HR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соб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тручног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им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школ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спричај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етаљн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огодил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ли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рајал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итај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ћ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школ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дузе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оговори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новн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станак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</a:t>
            </a:r>
            <a:r>
              <a:rPr b="1" lang="sr-Latn-CS" sz="2000" spc="-1" strike="noStrike">
                <a:solidFill>
                  <a:srgbClr val="cc0000"/>
                </a:solidFill>
                <a:latin typeface="Verdana"/>
              </a:rPr>
              <a:t>А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РАЂУЈ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ШКОЛОМ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!!!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а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мијетил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Ваш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чешћ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зложен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сиљ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кушај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оговор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азредницо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иљан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мјес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луп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јетето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обар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јатељ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ал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вјешт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оцијални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итуацијам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а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Ваш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учил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а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руж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ругим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ал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а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аузе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еб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ом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иког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вриједити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187280" y="1773360"/>
            <a:ext cx="7561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116000" y="3716280"/>
            <a:ext cx="7561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71720" y="571320"/>
            <a:ext cx="4046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помозит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дјетету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да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схвати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зашто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ј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насилник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то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чинио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;</a:t>
            </a:r>
            <a:r>
              <a:rPr b="1" lang="hr-HR" sz="1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он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хватити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и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рив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н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м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огађа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ак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Ваш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би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чим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зазва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агресиј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асилник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позори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г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о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ак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ати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збиљнијих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облем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акон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би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зложен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асиљ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потражит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помоћ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стручњака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потичит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дијет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на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физичко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Verdana"/>
              </a:rPr>
              <a:t>освећивање</a:t>
            </a: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(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Само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ти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њег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удари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!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Врати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му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!)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9" name="Picture 5" descr="bullyingpp"/>
          <p:cNvPicPr/>
          <p:nvPr/>
        </p:nvPicPr>
        <p:blipFill>
          <a:blip r:embed="rId1"/>
          <a:stretch/>
        </p:blipFill>
        <p:spPr>
          <a:xfrm>
            <a:off x="5508720" y="1052640"/>
            <a:ext cx="3319200" cy="4968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819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учинити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Ваш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дијет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изложен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насиљу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школи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3280" y="2743200"/>
            <a:ext cx="38102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c0000"/>
                </a:solidFill>
                <a:uFillTx/>
                <a:latin typeface="Verdana"/>
              </a:rPr>
              <a:t>podučite dijete ponašanjima koja ga mogu zaštititi od nasilja u škol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2" name="Picture 5" descr="000759-1"/>
          <p:cNvPicPr/>
          <p:nvPr/>
        </p:nvPicPr>
        <p:blipFill>
          <a:blip r:embed="rId1"/>
          <a:stretch/>
        </p:blipFill>
        <p:spPr>
          <a:xfrm>
            <a:off x="5651640" y="2924280"/>
            <a:ext cx="2844720" cy="2952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920" y="549360"/>
            <a:ext cx="76485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асиље у школи је проблем који је присутан у цијелом свијету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одитељи и наставници су забринути учесталим насилним понашањима којима су изложена њихова дјеца или у њима учествују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1" name="Picture 8" descr="bullyingpic5big"/>
          <p:cNvPicPr/>
          <p:nvPr/>
        </p:nvPicPr>
        <p:blipFill>
          <a:blip r:embed="rId1"/>
          <a:stretch/>
        </p:blipFill>
        <p:spPr>
          <a:xfrm>
            <a:off x="4500720" y="4581360"/>
            <a:ext cx="3809880" cy="2016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4284720" y="6278400"/>
            <a:ext cx="4174920" cy="57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73240" y="549360"/>
            <a:ext cx="77724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Понашат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храбро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Чак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м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ак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плашен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р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м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етк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је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рис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наша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храбр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дигну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лав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справ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хода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леда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соб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ч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Игнорират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насилник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јетет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треб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бјасни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силник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прав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ел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његов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еакциј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Заузети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за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себе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јетет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треб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бјаснит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силнику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ећ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"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"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тим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ирно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тић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403280" y="2708280"/>
            <a:ext cx="7272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1428840" y="4643280"/>
            <a:ext cx="7272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Повјерит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одраслој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особ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Дјец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чес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матрају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повјерава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драслој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соб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л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Verdana"/>
              </a:rPr>
              <a:t>тужака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Потребн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бјаснит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Verdana"/>
              </a:rPr>
              <a:t>тужака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раже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помоћ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i="1" lang="sr-CS" sz="2200" spc="-1" strike="noStrike">
                <a:solidFill>
                  <a:srgbClr val="000000"/>
                </a:solidFill>
                <a:latin typeface="Verdana"/>
              </a:rPr>
              <a:t>тужака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д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говориш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етк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учини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му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ани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зл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sr-CS" sz="2200" spc="-1" strike="noStrike">
                <a:solidFill>
                  <a:srgbClr val="000000"/>
                </a:solidFill>
                <a:latin typeface="Verdana"/>
              </a:rPr>
              <a:t>Тужакањ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и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жеш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етк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учини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заштити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еб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имат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сјећај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игурност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повјерењ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прем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драслим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собама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Повјерит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пријатељима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потражит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помоћ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НИКАДА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узвраћати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на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насиље</a:t>
            </a:r>
            <a:r>
              <a:rPr b="1" lang="hr-HR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cc0000"/>
                </a:solidFill>
                <a:latin typeface="Verdana"/>
              </a:rPr>
              <a:t>насиљем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р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асилник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жел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етк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могао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бит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злијеђен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258920" y="3860640"/>
            <a:ext cx="7129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32000" y="4797360"/>
            <a:ext cx="7129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04280"/>
            <a:ext cx="7772400" cy="1195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учинити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Ваш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дијете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насилно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4011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Ак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т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римијетил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ваш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силн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рем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уученицим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млађој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јец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ругим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важно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одмах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реагират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оучит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енасилним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методам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рјешавањ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укоб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задобивањ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ажњ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клапањ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ријатељстав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јетит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силн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јец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старијој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об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чешће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починитељи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азнених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дјела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364000" y="2060640"/>
            <a:ext cx="230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pic>
        <p:nvPicPr>
          <p:cNvPr id="202" name="Picture 16" descr="bullying4"/>
          <p:cNvPicPr/>
          <p:nvPr/>
        </p:nvPicPr>
        <p:blipFill>
          <a:blip r:embed="rId1"/>
          <a:stretch/>
        </p:blipFill>
        <p:spPr>
          <a:xfrm>
            <a:off x="5219640" y="2276640"/>
            <a:ext cx="3635280" cy="35686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>
    <p:push dir="r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15640" y="620640"/>
            <a:ext cx="7201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ражи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правдањ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јететов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асилн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нашањ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ражи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јетет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вам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етаљн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сприч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огоди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итај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г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војим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нашањем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жеље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стићи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итај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Вам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аж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бил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лош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ом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нашањ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едложит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јетету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тави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Verdana"/>
              </a:rPr>
              <a:t>ципел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вој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жртв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ако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н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сјећала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204" name="Picture 6" descr="bully"/>
          <p:cNvPicPr/>
          <p:nvPr/>
        </p:nvPicPr>
        <p:blipFill>
          <a:blip r:embed="rId1"/>
          <a:stretch/>
        </p:blipFill>
        <p:spPr>
          <a:xfrm>
            <a:off x="5219640" y="3141720"/>
            <a:ext cx="3600360" cy="3168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205" name="Line 9"/>
          <p:cNvSpPr/>
          <p:nvPr/>
        </p:nvSpPr>
        <p:spPr>
          <a:xfrm>
            <a:off x="1403280" y="1413000"/>
            <a:ext cx="6769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1403280" y="2349360"/>
            <a:ext cx="6769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1332000" y="3357720"/>
            <a:ext cx="3887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1332000" y="4724280"/>
            <a:ext cx="3887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5758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ак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б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ругачи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насилн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огл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ијеш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итуацију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љедећ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ут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аборави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хвал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ијет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ирољубив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нашањ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оучи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ије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насилном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рјешавању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роблем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дентификациј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облем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в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чинити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огућност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најбоља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гирај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јететов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емоциј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оучи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г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контроли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негативних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емоциј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онашај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рем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јетету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нак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как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бист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жељели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се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оно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онаш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према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ругој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дјеци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76360" y="1197000"/>
            <a:ext cx="7128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1547640" y="2349360"/>
            <a:ext cx="7128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476360" y="3716280"/>
            <a:ext cx="7128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1476360" y="4437000"/>
            <a:ext cx="7128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1476360" y="5157720"/>
            <a:ext cx="7128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4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80000"/>
                </a:solidFill>
                <a:latin typeface="Verdana"/>
              </a:rPr>
              <a:t>ХВАЛА НА ПАЖЊИ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02920" y="765000"/>
            <a:ext cx="66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асиље у школи нарушава сигурност дјетета и његов психофизички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Р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адници школе и родитељи могу помоћи у спречавању и заустављању насиља у школама, штовише без заједничког дјеловања није могуће смањити појаву насиља у школама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82612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hr-HR" sz="4800" spc="-1" strike="noStrike">
                <a:solidFill>
                  <a:srgbClr val="ffffff"/>
                </a:solidFill>
                <a:latin typeface="Times New Roman"/>
              </a:rPr>
              <a:t>асиље у школи је...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cc0000"/>
                </a:solidFill>
                <a:latin typeface="Verdana"/>
              </a:rPr>
              <a:t>...</a:t>
            </a:r>
            <a:r>
              <a:rPr b="1" i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i="1" lang="hr-HR" sz="2800" spc="-1" strike="noStrike">
                <a:solidFill>
                  <a:srgbClr val="000000"/>
                </a:solidFill>
                <a:latin typeface="Verdana"/>
              </a:rPr>
              <a:t>асиље у којем је ученик трајно и учестало изложен негативним поступцима од стране једног или више ученика који га намјерно желе повриједити, понизити или изложити неугодностима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(Olweus, 1988. i 1991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333000"/>
            <a:ext cx="7772400" cy="1266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Насиље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 није 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119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једнократни</a:t>
            </a:r>
            <a:r>
              <a:rPr b="1" lang="hr-HR" sz="18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инцидент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који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се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неће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поновити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пријатељск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размириц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свађ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или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неспоразум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ненамјерно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наношење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боли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пријатељско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задиркивање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насилно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рјешавање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сукоб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између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пријатеља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исте</a:t>
            </a:r>
            <a:r>
              <a:rPr b="1" lang="hr-HR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80808"/>
                </a:solidFill>
                <a:latin typeface="Verdana"/>
              </a:rPr>
              <a:t>моћи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8" name="Picture 17" descr="children"/>
          <p:cNvPicPr/>
          <p:nvPr/>
        </p:nvPicPr>
        <p:blipFill>
          <a:blip r:embed="rId1"/>
          <a:stretch/>
        </p:blipFill>
        <p:spPr>
          <a:xfrm>
            <a:off x="5435640" y="1916280"/>
            <a:ext cx="3276720" cy="4608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9" name="Line 20"/>
          <p:cNvSpPr/>
          <p:nvPr/>
        </p:nvSpPr>
        <p:spPr>
          <a:xfrm>
            <a:off x="1547640" y="2781360"/>
            <a:ext cx="381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1547640" y="3573360"/>
            <a:ext cx="381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1619280" y="4581360"/>
            <a:ext cx="381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1619280" y="5229360"/>
            <a:ext cx="381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619280" y="6308640"/>
            <a:ext cx="381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Times New Roman"/>
              </a:rPr>
              <a:t>ВРСТЕ НАСИЉА У ШКОЛИ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1. ФИЗИЧКО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нагуривања,ударање,гребање и сл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2. ВЕРБАЛНО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називање погрдним именима, пријетње и сл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3. СОЦИЈАЛНО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оговарање, игнорисање, покушаји да се другу особу избаци из групе и сл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4. ПСИХОЛОШК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пријетећи погледи и сл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1116000" y="2637000"/>
            <a:ext cx="8028000" cy="0"/>
          </a:xfrm>
          <a:prstGeom prst="line">
            <a:avLst/>
          </a:prstGeom>
          <a:ln w="117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16000" y="3789360"/>
            <a:ext cx="8028000" cy="0"/>
          </a:xfrm>
          <a:prstGeom prst="line">
            <a:avLst/>
          </a:prstGeom>
          <a:ln w="117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116000" y="5229360"/>
            <a:ext cx="8028000" cy="0"/>
          </a:xfrm>
          <a:prstGeom prst="line">
            <a:avLst/>
          </a:prstGeom>
          <a:ln w="117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7772400" cy="857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УЧЕСТАЛОСТ НАСИЉА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356840"/>
            <a:ext cx="75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вако четврто дијете је изложено насиљу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ваке седме минуте је једно дијете у школи изложено насиљу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15% ученика је укључено у насиље –или су жртве или су насилни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ци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у 4% случајева насиље покуша спријечити одрасла особа; у 11% случајева покушава га ријешити други ученик ;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у 85% случајева дјетету- жртви насиља не помогне нико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flipV="1">
            <a:off x="1143000" y="1928520"/>
            <a:ext cx="7812000" cy="71280"/>
          </a:xfrm>
          <a:prstGeom prst="rect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71720" y="2928960"/>
            <a:ext cx="7885080" cy="71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71720" y="3929040"/>
            <a:ext cx="7885080" cy="730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71720" y="5857920"/>
            <a:ext cx="7812000" cy="730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zervirano mjesto podnožja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dddddd"/>
                </a:solidFill>
                <a:latin typeface="Arial"/>
              </a:rPr>
              <a:t>Olweus, 1998.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РАЗЛИКЕ ИЗМЕЂУ ДЈЕЧАКА И ДЈЕВОЈЧИЦА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42920" y="1700280"/>
            <a:ext cx="6049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ДЈЕЧАЦИ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ише су изложени насиљу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пћенито, више судјелују у злостављању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ешће се служе физичким насиљем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ешће су изложени насиљу појединц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ДЈЕВОЈЧИЦЕ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уптилније методе насиља (оговарање,игнорисање, ширење гласина и сл.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ато се теже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ешће су изложене насиљу групе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8" name="Picture 8" descr="boy_happy3"/>
          <p:cNvPicPr/>
          <p:nvPr/>
        </p:nvPicPr>
        <p:blipFill>
          <a:blip r:embed="rId1"/>
          <a:stretch/>
        </p:blipFill>
        <p:spPr>
          <a:xfrm>
            <a:off x="1187280" y="1557360"/>
            <a:ext cx="1451160" cy="1843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59" name="Picture 10" descr="girl_skates"/>
          <p:cNvPicPr/>
          <p:nvPr/>
        </p:nvPicPr>
        <p:blipFill>
          <a:blip r:embed="rId2"/>
          <a:stretch/>
        </p:blipFill>
        <p:spPr>
          <a:xfrm>
            <a:off x="1187280" y="4292640"/>
            <a:ext cx="1432080" cy="18716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60" name="Rectangle 13"/>
          <p:cNvSpPr/>
          <p:nvPr/>
        </p:nvSpPr>
        <p:spPr>
          <a:xfrm>
            <a:off x="1042920" y="3714840"/>
            <a:ext cx="810108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042920" y="6597720"/>
            <a:ext cx="8101080" cy="260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ОБИЉЕЖЈА ТИПИЧНЕ ЖРТВЕ НАСИЉА У ШКОЛИ</a:t>
            </a:r>
            <a:endParaRPr b="0" lang="en-US" sz="36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970440" cy="4591080"/>
          </a:xfrm>
          <a:prstGeom prst="rect">
            <a:avLst/>
          </a:prstGeom>
          <a:solidFill>
            <a:srgbClr val="cc0000"/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н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есигур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през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ир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овуче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н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иског самопоштовањ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усамље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утучен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лачљив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ма мало пријатеља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ф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изички слабија од насилника(није услов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4" name="Picture 7" descr="bullyingpic4big"/>
          <p:cNvPicPr/>
          <p:nvPr/>
        </p:nvPicPr>
        <p:blipFill>
          <a:blip r:embed="rId1"/>
          <a:stretch/>
        </p:blipFill>
        <p:spPr>
          <a:xfrm>
            <a:off x="5511960" y="1981080"/>
            <a:ext cx="305748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867280" y="260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dddddd"/>
                </a:solidFill>
                <a:latin typeface="BlueStone"/>
              </a:rPr>
              <a:t>V</a:t>
            </a: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9:32Z</dcterms:created>
  <dc:creator>Sanja&amp;Željka</dc:creator>
  <dc:description/>
  <dc:language>en-US</dc:language>
  <cp:lastModifiedBy>OS Kozarska Djeca</cp:lastModifiedBy>
  <dcterms:modified xsi:type="dcterms:W3CDTF">2017-10-17T11:05:30Z</dcterms:modified>
  <cp:revision>121</cp:revision>
  <dc:subject/>
  <dc:title>Pubertet i adolescencija</dc:title>
</cp:coreProperties>
</file>