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4EE-A9CC-4F34-B7CC-1C034BC1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75E-BF3B-4A54-A19D-EF2FE38E18B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D66-4297-42FF-A989-EA2DE92A517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20BF-45CE-4BD9-918C-05BE80E9ACB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2E0-8DA6-429C-A181-9DF9A1ABAC4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010-EF13-4C99-96F1-2D0667A1661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562-F67F-47AA-90A5-2D0AA397D5C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BE1-17EB-469D-A984-AAA93BDB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CBB-7410-4E6F-B43A-130EE92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9B5-557C-4F16-9CEF-920F9EF2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53F-8509-4899-B555-7F42338F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87C-A923-4EAF-B710-07F8F18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0C2-2118-42BB-81F0-BC4D709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55D-DFB4-4EFB-8A24-A6F101B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534-EB2D-46F1-8B68-33FCF77E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623-9899-4823-902E-234CF1E7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ED6-BA56-4ED0-8E93-57F8CA2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FB8-F069-4303-9B5E-379946E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C13-D59A-4CC6-950F-5DBD377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djqjm_ej[1]"/>
          <p:cNvPicPr/>
          <p:nvPr/>
        </p:nvPicPr>
        <p:blipFill>
          <a:blip r:embed="rId3"/>
          <a:stretch/>
        </p:blipFill>
        <p:spPr>
          <a:xfrm>
            <a:off x="0" y="0"/>
            <a:ext cx="138276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2485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0990-0E58-4D78-A3A0-B3C88B40E6D9}" type="datetime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4567-C037-4A4F-9106-0C761BE3B4FA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7">
            <a:hlinkClick r:id="" action="ppaction://hlinkshowjump?jump=firstslide"/>
          </p:cNvPr>
          <p:cNvSpPr/>
          <p:nvPr/>
        </p:nvSpPr>
        <p:spPr>
          <a:xfrm>
            <a:off x="731520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8">
            <a:hlinkClick r:id="" action="ppaction://hlinkshowjump?jump=previousslide"/>
          </p:cNvPr>
          <p:cNvSpPr/>
          <p:nvPr/>
        </p:nvSpPr>
        <p:spPr>
          <a:xfrm>
            <a:off x="777240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0">
            <a:hlinkClick r:id="" action="ppaction://hlinkshowjump?jump=lastslide"/>
          </p:cNvPr>
          <p:cNvSpPr/>
          <p:nvPr/>
        </p:nvSpPr>
        <p:spPr>
          <a:xfrm>
            <a:off x="845820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jqjm_ej[1]"/>
          <p:cNvPicPr/>
          <p:nvPr/>
        </p:nvPicPr>
        <p:blipFill>
          <a:blip r:embed="rId3"/>
          <a:stretch/>
        </p:blipFill>
        <p:spPr>
          <a:xfrm>
            <a:off x="152280" y="838080"/>
            <a:ext cx="349272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1532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559116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pšti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diteljski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astanak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vakom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roditelj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živ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čenik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etko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tko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am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išao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ekad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spješno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ekad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euspješno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nog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anas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laze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replavljeni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tarim</a:t>
            </a:r>
            <a:r>
              <a:rPr b="1" i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osjećajim</a:t>
            </a:r>
            <a:r>
              <a:rPr b="1" i="1" lang="sr-BA" sz="3200" spc="-1" strike="noStrike">
                <a:solidFill>
                  <a:srgbClr val="000000"/>
                </a:solidFill>
                <a:latin typeface="Arial"/>
              </a:rPr>
              <a:t>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Drug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rh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ašeg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okut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č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č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ego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log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itel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ljepših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težih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nim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itelj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mel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ra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oš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ra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jel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maž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eć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rh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ašeg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okut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če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i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ć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h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še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okut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č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i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ego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log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eni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va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o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uča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stv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or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nim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itel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log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e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l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sjeć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š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log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nos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itel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ebal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š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jveć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vot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rijed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304920"/>
            <a:ext cx="81532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nekad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unikaci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č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entar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ist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aspita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r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sa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la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u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?”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raz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češć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is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bacivan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svajan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govornos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etenci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952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unikaci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te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kov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mo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c31f"/>
                </a:solidFill>
                <a:latin typeface="Arial"/>
              </a:rPr>
              <a:t>VASPITANJE</a:t>
            </a:r>
            <a:r>
              <a:rPr b="0" lang="sr-BA" sz="3200" spc="-1" strike="noStrike">
                <a:solidFill>
                  <a:srgbClr val="42c31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c31f"/>
                </a:solidFill>
                <a:latin typeface="Arial"/>
              </a:rPr>
              <a:t>OBRAZ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c31f"/>
                </a:solidFill>
                <a:latin typeface="Arial"/>
              </a:rPr>
              <a:t>ŠKOL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ova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enstve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azir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vajan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jenic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ormaci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a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stituci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v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vaj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ješt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v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ključu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spit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on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vl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spit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š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aj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ormir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čn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ije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gijensk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d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ultur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vik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l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obin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si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zičk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osobnost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voje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nj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ještin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ijen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jećaj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je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pad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lig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štven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jedni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o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spita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ključ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ave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dać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od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greš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ic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o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uča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stavlj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a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g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vreme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š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odi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žalost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st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utn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išlje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aspit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j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duže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ključ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st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jiho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a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dać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ač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šk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avaljan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aspitnih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data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ba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oć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čitel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stavnic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fe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6" descr="tortoise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97" name="Title 7" descr=""/>
          <p:cNvPicPr/>
          <p:nvPr/>
        </p:nvPicPr>
        <p:blipFill>
          <a:blip r:embed="rId2"/>
          <a:stretch/>
        </p:blipFill>
        <p:spPr>
          <a:xfrm>
            <a:off x="2359080" y="2279520"/>
            <a:ext cx="6029280" cy="35974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320" y="914040"/>
            <a:ext cx="76964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ključ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da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je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vo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no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ig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ca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uča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pust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spita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ni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nemar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pust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7086600" cy="3505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kvom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dnosu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až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rtnerstvo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orodice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š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až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ključen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važn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spitači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već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vor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pred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zna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rak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iv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gocentriz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ramežljiv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štu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štve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as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b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jeloživot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z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ješa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radn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jedništ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tra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a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lanovi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jednice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e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ane</a:t>
            </a: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o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vi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egov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encij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ž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vi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štv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lo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š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ijed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r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ig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ć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te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jedin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mjer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en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juč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ž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zna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egov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k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b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eg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č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čemu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gleda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brobit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rtnerstva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čenike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oditelje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stavnike</a:t>
            </a:r>
            <a:r>
              <a:rPr b="1" lang="sr-B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ČE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var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ediš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razovn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ce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iž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dovn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punjav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ost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v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itivn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ocija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v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našanj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ijentaci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uduć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r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la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paciteti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kš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hvać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jes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lasti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denti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poštov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stal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v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rasl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govara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razi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šlj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ličit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sk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jeli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kš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ozn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dovoljav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eb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ODITE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č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pouzd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gur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uža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ć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n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ga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iž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itivni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č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vnik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pri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valitetnij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ih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važav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rh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š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punjava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s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lo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umijeva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razovn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nog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ček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tne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dion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s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č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sk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ivo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g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STAV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n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ihov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sut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var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o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č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fesional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važav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ličit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j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v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vezn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ješavan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škoć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iz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r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rom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e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noprav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rječavajuć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ko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ustracij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iž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itivni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č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iho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umijev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ož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ži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vjet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nik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tiviranij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dovoljnij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om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iž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jer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u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lic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47560"/>
            <a:ext cx="4495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DIVIDUA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ividualn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govor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jen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šljenj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j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rješin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učnih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radnik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govor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tem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lefon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uk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ismen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tor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jedinih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v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šć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ličitim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isija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jeći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je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9568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RUP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sk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stanc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matsk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stanc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dagoško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sihološk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užb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upn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visno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e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n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orenih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ni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šć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uzičk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ortsk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dravstve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št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ičk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kcij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l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kurz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edagog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pitiv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esovanj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jedin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gment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d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oć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ij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jec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j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Arial"/>
              </a:rPr>
              <a:t>teškoć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čenj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Arial"/>
              </a:rPr>
              <a:t>i ponaš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už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oć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aspitno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d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j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dagošk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azov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už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oć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mišljavanj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obodnog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Arial"/>
              </a:rPr>
              <a:t>Profesionalna orijentacija – šta nakon osnovne šk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dionica</a:t>
            </a:r>
            <a:r>
              <a:rPr b="0" lang="sr-BA" sz="3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jednički</a:t>
            </a:r>
            <a:r>
              <a:rPr b="0" lang="sr-B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rtež</a:t>
            </a:r>
            <a:r>
              <a:rPr b="0" lang="sr-BA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9cc00"/>
                </a:solidFill>
                <a:latin typeface="Arial"/>
              </a:rPr>
              <a:t>ZADATAK</a:t>
            </a:r>
            <a:r>
              <a:rPr b="1" lang="sr-BA" sz="32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di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r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k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l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crt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oj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rtež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jed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ž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lovk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mij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unicitr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li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tog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k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četa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rta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rtać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v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nut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rtež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7" descr="pijetao.jpg"/>
          <p:cNvPicPr/>
          <p:nvPr/>
        </p:nvPicPr>
        <p:blipFill>
          <a:blip r:embed="rId1"/>
          <a:stretch/>
        </p:blipFill>
        <p:spPr>
          <a:xfrm>
            <a:off x="1066680" y="1828800"/>
            <a:ext cx="2895840" cy="3125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8" descr="slon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5029200" y="205740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t1.gstatic.com/images?q=tbn:ANd9GcSopT24srVyib18rcQuGqCF3AJyJ4WXCbhXs0GYMDdhenV7VodSEw"/>
          <p:cNvPicPr/>
          <p:nvPr/>
        </p:nvPicPr>
        <p:blipFill>
          <a:blip r:embed="rId1"/>
          <a:stretch/>
        </p:blipFill>
        <p:spPr>
          <a:xfrm>
            <a:off x="268200" y="1316160"/>
            <a:ext cx="2511360" cy="9308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t1.gstatic.com/images?q=tbn:ANd9GcRgUCl2a33kxyuyNztlA-P33EA_WartmL6mjNqDDVRsdLHlNf9Kyw"/>
          <p:cNvPicPr/>
          <p:nvPr/>
        </p:nvPicPr>
        <p:blipFill>
          <a:blip r:embed="rId2"/>
          <a:stretch/>
        </p:blipFill>
        <p:spPr>
          <a:xfrm>
            <a:off x="6456240" y="1139760"/>
            <a:ext cx="1779840" cy="804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:\slicice\ucenik.jpg"/>
          <p:cNvPicPr/>
          <p:nvPr/>
        </p:nvPicPr>
        <p:blipFill>
          <a:blip r:embed="rId3"/>
          <a:stretch/>
        </p:blipFill>
        <p:spPr>
          <a:xfrm>
            <a:off x="3871800" y="2514600"/>
            <a:ext cx="14004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Block Arc 6"/>
          <p:cNvSpPr/>
          <p:nvPr/>
        </p:nvSpPr>
        <p:spPr>
          <a:xfrm>
            <a:off x="2590920" y="3048120"/>
            <a:ext cx="1600200" cy="457200"/>
          </a:xfrm>
          <a:prstGeom prst="pi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Block Arc 7"/>
          <p:cNvSpPr/>
          <p:nvPr/>
        </p:nvSpPr>
        <p:spPr>
          <a:xfrm flipV="1">
            <a:off x="4876920" y="3200400"/>
            <a:ext cx="1828800" cy="380880"/>
          </a:xfrm>
          <a:prstGeom prst="pi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odnosu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roditelj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škol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n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možem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govorit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BA" sz="3200" spc="-1" strike="noStrike">
                <a:solidFill>
                  <a:srgbClr val="0d0d0d"/>
                </a:solidFill>
                <a:latin typeface="Arial"/>
              </a:rPr>
              <a:t>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d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njeg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n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uvrstim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osob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zbog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kojih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j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d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tog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odnos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došl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T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su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naš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djec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–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učenic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škol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160" y="380520"/>
            <a:ext cx="7010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mislim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aj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oku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k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ho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ak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ž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41911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1cf021"/>
                </a:solidFill>
                <a:latin typeface="Arial"/>
                <a:ea typeface="Arial"/>
              </a:rPr>
              <a:t>Dijete</a:t>
            </a:r>
            <a:r>
              <a:rPr b="1" lang="hr-HR" sz="1800" spc="-1" strike="noStrike">
                <a:solidFill>
                  <a:srgbClr val="1cf021"/>
                </a:solidFill>
                <a:latin typeface="Arial"/>
                <a:ea typeface="Arial"/>
              </a:rPr>
              <a:t>/</a:t>
            </a:r>
            <a:r>
              <a:rPr b="1" lang="sr-Latn-CS" sz="1800" spc="-1" strike="noStrike">
                <a:solidFill>
                  <a:srgbClr val="1cf021"/>
                </a:solidFill>
                <a:latin typeface="Arial"/>
                <a:ea typeface="Arial"/>
              </a:rPr>
              <a:t>Uče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666880" y="502920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1cf021"/>
                </a:solidFill>
                <a:latin typeface="Arial"/>
                <a:ea typeface="Arial"/>
              </a:rPr>
              <a:t>Roditelj</a:t>
            </a:r>
            <a:r>
              <a:rPr b="0" lang="hr-HR" sz="1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714360" y="50292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1cf021"/>
                </a:solidFill>
                <a:latin typeface="Arial"/>
                <a:ea typeface="Arial"/>
              </a:rPr>
              <a:t>Učitelj</a:t>
            </a:r>
            <a:r>
              <a:rPr b="1" lang="hr-HR" sz="1800" spc="-1" strike="noStrike">
                <a:solidFill>
                  <a:srgbClr val="1cf021"/>
                </a:solidFill>
                <a:latin typeface="Arial"/>
                <a:ea typeface="Arial"/>
              </a:rPr>
              <a:t>/</a:t>
            </a:r>
            <a:r>
              <a:rPr b="1" lang="sr-Latn-CS" sz="1800" spc="-1" strike="noStrike">
                <a:solidFill>
                  <a:srgbClr val="1cf021"/>
                </a:solidFill>
                <a:latin typeface="Arial"/>
                <a:ea typeface="Arial"/>
              </a:rPr>
              <a:t>Š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rh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ašeg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okut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Što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znač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biti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roditelj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99cc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Koj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je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njegov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uloga</a:t>
            </a:r>
            <a:r>
              <a:rPr b="0" lang="hr-HR" sz="32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294920"/>
            <a:ext cx="83059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Želje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zna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da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ljubav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djetet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n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nužno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biološkom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ruža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m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materijalno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okvir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vojih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mogućnos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rimjerom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govori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ravim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životnim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vrijednostim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materijalno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igurno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n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pad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t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kategorij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omaga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m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d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zrast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osob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koj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ć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ma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vjer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eb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voj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sposobnos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či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g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d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oštuj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različitos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či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g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važnost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održavanj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ravnoteže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zme</a:t>
            </a:r>
            <a:r>
              <a:rPr b="0" lang="vi-VN" sz="2400" spc="-1" strike="noStrike">
                <a:solidFill>
                  <a:srgbClr val="0d0d0d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prav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d0d0d"/>
                </a:solidFill>
                <a:latin typeface="Arial"/>
              </a:rPr>
              <a:t>obaveza</a:t>
            </a:r>
            <a:r>
              <a:rPr b="0" lang="hr-HR" sz="24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13:27Z</dcterms:created>
  <dc:creator>nn</dc:creator>
  <dc:description/>
  <dc:language>en-US</dc:language>
  <cp:lastModifiedBy>OS Kozarska Djeca</cp:lastModifiedBy>
  <dcterms:modified xsi:type="dcterms:W3CDTF">2017-10-17T06:54:59Z</dcterms:modified>
  <cp:revision>39</cp:revision>
  <dc:subject/>
  <dc:title>Slide 1</dc:title>
</cp:coreProperties>
</file>