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A1B-1389-4B98-8691-2B1BC79E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28D-9994-48CE-B5E8-6472B85C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49F-6218-4CC1-BD11-5B282EB1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04D-F20D-41C4-B539-5A8D38BC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DB0-849A-449F-8986-41A08A87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037-B8D8-496B-9658-D9B2B4EC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125-23CE-4907-AA6B-1DFC24AB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9D3-E204-4B76-9410-6AA14EF1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C75-DD89-4210-926C-B7ABD72B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A3D-3454-46B6-8B2C-C1B745D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FC6-EF18-4E1F-92DA-DAA316E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BA6-9ADF-4BA7-8BAC-9DB3E8F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djqjm_ej[1]"/>
          <p:cNvPicPr/>
          <p:nvPr/>
        </p:nvPicPr>
        <p:blipFill>
          <a:blip r:embed="rId2"/>
          <a:stretch/>
        </p:blipFill>
        <p:spPr>
          <a:xfrm>
            <a:off x="0" y="0"/>
            <a:ext cx="138276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2485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26C7-7939-447B-9DE5-CA97E37F8DA9}" type="datetime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093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Template from www.brainybett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1458-B49B-43F0-9100-E4101F1DFED1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7">
            <a:hlinkClick r:id="" action="ppaction://hlinkshowjump?jump=firstslide"/>
          </p:cNvPr>
          <p:cNvSpPr/>
          <p:nvPr/>
        </p:nvSpPr>
        <p:spPr>
          <a:xfrm>
            <a:off x="7315200" y="6400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8">
            <a:hlinkClick r:id="" action="ppaction://hlinkshowjump?jump=previousslide"/>
          </p:cNvPr>
          <p:cNvSpPr/>
          <p:nvPr/>
        </p:nvSpPr>
        <p:spPr>
          <a:xfrm>
            <a:off x="777240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0">
            <a:hlinkClick r:id="" action="ppaction://hlinkshowjump?jump=lastslide"/>
          </p:cNvPr>
          <p:cNvSpPr/>
          <p:nvPr/>
        </p:nvSpPr>
        <p:spPr>
          <a:xfrm>
            <a:off x="845820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djqjm_ej[1]"/>
          <p:cNvPicPr/>
          <p:nvPr/>
        </p:nvPicPr>
        <p:blipFill>
          <a:blip r:embed="rId2"/>
          <a:stretch/>
        </p:blipFill>
        <p:spPr>
          <a:xfrm>
            <a:off x="152280" y="838080"/>
            <a:ext cx="349272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0">
            <a:hlinkClick r:id="" action="ppaction://hlinkshowjump?jump=nextslide"/>
          </p:cNvPr>
          <p:cNvSpPr/>
          <p:nvPr/>
        </p:nvSpPr>
        <p:spPr>
          <a:xfrm>
            <a:off x="815328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79132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Opšti</a:t>
            </a:r>
            <a:r>
              <a:rPr b="1" lang="sr-B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roditeljski</a:t>
            </a:r>
            <a:r>
              <a:rPr b="1" lang="sr-B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sastanak</a:t>
            </a:r>
            <a:r>
              <a:rPr b="1" lang="sr-B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1" lang="sr-B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roditelje</a:t>
            </a:r>
            <a:r>
              <a:rPr b="1" lang="sr-B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učenika</a:t>
            </a:r>
            <a:r>
              <a:rPr b="1" lang="sr-B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stog</a:t>
            </a:r>
            <a:r>
              <a:rPr b="1" lang="sr-B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razre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657240" y="3809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sn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zičk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lik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me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ječak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jevojčic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od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jihovo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rodno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dvajan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ionic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a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n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jednič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l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interesova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z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ln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lika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jelesn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mjena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ž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m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govara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-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jelesn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mjen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ič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mnost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jevojčic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av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dividualnim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izičkim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tivnostim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lesanj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imnastik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k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ječaci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or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spretnošć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sti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išić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ak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zvojem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stij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prekidno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kret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krasiti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om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je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izički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resiv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ijenjaju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ijela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ko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ste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jetljivost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udljivost</a:t>
            </a:r>
            <a:r>
              <a:rPr b="0" lang="sr-B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groman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petit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reb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š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es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hlad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ip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paljen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h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nekad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al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lavobol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aznajni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arakteriše</a:t>
            </a:r>
            <a:r>
              <a:rPr b="1" lang="sr-B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ije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pu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osobnost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šljen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sta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liku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avil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i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tpostavk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osobnost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gledavan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iejt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b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tuaci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ličitih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š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ol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datk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kustv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navljanj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thodnih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oz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spra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a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ol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datk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aziv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jećaj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asl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en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ncip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njig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k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š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a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govora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rakteriš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zik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rž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ame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klon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sprava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ol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umor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š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is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ovor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aslih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tkriv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lefon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š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is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up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oneki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avjet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onije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aguje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v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vijek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čekaj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noć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udi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vijek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pućen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š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je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už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naš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n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uć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ržavaj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a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orto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udi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lno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vnic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ijem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očil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mjen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ntent Placeholder 6" descr="tortoise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91" name="Title 7" descr=""/>
          <p:cNvPicPr/>
          <p:nvPr/>
        </p:nvPicPr>
        <p:blipFill>
          <a:blip r:embed="rId2"/>
          <a:stretch/>
        </p:blipFill>
        <p:spPr>
          <a:xfrm>
            <a:off x="2236680" y="2279520"/>
            <a:ext cx="6261120" cy="35974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086600" cy="838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sr-B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VELIKIH</a:t>
            </a:r>
            <a:r>
              <a:rPr b="0" lang="sr-B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MJ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8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8242560" cy="45784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086600" cy="838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OCIJALNI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arakteriše</a:t>
            </a:r>
            <a:r>
              <a:rPr b="1" lang="sr-B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udljiv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jetljiv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l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čem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tiv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klon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m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b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okl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d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seb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asl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vnic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pulsivn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ub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uvi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vn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rz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lan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k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vid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ezazlen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tuac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ožav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a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š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onos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luk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b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entr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ažn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jećanj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d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ajnos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ajnost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rz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klap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stur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jateljstv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ž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bjegava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tuaci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e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uša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ravi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itikova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sustv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šnjak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uvan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az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ž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eli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govara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k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cidentn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tacija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ž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čeka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ć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go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ijem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ziro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ijem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jeti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azov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št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uč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rah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vog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es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ličit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č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rvira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vnic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pr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vnic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ča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č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držaj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dmet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žak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vremen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diteljim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v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nut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azu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lik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klonost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varanj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tvorenih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up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uženj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o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ž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rodi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vn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jateljstva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ako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tvoren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ugov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rast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untovničk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blematičn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upe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533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IZIČKI</a:t>
            </a:r>
            <a:r>
              <a:rPr b="0" lang="sr-B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arakteriše</a:t>
            </a:r>
            <a:r>
              <a:rPr b="1" lang="sr-B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četak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dolescencije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uberteta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sebno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jevojčica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iji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izički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ast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leko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spred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ječaka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enstrualni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ciklus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bijaju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esto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danaestoj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sječno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vanaestoj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godini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ruge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trane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ječaci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gledaju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jevojčice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ijenjaju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itaju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ada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će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što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goditi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jima</a:t>
            </a:r>
            <a:r>
              <a:rPr b="0" lang="sr-BA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9:13:27Z</dcterms:created>
  <dc:creator>nn</dc:creator>
  <dc:description/>
  <dc:language>en-US</dc:language>
  <cp:lastModifiedBy>OS Kozarska Djeca</cp:lastModifiedBy>
  <dcterms:modified xsi:type="dcterms:W3CDTF">2017-10-11T09:20:09Z</dcterms:modified>
  <cp:revision>19</cp:revision>
  <dc:subject/>
  <dc:title>Slide 1</dc:title>
</cp:coreProperties>
</file>