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FD92-223F-4C8C-9F52-796F8643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CF75-1894-4BE8-B871-1295A645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A2FD-594B-46B0-8FE8-6C590E84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985-0283-4385-A01D-500D7F5B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2198-4DDA-4F4C-AA74-217FFA5F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447E-5A9D-426C-9D99-43F63FB4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FD9F-8126-49F8-884A-2B345BB7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2DC8-7C26-4E0A-85E4-C3AB826A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AA1B-C2D2-41A9-8952-ED1FCAD7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7342-E726-44EA-A7CC-2A242A15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3A46-EE23-4F4B-A119-5864186D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34F-7B5E-41DE-AD08-B9BA503B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0A35-EA0A-46E3-9A6A-A5C19710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B14A-A319-4E16-A3D7-C6D0A508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F546-C31B-4433-8397-809A840F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7A26-0787-46B8-9B73-43E05803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2AA3-BDBC-4F4D-AD36-1EEB5ED9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3D31C-B68A-4210-A535-4A93DE0B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4A36D-8773-4011-BC12-686F1FDC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06FDA-0DB3-44B3-9B6B-D09AA10F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BD79C-FC3F-4F43-A8A1-5C53FB5B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177ACD-E5B7-4DCC-B1CA-CE7C5310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2D1D-5A18-44F7-854D-47A8D4E0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69164-7D14-4F75-80E9-7EC421B1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1B33A-D0D3-409B-A61C-13E65629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B13D7-314F-44B5-AA57-A845CF5D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89513-7269-4B0E-98D3-899FD240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E983B-5C87-402B-8A98-B56131DF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C5426-DCC8-40F2-96F0-C980F245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F7FB60-4D17-47B5-94B4-5A632416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BBDFF-59B9-4EAB-BE0A-90F54AB1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2E059-8901-4515-8D8D-D5BA5BF7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2C45F-FB7D-4167-A1A9-89531133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62A-6039-4059-A714-6560360F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518B6-6DEC-4287-9E00-35ED2FBA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014B0-C12A-4528-98C7-B02D1F35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76B91-F077-4DE8-A8EB-8DF0D91C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7CC8D-F740-4409-947D-C7F69B59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189EC-4929-48AC-9FDE-8C18B810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F4840-B4C0-4C11-BCBC-3959064D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B4477-E21A-43E4-A276-1FB61994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71F18-2E0F-4DB8-A5F5-E6194A19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271F1-2C2A-479F-862C-260AE182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52229-8576-405B-838E-21DB867D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BCC-1B1D-40F8-95C0-15A2A63C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A300D-3765-4DA4-AC06-215719D0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BDAEC4-6831-4BB8-8E07-BA0876AF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78F991-A0C8-460A-AFFE-E88229CB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EC56A0-E25D-4D3A-85FC-1FD78A2C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776975-871F-491A-8CF2-AEC4CE0F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DEE864-FEED-483B-A209-407CB680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DAF28-9050-4543-B2DA-6553302D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D44391-5DB9-44E8-B3E8-AB4B08B8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49239A-CCF7-45CA-A2AD-96233BF1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02404-0042-4F2F-B325-A8DB6941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913F-6685-4AC3-9BD3-6FA68C18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D2B0E3-06DE-4D4A-B7A3-E51516EC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9A0FA1-4FBA-46E9-A840-7A2634E4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CD8AB2-95D7-4C2A-A325-CD1A176D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BF5E9B-7105-4F4D-B129-A608336E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3497AA-C0FD-459C-90E4-93B134E5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504B10-51EC-4CAF-8033-24C74D87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706618-068A-42DB-A1F6-E14E39AE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738D48-3994-432A-8EEF-FB80A577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C7873-D956-4C70-B99C-1270FB2B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AFA93-ED7B-4B79-9BD7-0D0ADE53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0BA-D9C9-4591-9469-2E1A67F5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36EA19-4D97-40DC-A829-F49A5E16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117481-A4AF-43D3-BB04-A4C5F8F8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0EC623-25E3-46B0-983C-04E7F1B8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C7AF12-5006-4B83-827E-485FCF72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6F4CFB-83EF-47FA-A375-B68EEBBC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92FEF2-D26B-46B4-8491-6C15298E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737DFD-D8FF-4B64-9879-1F3E74E4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EB7E46-BE53-432B-8549-1B429400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5127BD-D5B5-4EA3-BC0F-B9E18FF1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69DDD7-489A-4A7F-AB99-7E8CD221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CC7-7372-4D0B-AFE5-14AF4B71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BC1BE6-92EC-4B65-BC76-C8FC570B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9EBBFB-6C17-4719-BCAA-4FF10B64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1AB1D2-9646-4C2D-9A4E-FD23F909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C8623E-50E5-4C23-8679-BEA38C98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156CBD-5AFC-467B-877B-108CF37C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8CD-EC87-4FD0-A759-B03466C7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07E2-3487-4E6B-AB59-09FB5E94D2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6B87-5595-4657-B3BE-84F17C9862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1676-6667-44E3-A75A-34543AACEE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3B52-2EF1-4510-B448-307151B499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D927-A5DD-4570-B9A6-077B0D03972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5565-2D0D-43BD-A96C-5CC4B1C147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1843-04DD-4F0D-A442-D0F2B03EF0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b13f9a"/>
                </a:solidFill>
                <a:latin typeface="Century Schoolbook"/>
              </a:rPr>
              <a:t>RAZVOJNE KARAKTERISTIKE DVANAESTOGODIŠNJAKA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redvidivi prevrtljivci”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13f9a"/>
                </a:solidFill>
                <a:latin typeface="Century Schoolbook"/>
              </a:rPr>
              <a:t>PSIHIČKE</a:t>
            </a:r>
            <a:r>
              <a:rPr b="1" lang="sr-CS" sz="32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3200" spc="-1" strike="noStrike">
                <a:solidFill>
                  <a:srgbClr val="b13f9a"/>
                </a:solidFill>
                <a:latin typeface="Century Schoolbook"/>
              </a:rPr>
              <a:t>I</a:t>
            </a:r>
            <a:r>
              <a:rPr b="1" lang="sr-CS" sz="32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3200" spc="-1" strike="noStrike">
                <a:solidFill>
                  <a:srgbClr val="b13f9a"/>
                </a:solidFill>
                <a:latin typeface="Century Schoolbook"/>
              </a:rPr>
              <a:t>EMOTIVNE</a:t>
            </a:r>
            <a:r>
              <a:rPr b="1" lang="sr-CS" sz="32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3200" spc="-1" strike="noStrike">
                <a:solidFill>
                  <a:srgbClr val="b13f9a"/>
                </a:solidFill>
                <a:latin typeface="Century Schoolbook"/>
              </a:rPr>
              <a:t>PROMJENE</a:t>
            </a:r>
            <a:r>
              <a:rPr b="1" lang="sr-CS" sz="3200" spc="-1" strike="noStrike">
                <a:solidFill>
                  <a:srgbClr val="b13f9a"/>
                </a:solidFill>
                <a:latin typeface="Century Schoolbook"/>
              </a:rPr>
              <a:t>:</a:t>
            </a:r>
            <a:r>
              <a:rPr b="1" lang="sr-CS" sz="3200" spc="-1" strike="noStrike">
                <a:solidFill>
                  <a:srgbClr val="b13f9a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56760" y="150012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Česte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promjene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ponašanja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i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raspoloženja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Česta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nezadovoljstva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zbog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izgleda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vlastitog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tijela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Često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se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negiraju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kućni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autoriteti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,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tj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.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traže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se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novi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prijatelji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i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uzori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izvan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kuće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(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oni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koji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su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sličniji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njima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i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koji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ih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bolje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razumiju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Nesigurni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su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i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izloženi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velikim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iskušenjima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s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jedne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strane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dok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s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druge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narcisoidna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crta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daje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im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osjećaj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genijalnosti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i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savršenosti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Nesuglasice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sa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roditeljima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koji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prestaju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biti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“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središte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sr-Latn-CS" sz="2600" spc="-1" strike="noStrike">
                <a:solidFill>
                  <a:srgbClr val="b13f9a"/>
                </a:solidFill>
                <a:latin typeface="Corbel"/>
              </a:rPr>
              <a:t>svijeta</a:t>
            </a:r>
            <a:r>
              <a:rPr b="1" lang="sr-CS" sz="2600" spc="-1" strike="noStrike">
                <a:solidFill>
                  <a:srgbClr val="b13f9a"/>
                </a:solidFill>
                <a:latin typeface="Corbel"/>
              </a:rPr>
              <a:t>”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15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b13f9a"/>
                </a:solidFill>
                <a:latin typeface="Century Schoolbook"/>
              </a:rPr>
              <a:t>PUBERTET</a:t>
            </a:r>
            <a:r>
              <a:rPr b="1" lang="sr-CS" sz="30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3000" spc="-1" strike="noStrike">
                <a:solidFill>
                  <a:srgbClr val="b13f9a"/>
                </a:solidFill>
                <a:latin typeface="Century Schoolbook"/>
              </a:rPr>
              <a:t>I</a:t>
            </a:r>
            <a:r>
              <a:rPr b="1" lang="sr-CS" sz="30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3000" spc="-1" strike="noStrike">
                <a:solidFill>
                  <a:srgbClr val="b13f9a"/>
                </a:solidFill>
                <a:latin typeface="Century Schoolbook"/>
              </a:rPr>
              <a:t>ŠKOLA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356760" y="1285920"/>
            <a:ext cx="85726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63972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Century Schoolbook"/>
              </a:rPr>
              <a:t>Problemi koji se javljaju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ctr">
              <a:lnSpc>
                <a:spcPct val="100000"/>
              </a:lnSpc>
              <a:spcBef>
                <a:spcPts val="6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Smanjena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koncentracija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ctr">
              <a:lnSpc>
                <a:spcPct val="100000"/>
              </a:lnSpc>
              <a:spcBef>
                <a:spcPts val="6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Odbacivanje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dosadašnjih 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pravila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” 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ponašanja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me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uljudskih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odnosa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ctr">
              <a:lnSpc>
                <a:spcPct val="100000"/>
              </a:lnSpc>
              <a:spcBef>
                <a:spcPts val="6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Povlačanje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u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sebe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slika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slična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depresiji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traje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samo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za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doba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puberteta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ctr">
              <a:lnSpc>
                <a:spcPct val="100000"/>
              </a:lnSpc>
              <a:spcBef>
                <a:spcPts val="6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Emotivna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nestabilnost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ctr">
              <a:lnSpc>
                <a:spcPct val="100000"/>
              </a:lnSpc>
              <a:spcBef>
                <a:spcPts val="6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Promjenjeno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shvatanje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izgleda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svoga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tijela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( 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poremećaj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entury Schoolbook"/>
              </a:rPr>
              <a:t>ishrane</a:t>
            </a:r>
            <a:r>
              <a:rPr b="0" lang="sr-CS" sz="2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b13f9a"/>
                </a:solidFill>
                <a:latin typeface="Century Schoolbook"/>
              </a:rPr>
              <a:t>PUBERTET</a:t>
            </a:r>
            <a:r>
              <a:rPr b="0" lang="sr-CS" sz="30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0" lang="sr-Latn-CS" sz="3000" spc="-1" strike="noStrike">
                <a:solidFill>
                  <a:srgbClr val="b13f9a"/>
                </a:solidFill>
                <a:latin typeface="Century Schoolbook"/>
              </a:rPr>
              <a:t>I</a:t>
            </a:r>
            <a:r>
              <a:rPr b="0" lang="sr-CS" sz="30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0" lang="sr-Latn-CS" sz="3000" spc="-1" strike="noStrike">
                <a:solidFill>
                  <a:srgbClr val="b13f9a"/>
                </a:solidFill>
                <a:latin typeface="Century Schoolbook"/>
              </a:rPr>
              <a:t>ŠKOLA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Century Schoolbook"/>
              </a:rPr>
              <a:t>Problemi koji se javljaju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Sklonost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samoranjavanju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Bježanje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od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odgovornosti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Eksperimentisanje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sa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alkoholom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 cigaretama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i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drogom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Neodgovorno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polno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ponašanje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Sklonost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nasilju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Sklonost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asimilaciji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sa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društvom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 ( </a:t>
            </a: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pristupanje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raznim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skupinama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 sektama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Corbel"/>
              </a:rPr>
              <a:t> grupama</a:t>
            </a:r>
            <a:r>
              <a:rPr b="0" lang="sr-CS" sz="2800" spc="-1" strike="noStrike">
                <a:solidFill>
                  <a:srgbClr val="000000"/>
                </a:solidFill>
                <a:latin typeface="Corbel"/>
              </a:rPr>
              <a:t>,..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b13f9a"/>
                </a:solidFill>
                <a:latin typeface="Century Schoolbook"/>
              </a:rPr>
              <a:t>KAKO</a:t>
            </a:r>
            <a:r>
              <a:rPr b="1" lang="en-US" sz="2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2800" spc="-1" strike="noStrike">
                <a:solidFill>
                  <a:srgbClr val="b13f9a"/>
                </a:solidFill>
                <a:latin typeface="Century Schoolbook"/>
              </a:rPr>
              <a:t>POSTIĆI</a:t>
            </a:r>
            <a:r>
              <a:rPr b="1" lang="en-US" sz="2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2800" spc="-1" strike="noStrike">
                <a:solidFill>
                  <a:srgbClr val="b13f9a"/>
                </a:solidFill>
                <a:latin typeface="Century Schoolbook"/>
              </a:rPr>
              <a:t>KVALITETNU</a:t>
            </a:r>
            <a:r>
              <a:rPr b="1" lang="en-US" sz="2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2800" spc="-1" strike="noStrike">
                <a:solidFill>
                  <a:srgbClr val="b13f9a"/>
                </a:solidFill>
                <a:latin typeface="Century Schoolbook"/>
              </a:rPr>
              <a:t>KOMUNIKACIJU</a:t>
            </a:r>
            <a:r>
              <a:rPr b="1" lang="en-US" sz="2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2800" spc="-1" strike="noStrike">
                <a:solidFill>
                  <a:srgbClr val="b13f9a"/>
                </a:solidFill>
                <a:latin typeface="Century Schoolbook"/>
              </a:rPr>
              <a:t>SA</a:t>
            </a:r>
            <a:r>
              <a:rPr b="1" lang="en-US" sz="2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2800" spc="-1" strike="noStrike">
                <a:solidFill>
                  <a:srgbClr val="b13f9a"/>
                </a:solidFill>
                <a:latin typeface="Century Schoolbook"/>
              </a:rPr>
              <a:t>DJETETOM</a:t>
            </a:r>
            <a:r>
              <a:rPr b="1" lang="en-US" sz="2800" spc="-1" strike="noStrike">
                <a:solidFill>
                  <a:srgbClr val="b13f9a"/>
                </a:solidFill>
                <a:latin typeface="Century Schoolbook"/>
              </a:rPr>
              <a:t>?</a:t>
            </a:r>
            <a:r>
              <a:rPr b="1" lang="sr-Latn-CS" sz="2800" spc="-1" strike="noStrike">
                <a:solidFill>
                  <a:srgbClr val="b13f9a"/>
                </a:solidFill>
                <a:latin typeface="Century Schoolbook"/>
              </a:rPr>
              <a:t> (SAVJETI ZA RODITELJE )</a:t>
            </a:r>
            <a:endParaRPr b="0" lang="en-US" sz="28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356760" y="1357200"/>
            <a:ext cx="857268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Razgovarajt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Slušajt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Postavite</a:t>
            </a:r>
            <a:r>
              <a:rPr b="1" lang="en-U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 </a:t>
            </a:r>
            <a:r>
              <a:rPr b="1" lang="sr-Latn-C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pravila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Uvažite</a:t>
            </a:r>
            <a:r>
              <a:rPr b="1" lang="en-U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 </a:t>
            </a:r>
            <a:r>
              <a:rPr b="1" lang="sr-Latn-C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njegovo</a:t>
            </a:r>
            <a:r>
              <a:rPr b="1" lang="en-U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 </a:t>
            </a:r>
            <a:r>
              <a:rPr b="1" lang="sr-Latn-C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mišljenj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Potičite</a:t>
            </a:r>
            <a:r>
              <a:rPr b="1" lang="en-U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 </a:t>
            </a:r>
            <a:r>
              <a:rPr b="1" lang="sr-Latn-C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njegove</a:t>
            </a:r>
            <a:r>
              <a:rPr b="1" lang="en-U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 </a:t>
            </a:r>
            <a:r>
              <a:rPr b="1" lang="sr-Latn-C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interese</a:t>
            </a:r>
            <a:r>
              <a:rPr b="1" lang="en-U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 </a:t>
            </a:r>
            <a:r>
              <a:rPr b="1" lang="sr-Latn-C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i</a:t>
            </a:r>
            <a:r>
              <a:rPr b="1" lang="en-U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 </a:t>
            </a:r>
            <a:r>
              <a:rPr b="1" lang="sr-Latn-C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talent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Dogovarajte</a:t>
            </a:r>
            <a:r>
              <a:rPr b="1" lang="en-U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 </a:t>
            </a:r>
            <a:r>
              <a:rPr b="1" lang="sr-Latn-C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zajedničke</a:t>
            </a:r>
            <a:r>
              <a:rPr b="1" lang="en-U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 </a:t>
            </a:r>
            <a:r>
              <a:rPr b="1" lang="sr-Latn-CS" sz="2600" spc="-1" strike="noStrike" u="sng">
                <a:solidFill>
                  <a:srgbClr val="b13f9a"/>
                </a:solidFill>
                <a:uFillTx/>
                <a:latin typeface="Century Schoolbook"/>
              </a:rPr>
              <a:t>aktivnosti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 u="sng">
                <a:solidFill>
                  <a:srgbClr val="c22ea4"/>
                </a:solidFill>
                <a:uFillTx/>
                <a:latin typeface="Century Schoolboo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13880" y="285840"/>
            <a:ext cx="7858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13f9a"/>
                </a:solidFill>
                <a:latin typeface="Corbel"/>
              </a:rPr>
              <a:t>ZA KRAJ</a:t>
            </a:r>
            <a:endParaRPr b="0" lang="en-US" sz="36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14200" y="121392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Da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biste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od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djeteta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napravili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čovjeka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odgovornog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prema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sebi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i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svojoj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okolini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potrebno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je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mnogo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vještine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,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strpljenja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i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upornosti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i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zato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73200" indent="-273240" algn="ctr">
              <a:lnSpc>
                <a:spcPct val="80000"/>
              </a:lnSpc>
              <a:spcBef>
                <a:spcPts val="476"/>
              </a:spcBef>
              <a:buClr>
                <a:srgbClr val="b83d68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Slušajte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jedni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druge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kad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govorite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Gledajte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jedni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druge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u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oči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73200" indent="-273240" algn="ctr">
              <a:lnSpc>
                <a:spcPct val="80000"/>
              </a:lnSpc>
              <a:spcBef>
                <a:spcPts val="476"/>
              </a:spcBef>
              <a:buClr>
                <a:srgbClr val="b83d68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Ne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upadajte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jedni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drugima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u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riječ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Pitajte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šta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nije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jasno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73200" indent="-273240" algn="ctr">
              <a:lnSpc>
                <a:spcPct val="80000"/>
              </a:lnSpc>
              <a:spcBef>
                <a:spcPts val="476"/>
              </a:spcBef>
              <a:buClr>
                <a:srgbClr val="b83d68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Ne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kritikujte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jedni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druge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previše, naročito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ne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pred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„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publikom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“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Ne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omalovažavajte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jedni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druge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73200" indent="-273240" algn="ctr">
              <a:lnSpc>
                <a:spcPct val="80000"/>
              </a:lnSpc>
              <a:spcBef>
                <a:spcPts val="476"/>
              </a:spcBef>
              <a:buClr>
                <a:srgbClr val="b83d68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Budite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smireni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strpljivi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 čekajte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da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vas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ljutnja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pro</a:t>
            </a:r>
            <a:r>
              <a:rPr b="0" lang="vi-VN" sz="19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e</a:t>
            </a:r>
            <a:r>
              <a:rPr b="0" lang="sr-CS" sz="19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Prona</a:t>
            </a:r>
            <a:r>
              <a:rPr b="1" lang="vi-VN" sz="1700" spc="-1" strike="noStrike">
                <a:solidFill>
                  <a:srgbClr val="b13f9a"/>
                </a:solidFill>
                <a:latin typeface="Times New Roman"/>
              </a:rPr>
              <a:t>đ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ite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vremena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i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700" spc="-1" strike="noStrike">
                <a:solidFill>
                  <a:srgbClr val="b13f9a"/>
                </a:solidFill>
                <a:latin typeface="Century Schoolbook"/>
              </a:rPr>
              <a:t>razgovarajte</a:t>
            </a:r>
            <a:r>
              <a:rPr b="1" lang="sr-CS" sz="1700" spc="-1" strike="noStrike">
                <a:solidFill>
                  <a:srgbClr val="b13f9a"/>
                </a:solidFill>
                <a:latin typeface="Century Schoolbook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13f9a"/>
                </a:solidFill>
                <a:latin typeface="Century Schoolbook"/>
              </a:rPr>
              <a:t>KARAKTERISTIKE FIZIČKOG RAZVOJA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Imaju mnogo energi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Ali i veliku potrebu za odmor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Buran rast - znaci puberte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rva menstruacija kod većine djevojč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Važna je ishrana, naročito prijepodnevna už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Zanimanje za fizičko vaspitanje i spo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13f9a"/>
                </a:solidFill>
                <a:latin typeface="Century Schoolbook"/>
              </a:rPr>
              <a:t>KARAKTERISTIKE SOCIJALNOG RAZVOJA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00040" y="16430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očinju da liče na odrasle osob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Tolerantniji su ( više razumiju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uni su pozitivnih očekivan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aosjećajni s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Znaju postaviti realan cilj na kraće staz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Naizgled su samouvjeren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Vršnjaci su im mnogo važniji od nastavni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Ispoljavaju potrebu da budu vo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e u različitim aktivnosti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ostaje  im važna zarada  ( od poslova koje rade u kući i u komšiluku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13f9a"/>
                </a:solidFill>
                <a:latin typeface="Century Schoolbook"/>
              </a:rPr>
              <a:t>KARAKTERISTIKE RAZVOJA GOVORA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ostaju sarkastični ( podrugljivi, zajedljivi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U govoru koriste dvosmislene riječ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Vole da vode razgovore sa odraslima i sa vršnjaci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Veoma im je važno korištenje “vršnjačkog jezika” ( sleng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13f9a"/>
                </a:solidFill>
                <a:latin typeface="Century Schoolbook"/>
              </a:rPr>
              <a:t>KARAKTERISTIKE SAZNAJNOG RAZVOJA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ojava veće sposobnosti za posebno vješt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Mogu da sagledaju obe strane nekog pitanja, bilo čega sporno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Raste im interesovanje za tekuće doga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aje, to ih mnogo i motiviš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posobnosti za istraživanje i učenje i napreduju sa porastom organizovanosti i disciplinova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Javlja se dublje i veće interesovanje za glum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premnije pristupaju izradi dužih i zahtjevnijih domaćih zadata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Mogu značajno pomoći vršnjacima u savladavanju lekci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13f9a"/>
                </a:solidFill>
                <a:latin typeface="Century Schoolbook"/>
              </a:rPr>
              <a:t>SAVJETI ZA RODITELJE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57176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Obratit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ažnju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v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ešć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zanemarivanj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vakodnevni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obavez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držit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voji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rincip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Morat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imat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vrst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tavo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dvana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djec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un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energij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koju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treb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kanalisat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dobro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ravc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Trebaju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mnogo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ovećav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i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apet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Ako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n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“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isprazn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voju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energiju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kroz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por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il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drug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fizičk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aktivnost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esto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mogu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d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eksperimentišu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olju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eksualno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ivot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nasil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alkohol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drog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Nemojt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d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va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brin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to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i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vršnjac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bitnij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o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va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al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obratit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ažnju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ki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druž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kako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rovod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lobodno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vrije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ve više će biti okrenuti internetu i virtualnoj komunikaciji , pa biste trebali obratiti pažnju na to koje stranice posjećuje i s kim se dopisu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održite sve njihove razumne prijedloge, ali bez velike kritike se postavite i prema onim koje nisu baš “ pametne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Vještiji ste od njih, potrudite se da sami do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u do nekih odgovora, bez vašeg nametan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13f9a"/>
                </a:solidFill>
                <a:latin typeface="Century Schoolbook"/>
              </a:rPr>
              <a:t>PUBERTET   - ADOLESCENCIJA</a:t>
            </a:r>
            <a:endParaRPr b="0" lang="en-US" sz="36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714240" y="2428920"/>
            <a:ext cx="771552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kod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dječaka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počinje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oko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 11.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godine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i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traje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oko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6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god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kod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djevojčica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započinje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oko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10.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godine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i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traje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oko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4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god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13f9a"/>
                </a:solidFill>
                <a:latin typeface="Century Schoolbook"/>
              </a:rPr>
              <a:t>PROMJENE</a:t>
            </a:r>
            <a:r>
              <a:rPr b="1" lang="sr-CS" sz="32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3200" spc="-1" strike="noStrike">
                <a:solidFill>
                  <a:srgbClr val="b13f9a"/>
                </a:solidFill>
                <a:latin typeface="Century Schoolbook"/>
              </a:rPr>
              <a:t>U</a:t>
            </a:r>
            <a:r>
              <a:rPr b="1" lang="sr-CS" sz="32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3200" spc="-1" strike="noStrike">
                <a:solidFill>
                  <a:srgbClr val="b13f9a"/>
                </a:solidFill>
                <a:latin typeface="Century Schoolbook"/>
              </a:rPr>
              <a:t>PUBERTETU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Fizičke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promjene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na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tijelu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Nagli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tjelesni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rast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Dublji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glas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i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“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Adamova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“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jabučica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kod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dječaka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Širi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bokovi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i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rast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grudi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kod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djevojčica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Pojava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pubične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dlakavosti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Rast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brade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,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povećanje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mišićne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i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koštane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mase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kod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dječaka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Spolno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sazrijevanje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i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sposobnost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za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sr-Latn-CS" sz="1800" spc="-1" strike="noStrike">
                <a:solidFill>
                  <a:srgbClr val="b13f9a"/>
                </a:solidFill>
                <a:latin typeface="Century Schoolbook"/>
              </a:rPr>
              <a:t>reprodukciju</a:t>
            </a:r>
            <a:r>
              <a:rPr b="1" lang="sr-CS" sz="1800" spc="-1" strike="noStrike">
                <a:solidFill>
                  <a:srgbClr val="b13f9a"/>
                </a:solidFill>
                <a:latin typeface="Century Schoolboo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06:59:46Z</dcterms:created>
  <dc:creator>korisnik</dc:creator>
  <dc:description/>
  <dc:language>en-US</dc:language>
  <cp:lastModifiedBy>OS Kozarska Djeca</cp:lastModifiedBy>
  <dcterms:modified xsi:type="dcterms:W3CDTF">2017-10-09T10:56:26Z</dcterms:modified>
  <cp:revision>12</cp:revision>
  <dc:subject/>
  <dc:title>РАЗВОЈНЕ КАРАКТЕРИСТИКЕ ДВАНАЕСТОГОДИШЊАКА</dc:title>
</cp:coreProperties>
</file>