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8A0-E716-452A-8358-BB2B5ABB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8EF-90D0-4122-8F8E-E4E4E54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6F2-A29C-48C2-8115-22714A29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5D1-9557-49C6-A31D-F581EEB0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B45-7228-456D-B803-4BAE025B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EB9-0374-4A73-9466-02696F3B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B33-9C93-4D55-83CF-AE6A534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45C-352B-45B7-920B-380B316C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013-B262-4766-AAEC-BAAA200D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4FD-6C99-4D4A-B7C5-4AE83B9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3DB-4FF0-4172-A8DE-9BA9C10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6DB-A09A-467C-A697-D22A433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4ADC-EF2F-41BF-8E18-9BE98D171468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SETOGODIŠNJAK</a:t>
            </a:r>
            <a:r>
              <a:rPr b="1" lang="sr-B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sr-B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RAZRED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285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Vrijedni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čitači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BA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Zlatni</a:t>
            </a:r>
            <a:r>
              <a:rPr b="0" lang="sr-B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kraj</a:t>
            </a:r>
            <a:r>
              <a:rPr b="0" lang="sr-B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djetinjstva</a:t>
            </a:r>
            <a:r>
              <a:rPr b="0" lang="sr-BA" sz="3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0" descr="DSCN6029"/>
          <p:cNvPicPr/>
          <p:nvPr/>
        </p:nvPicPr>
        <p:blipFill>
          <a:blip r:embed="rId1"/>
          <a:stretch/>
        </p:blipFill>
        <p:spPr>
          <a:xfrm>
            <a:off x="2214720" y="1714680"/>
            <a:ext cx="482436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274680"/>
            <a:ext cx="713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Calibri"/>
              </a:rPr>
              <a:t>Savjeti</a:t>
            </a:r>
            <a:r>
              <a:rPr b="1" i="1" lang="sr-B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40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1" i="1" lang="sr-B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4000" spc="-1" strike="noStrike">
                <a:solidFill>
                  <a:srgbClr val="000000"/>
                </a:solidFill>
                <a:latin typeface="Calibri"/>
              </a:rPr>
              <a:t>roditel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7120" y="1857240"/>
            <a:ext cx="8429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udi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mire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ad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jav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čest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rz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lju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al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rz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prašt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rodičn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ženj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p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koristi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maj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jedničkih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ktivnosti s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dj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čit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kušaj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nametnut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iteratur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il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vuk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edij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š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tvar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meć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šnjav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p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zvoli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zne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š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Duša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ozdravi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kad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5400" spc="-1" strike="noStrike">
                <a:solidFill>
                  <a:srgbClr val="000000"/>
                </a:solidFill>
                <a:latin typeface="Calibri"/>
              </a:rPr>
              <a:t>djecom</a:t>
            </a:r>
            <a:r>
              <a:rPr b="0" lang="sr-BA" sz="5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stojevski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Administrator\Local Settings\Temporary Internet Files\Content.IE5\HUEK179F\MP900442429[1].jpg"/>
          <p:cNvPicPr/>
          <p:nvPr/>
        </p:nvPicPr>
        <p:blipFill>
          <a:blip r:embed="rId1"/>
          <a:stretch/>
        </p:blipFill>
        <p:spPr>
          <a:xfrm>
            <a:off x="3924360" y="3141720"/>
            <a:ext cx="4824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560" y="428760"/>
            <a:ext cx="43923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esetogodišnjac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sjeća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vojoj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ož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obri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dnosim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voji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čiteljim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roditeljim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braćam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estram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j0284916"/>
          <p:cNvPicPr/>
          <p:nvPr/>
        </p:nvPicPr>
        <p:blipFill>
          <a:blip r:embed="rId1"/>
          <a:stretch/>
        </p:blipFill>
        <p:spPr>
          <a:xfrm>
            <a:off x="4716360" y="191628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1125360"/>
            <a:ext cx="3538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re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voj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osadašnj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ostignuć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a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kuplja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nag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burn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eriod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adolescenci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ubertet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Administrator\Local Settings\Temporary Internet Files\Content.IE5\SRP49649\MP900442386[1].jpg"/>
          <p:cNvPicPr/>
          <p:nvPr/>
        </p:nvPicPr>
        <p:blipFill>
          <a:blip r:embed="rId1"/>
          <a:stretch/>
        </p:blipFill>
        <p:spPr>
          <a:xfrm>
            <a:off x="4284720" y="549360"/>
            <a:ext cx="4319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900" spc="-1" strike="noStrike">
                <a:solidFill>
                  <a:srgbClr val="000000"/>
                </a:solidFill>
                <a:latin typeface="Calibri"/>
              </a:rPr>
              <a:t>RAZVOJNE</a:t>
            </a:r>
            <a:r>
              <a:rPr b="1" i="1" lang="sr-BA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29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1" i="1" lang="sr-BA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2900" spc="-1" strike="noStrike">
                <a:solidFill>
                  <a:srgbClr val="000000"/>
                </a:solidFill>
                <a:latin typeface="Calibri"/>
              </a:rPr>
              <a:t>DESETOGODIŠNJAK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349000"/>
            <a:ext cx="43290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IZIČKOG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OCIJALNOG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ZNAJNOG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MP900438690[1]"/>
          <p:cNvPicPr/>
          <p:nvPr/>
        </p:nvPicPr>
        <p:blipFill>
          <a:blip r:embed="rId1"/>
          <a:stretch/>
        </p:blipFill>
        <p:spPr>
          <a:xfrm>
            <a:off x="4572000" y="200016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FIZIČKOG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zuzetn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otrebn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tvoreno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fizičk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zazo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ntenzivn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azvij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rupn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motor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ukopis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nešt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neurednij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neg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evetoj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godi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Užin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dmor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otpomaž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fizičko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azvo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OCIJALNOG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rz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ljut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al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rz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prašta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d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ru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živ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rodično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ženju 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žen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ar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ek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relij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jećaj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prav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greš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spješ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ješav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blem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š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eprekid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pitu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itanj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jateljstv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št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nov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dovolj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opstvenim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posobnostim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reć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lagodlji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ud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mijeće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gra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RAZVOJA</a:t>
            </a:r>
            <a:r>
              <a:rPr b="1" i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GOV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480" y="1928520"/>
            <a:ext cx="84294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luša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aktivn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lako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rima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nformaci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čita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ričljiv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bjašnjava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Govorom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zražavaj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rijateljsku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nastrojenost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reć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SAZNAJNOG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RAZVO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50012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većan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posobnost apstrahovanja 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vojit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novn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obin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sao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redit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avil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gič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rganizu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interesova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lasifikovan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lekcionarstv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kupljan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edmet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tan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ž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rijem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ncentrisa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d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l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čita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br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ješav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blem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ponosn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a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stignu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rijed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punjavaju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školsk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avez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vjesno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d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maće</a:t>
            </a:r>
            <a:r>
              <a:rPr b="0" lang="s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zadat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SAVJETI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1" i="1" lang="sr-B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RODITEL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1642680"/>
            <a:ext cx="86439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ovoj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godini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mirnijeg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razvoja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pripremit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buru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pubertet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Pomozit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shvat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viš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pravila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o funkcionisanju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života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uopšt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jer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ć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vas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naredn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godin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već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manje</a:t>
            </a:r>
            <a:r>
              <a:rPr b="0" lang="sr-BA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slušati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Vole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biti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odgovorni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nešto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 pa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povjerite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zadatk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Naravno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 pohvale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 podrška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podsticaj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radu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su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dalje</a:t>
            </a:r>
            <a:r>
              <a:rPr b="0" lang="sr-B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300" spc="-1" strike="noStrike">
                <a:solidFill>
                  <a:srgbClr val="000000"/>
                </a:solidFill>
                <a:latin typeface="Calibri"/>
              </a:rPr>
              <a:t>potrebni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16:36Z</dcterms:created>
  <dc:creator>Alda</dc:creator>
  <dc:description/>
  <dc:language>en-US</dc:language>
  <cp:lastModifiedBy>OS Kozarska Djeca</cp:lastModifiedBy>
  <dcterms:modified xsi:type="dcterms:W3CDTF">2017-10-09T09:47:30Z</dcterms:modified>
  <cp:revision>40</cp:revision>
  <dc:subject/>
  <dc:title>KAKO UPROPASTITI SVOJE DIJETE</dc:title>
</cp:coreProperties>
</file>