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8283-2941-4305-BE92-BD9126638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3982-05CC-4F2D-9A23-D2B7A6A8C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4BBA-D905-48A2-A43A-FEFCD5438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0492-267C-4BF4-BBB5-1551BDA5F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E7EE7-7ED2-482B-AE69-A367DB658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F5DDB-BFAE-42A3-B6FD-0621AD787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0BA1F-B739-45EB-BB18-0B9D4C208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E4F08-5072-4175-9D3A-9DE6B23C3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79F79-91F0-4910-B2C9-455A19104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76793-655B-4EF0-8A27-36EB55859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5B211-A8EA-44A3-9727-B2E6FB92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AB59-535F-4A94-AAE0-5203A452C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27329-46CF-4668-B17F-6E506586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6BEB1-E9FD-490F-B004-04C6D2FA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A19E9-61F8-482B-B5D7-F85CACB0B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65878-7E1C-4C72-AD98-0A2B611BA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40E47-B626-4F83-88EC-69F9C0ACF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7370E-F313-4128-A38D-54732191D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618B0-E8F7-4E47-85D1-816450534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13B5B-AE30-4F83-93E6-441B77AF4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835FF-4C77-4B0A-850E-124AD3F3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AD603-D092-42D6-8EBE-9CD841665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DBB0-F885-4C73-A606-3BABE0562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822A6-0E31-42D2-A40F-5A1CBCA96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D4B6E-9837-47FF-BDBB-EF4CBB57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7E472-5D7D-49B5-8E4D-FDEF83C7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741DE-6F67-4817-87CD-9E8F49B8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5ACEC-A93F-4105-90C8-BC7730CFE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B42C1-39CF-4CC5-8283-1AD8FC226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506DC-8827-40E9-8643-F8C892C19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1A2DC-3168-4F6C-B20E-3F0FC3ED6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A4F0F-CD35-4EAA-B7BA-C2F55020A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A2482-AD60-4A9C-B184-F291BEBD3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3A8B-7E1D-46AF-889B-868C0FD9C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B0652-A082-4E4B-A7BF-C9A0CAFEB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144B6-67CC-4F5C-B11A-2B4031E64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2B04C-7D98-42E7-938C-4372A65B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D6CBF-0541-4D94-9B87-4F7BBC0D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71FAB-FF07-4497-BE4C-CA254C3D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E17D0-C4FA-4F66-A277-96561F49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43CCB-9551-416F-86AA-A2532A654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184FA-8197-4966-BE8C-0903D47D1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A0CEB-91E4-48A6-A01A-6EDDE116B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64ADCB-1AC6-49BD-8B07-0C6AE7C68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9B34-F68A-4FE5-948B-F4C1E4D97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4758E-0006-4258-99DC-09B164A1F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65CD0-2884-4A3F-BAD6-656BD575F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82D2B-23CA-4106-A7AA-369FC635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38FAB-3864-4C87-98AA-F332D9A27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14A58-77E9-4E2C-AAF1-0D84260BF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A55CF-0DC8-4C92-91A7-A57F2BEF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5AF17-EFD7-45F6-8B3D-DA89CEB2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C4C8F-355B-448C-9E55-87E4A7BA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AA410-6449-489B-9A0C-05679E469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4C05B-0777-40CD-9CCB-017D145A1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36B6-C694-4D57-ACB8-CF1FCD6E5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15EC3-A677-42B9-B4C5-4400F8490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FA3EC-1604-4B94-8794-79068343C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57C2F-387C-4AF0-9924-F4FED0AAC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AE520-87D3-4F5A-8877-315EA4316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1896C-455B-4333-B0C1-2782C3FC4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E93F2-8655-4736-8C3B-8FA029EB5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76DC9-7327-4730-8E7A-29D4840A3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81433-A1D0-4788-8D41-FFC3AFAB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5DB62-878B-4F39-A0C3-5390A266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2FB7F-02C6-4532-99A7-D8F5CB15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C597-2C3C-4F2D-A4DC-629A7192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7A5DD-F2AB-4F4C-9409-FC800615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DC747-06F8-41B2-A687-379E71CE5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3CB07-8C7B-43A7-B425-B192CB1C5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1449E9-6F92-4B44-B1CE-332035863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F4368-FC5C-481F-8827-1EED3CEF4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FCADC6-66BA-4BD1-A78B-30E3A196D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458F01-DF03-43EB-889E-A5323C3D5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2C33D-DE72-4768-9BE9-32BEDCF47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59F1D-F7A7-4D62-B241-273C18204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A6043F-CBE5-47D2-A840-A919B834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705C-95EE-4727-9028-DD3EC8E5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7B70A-B3D3-4607-96DA-D0ED6D50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29986-5240-47AD-8B7C-578EE52C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11341-35EC-4FFD-9F6E-A72B7EA0B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DBCEA-1319-44CA-B94B-B6889B257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57B618-4B22-4799-AD06-B2A5EDEAA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9B2C25-C70B-4763-98C8-B16BDEB93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DC10FB-FF0D-44A1-B193-929BBEFED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1CAAC-58CE-43C9-93F1-0DC090E18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7AF1F3-4584-4831-8B66-A10F7172D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D4FB55-25D8-44C5-9265-3D1E7F11F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AAA8-7B48-4315-A423-E0768FFE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6B1EF5-4A7F-4DE7-85FC-D2826192E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1959F8-8DF4-4F64-A169-12A2272C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8974E6-B1DE-40E7-960B-338BBE76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94B022-605F-4F0F-B974-19ECC78E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3ADA55-EF10-43A6-B0DD-344A3897B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0EA492-09F9-4AFF-B436-195B78083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823D4F-D812-4906-B969-D6038BE94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e7aca4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46b8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1634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93945-9C9C-4D09-9B16-6ECA22E35C1D}" type="slidenum"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a1280b"/>
              </a:gs>
              <a:gs pos="50000">
                <a:srgbClr val="f06d56"/>
              </a:gs>
              <a:gs pos="100000">
                <a:srgbClr val="a1280b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e7aca4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46b8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1634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D2353-4338-484C-95A9-99E8387A4197}" type="slidenum">
              <a:rPr b="0" lang="sr-Latn-C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e7aca4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4452b"/>
              </a:gs>
              <a:gs pos="100000">
                <a:srgbClr val="eb9385"/>
              </a:gs>
            </a:gsLst>
            <a:lin ang="16200000"/>
          </a:gradFill>
          <a:ln cap="rnd" w="3240">
            <a:solidFill>
              <a:srgbClr val="994733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4452b"/>
              </a:gs>
              <a:gs pos="100000">
                <a:srgbClr val="eb9385"/>
              </a:gs>
            </a:gsLst>
            <a:lin ang="16200000"/>
          </a:gradFill>
          <a:ln cap="rnd" w="3240">
            <a:solidFill>
              <a:srgbClr val="994733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c5d1d7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c5d1d7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1634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18718-91CF-4D41-B4F4-AF05993E2C57}" type="slidenum">
              <a:rPr b="0" lang="sr-Latn-C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e7aca4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c5d1d7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c5d1d7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1634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A5A4B-364D-44A9-9168-DFDD2BD52885}" type="slidenum">
              <a:rPr b="0" lang="sr-Latn-C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46b8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1634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2A17B-0939-4BC1-92A9-1F7BF0E5C7CB}" type="slidenum"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e7aca4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c5d1d7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c5d1d7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1634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AC834-D304-44AD-8843-BE09365F8A57}" type="slidenum">
              <a:rPr b="0" lang="sr-Latn-C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46b8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1634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EC4A-D074-4B77-8466-825B3BA4EA2D}" type="slidenum"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e7aca4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4452b"/>
              </a:gs>
              <a:gs pos="100000">
                <a:srgbClr val="eb9385"/>
              </a:gs>
            </a:gsLst>
            <a:lin ang="16200000"/>
          </a:gradFill>
          <a:ln cap="rnd" w="3240">
            <a:solidFill>
              <a:srgbClr val="994733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4452b"/>
              </a:gs>
              <a:gs pos="100000">
                <a:srgbClr val="eb9385"/>
              </a:gs>
            </a:gsLst>
            <a:lin ang="16200000"/>
          </a:gradFill>
          <a:ln cap="rnd" w="3240">
            <a:solidFill>
              <a:srgbClr val="994733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c5d1d7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c5d1d7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1634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69A64-7AD3-421F-94BE-92DCBAA8B226}" type="slidenum">
              <a:rPr b="0" lang="sr-Latn-C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9936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16349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700" spc="-1" strike="noStrike">
                <a:solidFill>
                  <a:srgbClr val="000000"/>
                </a:solidFill>
                <a:latin typeface="Lucida Sans Unicode"/>
              </a:rPr>
              <a:t>Početak puberteta ( posebno kod djevojčica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16349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700" spc="-1" strike="noStrike">
                <a:solidFill>
                  <a:srgbClr val="000000"/>
                </a:solidFill>
                <a:latin typeface="Lucida Sans Unicode"/>
              </a:rPr>
              <a:t>Osjetljivost i ćudljivost ras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16349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700" spc="-1" strike="noStrike">
                <a:solidFill>
                  <a:srgbClr val="000000"/>
                </a:solidFill>
                <a:latin typeface="Lucida Sans Unicode"/>
              </a:rPr>
              <a:t>Razdvajanje po polu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16349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700" spc="-1" strike="noStrike">
                <a:solidFill>
                  <a:srgbClr val="000000"/>
                </a:solidFill>
                <a:latin typeface="Lucida Sans Unicode"/>
              </a:rPr>
              <a:t>Zaokupljeni su školskim uspjehom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16349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700" spc="-1" strike="noStrike">
                <a:solidFill>
                  <a:srgbClr val="000000"/>
                </a:solidFill>
                <a:latin typeface="Lucida Sans Unicode"/>
              </a:rPr>
              <a:t>Čuvanje obraza je od velike važnosti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16349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700" spc="-1" strike="noStrike">
                <a:solidFill>
                  <a:srgbClr val="000000"/>
                </a:solidFill>
                <a:latin typeface="Lucida Sans Unicode"/>
              </a:rPr>
              <a:t>Djevojčice pokazuju sklonost ka stvaranju zatvorenih grupa druženja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16349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700" spc="-1" strike="noStrike">
                <a:solidFill>
                  <a:srgbClr val="000000"/>
                </a:solidFill>
                <a:latin typeface="Lucida Sans Unicode"/>
              </a:rPr>
              <a:t>Važni su sport i aktivnost na otvoreno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16349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16349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700" spc="-1" strike="noStrike">
                <a:solidFill>
                  <a:srgbClr val="000000"/>
                </a:solidFill>
                <a:latin typeface="Lucida Sans Unicode"/>
              </a:rPr>
              <a:t>Imaju ogromean apetit za hranom, ali i fizičkim aktivnosti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16349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700" spc="-1" strike="noStrike">
                <a:solidFill>
                  <a:srgbClr val="000000"/>
                </a:solidFill>
                <a:latin typeface="Lucida Sans Unicode"/>
              </a:rPr>
              <a:t>Ulazak u pubertet ( neke djevojčic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16349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700" spc="-1" strike="noStrike">
                <a:solidFill>
                  <a:srgbClr val="000000"/>
                </a:solidFill>
                <a:latin typeface="Lucida Sans Unicode"/>
              </a:rPr>
              <a:t>Stalno su u pokretu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16349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700" spc="-1" strike="noStrike">
                <a:solidFill>
                  <a:srgbClr val="000000"/>
                </a:solidFill>
                <a:latin typeface="Lucida Sans Unicode"/>
              </a:rPr>
              <a:t>Potrebno im je više sn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16349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700" spc="-1" strike="noStrike">
                <a:solidFill>
                  <a:srgbClr val="000000"/>
                </a:solidFill>
                <a:latin typeface="Lucida Sans Unicode"/>
              </a:rPr>
              <a:t>Česte su prehlade i gri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16349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700" spc="-1" strike="noStrike">
                <a:solidFill>
                  <a:srgbClr val="000000"/>
                </a:solidFill>
                <a:latin typeface="Lucida Sans Unicode"/>
              </a:rPr>
              <a:t>Fizički su agresivnij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16349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700" spc="-1" strike="noStrike">
                <a:solidFill>
                  <a:srgbClr val="000000"/>
                </a:solidFill>
                <a:latin typeface="Lucida Sans Unicode"/>
              </a:rPr>
              <a:t>Motorika šake im je dobro razvijen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16349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700" spc="-1" strike="noStrike">
                <a:solidFill>
                  <a:srgbClr val="000000"/>
                </a:solidFill>
                <a:latin typeface="Lucida Sans Unicode"/>
              </a:rPr>
              <a:t>Žale se na glavobolju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16349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16349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700" spc="-1" strike="noStrike">
                <a:solidFill>
                  <a:srgbClr val="000000"/>
                </a:solidFill>
                <a:latin typeface="Lucida Sans Unicode"/>
              </a:rPr>
              <a:t>Osjetljivi su i ćudljiv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16349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700" spc="-1" strike="noStrike">
                <a:solidFill>
                  <a:srgbClr val="000000"/>
                </a:solidFill>
                <a:latin typeface="Lucida Sans Unicode"/>
              </a:rPr>
              <a:t>Stalno se nečemu protiv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16349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700" spc="-1" strike="noStrike">
                <a:solidFill>
                  <a:srgbClr val="000000"/>
                </a:solidFill>
                <a:latin typeface="Lucida Sans Unicode"/>
              </a:rPr>
              <a:t>Ispituju granic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16349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700" spc="-1" strike="noStrike">
                <a:solidFill>
                  <a:srgbClr val="000000"/>
                </a:solidFill>
                <a:latin typeface="Lucida Sans Unicode"/>
              </a:rPr>
              <a:t>Impulsivni su , grubi i neuviđajn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16349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700" spc="-1" strike="noStrike">
                <a:solidFill>
                  <a:srgbClr val="000000"/>
                </a:solidFill>
                <a:latin typeface="Lucida Sans Unicode"/>
              </a:rPr>
              <a:t>Vole da se svađaju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16349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700" spc="-1" strike="noStrike">
                <a:solidFill>
                  <a:srgbClr val="000000"/>
                </a:solidFill>
                <a:latin typeface="Lucida Sans Unicode"/>
              </a:rPr>
              <a:t>Teško donose odluk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16349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700" spc="-1" strike="noStrike">
                <a:solidFill>
                  <a:srgbClr val="000000"/>
                </a:solidFill>
                <a:latin typeface="Lucida Sans Unicode"/>
              </a:rPr>
              <a:t>Sebi su u centru pažnj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16349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700" spc="-1" strike="noStrike">
                <a:solidFill>
                  <a:srgbClr val="000000"/>
                </a:solidFill>
                <a:latin typeface="Lucida Sans Unicode"/>
              </a:rPr>
              <a:t>U osjećanjima idu iz krajnosti u krajnos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16349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700" spc="-1" strike="noStrike">
                <a:solidFill>
                  <a:srgbClr val="000000"/>
                </a:solidFill>
                <a:latin typeface="Lucida Sans Unicode"/>
              </a:rPr>
              <a:t>Sklapaju i rasturaju prijateljstv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1634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700" spc="-1" strike="noStrike">
                <a:solidFill>
                  <a:srgbClr val="000000"/>
                </a:solidFill>
                <a:latin typeface="Lucida Sans Unicode"/>
              </a:rPr>
              <a:t>Vole nove zadatk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1634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700" spc="-1" strike="noStrike">
                <a:solidFill>
                  <a:srgbClr val="000000"/>
                </a:solidFill>
                <a:latin typeface="Lucida Sans Unicode"/>
              </a:rPr>
              <a:t>Potpuno razvijena sposobnost mišljenj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1634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700" spc="-1" strike="noStrike">
                <a:solidFill>
                  <a:srgbClr val="000000"/>
                </a:solidFill>
                <a:latin typeface="Lucida Sans Unicode"/>
              </a:rPr>
              <a:t>Znaju da postave pravila i da razviju pretpostavk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1634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700" spc="-1" strike="noStrike">
                <a:solidFill>
                  <a:srgbClr val="000000"/>
                </a:solidFill>
                <a:latin typeface="Lucida Sans Unicode"/>
              </a:rPr>
              <a:t>Razvijena sposobnost sagledavanja svijeta oko sebe iz više uglov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1634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700" spc="-1" strike="noStrike">
                <a:solidFill>
                  <a:srgbClr val="000000"/>
                </a:solidFill>
                <a:latin typeface="Lucida Sans Unicode"/>
              </a:rPr>
              <a:t>Vole zadatke koji im izazivaju osjećaj da su odrasl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300" spc="-1" strike="noStrike">
                <a:solidFill>
                  <a:srgbClr val="000000"/>
                </a:solidFill>
                <a:latin typeface="Lucida Sans Unicode"/>
              </a:rPr>
              <a:t>Čitajte literaturu i potražite savjet stručnjaka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300" spc="-1" strike="noStrike">
                <a:solidFill>
                  <a:srgbClr val="000000"/>
                </a:solidFill>
                <a:latin typeface="Lucida Sans Unicode"/>
              </a:rPr>
              <a:t>Ispituju granice koje su roditelji postavili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300" spc="-1" strike="noStrike">
                <a:solidFill>
                  <a:srgbClr val="000000"/>
                </a:solidFill>
                <a:latin typeface="Lucida Sans Unicode"/>
              </a:rPr>
              <a:t>Često će se dešavati nesporazumi, trebate ostati smireni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300" spc="-1" strike="noStrike">
                <a:solidFill>
                  <a:srgbClr val="000000"/>
                </a:solidFill>
                <a:latin typeface="Lucida Sans Unicode"/>
              </a:rPr>
              <a:t>Ako želite da ih kritikujete za nešto sačekajte da “prenoći”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300" spc="-1" strike="noStrike">
                <a:solidFill>
                  <a:srgbClr val="000000"/>
                </a:solidFill>
                <a:latin typeface="Lucida Sans Unicode"/>
              </a:rPr>
              <a:t>Veći interes za polne razlike i tjelesne promjene ( ne dozvolite da o tome uče od vršnajak, VI ste odgovorni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300" spc="-1" strike="noStrike">
                <a:solidFill>
                  <a:srgbClr val="000000"/>
                </a:solidFill>
                <a:latin typeface="Lucida Sans Unicode"/>
              </a:rPr>
              <a:t>Budite u stalnom kontaktu sa nastavnicima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300" spc="-1" strike="noStrike">
                <a:solidFill>
                  <a:srgbClr val="000000"/>
                </a:solidFill>
                <a:latin typeface="Lucida Sans Unicode"/>
              </a:rPr>
              <a:t>Budite upućeni s kim važe dijete provodi vrijeme van kuć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300" spc="-1" strike="noStrike">
                <a:solidFill>
                  <a:srgbClr val="000000"/>
                </a:solidFill>
                <a:latin typeface="Lucida Sans Unicode"/>
              </a:rPr>
              <a:t>Podržite ih da se bave nekim sportom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09T08:30:16Z</dcterms:created>
  <dc:creator>OS Kozarska Djeca</dc:creator>
  <dc:description/>
  <dc:language>en-US</dc:language>
  <cp:lastModifiedBy>OS Kozarska Djeca</cp:lastModifiedBy>
  <dcterms:modified xsi:type="dcterms:W3CDTF">2017-10-09T10:58:51Z</dcterms:modified>
  <cp:revision>3</cp:revision>
  <dc:subject/>
  <dc:title>UZRASNE KARAKTERISTIKE JEDANAESTOGODIŠNJAKA</dc:title>
</cp:coreProperties>
</file>